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40B-0C45-4EEA-82B1-BCA4C903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2440-F94C-496B-B4F8-36EB19C9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911-6965-4BEA-B90F-C52B81E6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BD9-0EE3-4621-9B1E-A4486331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8236-064D-4B36-BA89-886A28D3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6830-7054-4F86-9C7F-1001A050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B990-BE2F-4F1D-ACFA-BE210926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C535-967A-4443-805A-10608795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95DE-0546-4CC9-B94F-679257EB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A465-600C-4AD0-95D6-DD7A91EC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8DAA-0F33-4FFA-85D8-FA62082C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7CA1-CECE-4DB0-A872-81A062FE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E52A-C4A0-4B34-A304-8D77FF51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E123-08D4-4306-9D93-30BC651B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D3E1-F657-4FF3-9429-F20844AE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EEAE-667E-4135-A001-5DB58F55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C3B7-04CE-4B1D-A316-8AD5CC65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B8A-39A6-43DF-8FEB-378DD1D9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F4D-10F4-4A4E-9BCE-21F8F859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6C4-F574-4AF5-BA91-C9FDB0EA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16B-3F1D-4D67-88A0-E310FB4F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F8B-FF91-45FB-A351-A8C30EFF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095-5140-447C-8AAE-28766C00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4F3-9415-4ED2-BD82-7F40BDFC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8254-9821-4709-BF71-F5FB0FB2C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2967-1BC7-4441-8CD1-04B39C8A1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orso%20extracomunitari.ppt" TargetMode="External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Impostazioni%20locali/Temporary%20Internet%20Files/Content.IE5/5OXND6CN/corso%20modificato.ppt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Impostazioni%20locali/Temporary%20Internet%20Files/Content.IE5/5OXND6CN/corso%20modificato.ppt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orso%20extracomunitari.ppt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../Impostazioni%20locali/Temporary%20Internet%20Files/Content.IE5/5OXND6CN/documenti%20per%20corso/decreto%20M_%20Affari%20Esteri%2012.7.2000.pdf" TargetMode="External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Inca senza frontiere </a:t>
            </a:r>
            <a:br>
              <a:rPr sz="2400"/>
            </a:b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er gli immigrati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visti d’ingre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"/>
          </p:cNvPr>
          <p:cNvSpPr/>
          <p:nvPr/>
        </p:nvSpPr>
        <p:spPr>
          <a:xfrm>
            <a:off x="539640" y="6021360"/>
            <a:ext cx="1368360" cy="57636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1263" h="21600">
                <a:moveTo>
                  <a:pt x="0" y="0"/>
                </a:moveTo>
                <a:lnTo>
                  <a:pt x="51263" y="0"/>
                </a:lnTo>
                <a:lnTo>
                  <a:pt x="51263" y="21600"/>
                </a:lnTo>
                <a:lnTo>
                  <a:pt x="0" y="21600"/>
                </a:lnTo>
                <a:close/>
              </a:path>
              <a:path fill="lightenLess" w="51263" h="21600">
                <a:moveTo>
                  <a:pt x="0" y="0"/>
                </a:moveTo>
                <a:lnTo>
                  <a:pt x="51263" y="0"/>
                </a:lnTo>
                <a:lnTo>
                  <a:pt x="49863" y="1400"/>
                </a:lnTo>
                <a:lnTo>
                  <a:pt x="1400" y="1400"/>
                </a:lnTo>
                <a:close/>
              </a:path>
              <a:path fill="darken" w="51263" h="21600">
                <a:moveTo>
                  <a:pt x="51263" y="0"/>
                </a:moveTo>
                <a:lnTo>
                  <a:pt x="51263" y="21600"/>
                </a:lnTo>
                <a:lnTo>
                  <a:pt x="49863" y="20200"/>
                </a:lnTo>
                <a:lnTo>
                  <a:pt x="49863" y="1400"/>
                </a:lnTo>
                <a:close/>
              </a:path>
              <a:path fill="darkenLess" w="51263" h="21600">
                <a:moveTo>
                  <a:pt x="51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63" y="20200"/>
                </a:lnTo>
                <a:close/>
              </a:path>
              <a:path fill="lighten" w="51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63" h="21600">
                <a:moveTo>
                  <a:pt x="25631" y="3837"/>
                </a:moveTo>
                <a:lnTo>
                  <a:pt x="28208" y="6448"/>
                </a:lnTo>
                <a:lnTo>
                  <a:pt x="28208" y="4707"/>
                </a:lnTo>
                <a:lnTo>
                  <a:pt x="29983" y="4707"/>
                </a:lnTo>
                <a:lnTo>
                  <a:pt x="29983" y="8224"/>
                </a:lnTo>
                <a:lnTo>
                  <a:pt x="32594" y="10800"/>
                </a:lnTo>
                <a:lnTo>
                  <a:pt x="30941" y="10800"/>
                </a:lnTo>
                <a:lnTo>
                  <a:pt x="30941" y="17989"/>
                </a:lnTo>
                <a:lnTo>
                  <a:pt x="20322" y="17989"/>
                </a:lnTo>
                <a:lnTo>
                  <a:pt x="20322" y="10800"/>
                </a:lnTo>
                <a:lnTo>
                  <a:pt x="18668" y="10800"/>
                </a:lnTo>
                <a:close/>
              </a:path>
              <a:path fill="darkenLess" w="51263" h="21600">
                <a:moveTo>
                  <a:pt x="28208" y="6448"/>
                </a:moveTo>
                <a:lnTo>
                  <a:pt x="28208" y="4707"/>
                </a:lnTo>
                <a:lnTo>
                  <a:pt x="29983" y="4707"/>
                </a:lnTo>
                <a:lnTo>
                  <a:pt x="29983" y="8224"/>
                </a:lnTo>
                <a:close/>
              </a:path>
              <a:path fill="darkenLess" w="51263" h="21600">
                <a:moveTo>
                  <a:pt x="24709" y="14299"/>
                </a:moveTo>
                <a:lnTo>
                  <a:pt x="26554" y="14299"/>
                </a:lnTo>
                <a:lnTo>
                  <a:pt x="26554" y="17989"/>
                </a:lnTo>
                <a:lnTo>
                  <a:pt x="30941" y="17989"/>
                </a:lnTo>
                <a:lnTo>
                  <a:pt x="30941" y="10800"/>
                </a:lnTo>
                <a:lnTo>
                  <a:pt x="20322" y="10800"/>
                </a:lnTo>
                <a:lnTo>
                  <a:pt x="20322" y="17989"/>
                </a:lnTo>
                <a:lnTo>
                  <a:pt x="24709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6666"/>
                </a:solidFill>
                <a:latin typeface="Monotype Corsiva"/>
              </a:rPr>
              <a:t>Corso extracomunit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Tabella per la determinazione dei </a:t>
            </a:r>
            <a:br>
              <a:rPr sz="2000"/>
            </a:b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mezzi di sussistenza per l’ingresso in Italia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2133720"/>
          <a:ext cx="7696080" cy="3206520"/>
        </p:xfrm>
        <a:graphic>
          <a:graphicData uri="http://schemas.openxmlformats.org/drawingml/2006/table">
            <a:tbl>
              <a:tblPr/>
              <a:tblGrid>
                <a:gridCol w="3881160"/>
                <a:gridCol w="1800360"/>
                <a:gridCol w="2014560"/>
              </a:tblGrid>
              <a:tr h="642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lassi di durata del viagg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a000"/>
                        </a:gs>
                        <a:gs pos="100000">
                          <a:srgbClr val="8dd4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 partecip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a000"/>
                        </a:gs>
                        <a:gs pos="100000">
                          <a:srgbClr val="8dd4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ue o più partecipa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a000"/>
                        </a:gs>
                        <a:gs pos="100000">
                          <a:srgbClr val="8dd400"/>
                        </a:gs>
                      </a:gsLst>
                      <a:lin ang="10800000"/>
                    </a:gra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a 1 a 5 giorni: quota fissa comple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c12c"/>
                        </a:gs>
                        <a:gs pos="100000">
                          <a:srgbClr val="beff3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69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c12c"/>
                        </a:gs>
                        <a:gs pos="100000">
                          <a:srgbClr val="beff3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12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c12c"/>
                        </a:gs>
                        <a:gs pos="100000">
                          <a:srgbClr val="beff3b"/>
                        </a:gs>
                      </a:gsLst>
                      <a:lin ang="10800000"/>
                    </a:gra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a 6 a 10 giorni: quota a persona giornali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c12c"/>
                        </a:gs>
                        <a:gs pos="100000">
                          <a:srgbClr val="beff3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4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c12c"/>
                        </a:gs>
                        <a:gs pos="100000">
                          <a:srgbClr val="beff3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6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c12c"/>
                        </a:gs>
                        <a:gs pos="100000">
                          <a:srgbClr val="beff3b"/>
                        </a:gs>
                      </a:gsLst>
                      <a:lin ang="10800000"/>
                    </a:gra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a 11 a 20 giorni: quota fis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c12c"/>
                        </a:gs>
                        <a:gs pos="100000">
                          <a:srgbClr val="beff3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1,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c12c"/>
                        </a:gs>
                        <a:gs pos="100000">
                          <a:srgbClr val="beff3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5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c12c"/>
                        </a:gs>
                        <a:gs pos="100000">
                          <a:srgbClr val="beff3b"/>
                        </a:gs>
                      </a:gsLst>
                      <a:lin ang="10800000"/>
                    </a:gra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Quota giornaliera a pers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c12c"/>
                        </a:gs>
                        <a:gs pos="100000">
                          <a:srgbClr val="beff3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6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c12c"/>
                        </a:gs>
                        <a:gs pos="100000">
                          <a:srgbClr val="beff3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2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c12c"/>
                        </a:gs>
                        <a:gs pos="100000">
                          <a:srgbClr val="beff3b"/>
                        </a:gs>
                      </a:gsLst>
                      <a:lin ang="10800000"/>
                    </a:gra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ltre i 20 gior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c12c"/>
                        </a:gs>
                        <a:gs pos="100000">
                          <a:srgbClr val="beff3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6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c12c"/>
                        </a:gs>
                        <a:gs pos="100000">
                          <a:srgbClr val="beff3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8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c12c"/>
                        </a:gs>
                        <a:gs pos="100000">
                          <a:srgbClr val="beff3b"/>
                        </a:gs>
                      </a:gsLst>
                      <a:lin ang="10800000"/>
                    </a:gra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Quota giornaliera a pers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c12c"/>
                        </a:gs>
                        <a:gs pos="100000">
                          <a:srgbClr val="beff3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7,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c12c"/>
                        </a:gs>
                        <a:gs pos="100000">
                          <a:srgbClr val="beff3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7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c12c"/>
                        </a:gs>
                        <a:gs pos="100000">
                          <a:srgbClr val="beff3b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539640" y="6021360"/>
            <a:ext cx="936720" cy="57636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97" h="21600">
                <a:moveTo>
                  <a:pt x="0" y="0"/>
                </a:moveTo>
                <a:lnTo>
                  <a:pt x="35097" y="0"/>
                </a:lnTo>
                <a:lnTo>
                  <a:pt x="35097" y="21600"/>
                </a:lnTo>
                <a:lnTo>
                  <a:pt x="0" y="21600"/>
                </a:lnTo>
                <a:close/>
              </a:path>
              <a:path fill="lightenLess" w="35097" h="21600">
                <a:moveTo>
                  <a:pt x="0" y="0"/>
                </a:moveTo>
                <a:lnTo>
                  <a:pt x="35097" y="0"/>
                </a:lnTo>
                <a:lnTo>
                  <a:pt x="33697" y="1400"/>
                </a:lnTo>
                <a:lnTo>
                  <a:pt x="1400" y="1400"/>
                </a:lnTo>
                <a:close/>
              </a:path>
              <a:path fill="darken" w="35097" h="21600">
                <a:moveTo>
                  <a:pt x="35097" y="0"/>
                </a:moveTo>
                <a:lnTo>
                  <a:pt x="35097" y="21600"/>
                </a:lnTo>
                <a:lnTo>
                  <a:pt x="33697" y="20200"/>
                </a:lnTo>
                <a:lnTo>
                  <a:pt x="33697" y="1400"/>
                </a:lnTo>
                <a:close/>
              </a:path>
              <a:path fill="darkenLess" w="35097" h="21600">
                <a:moveTo>
                  <a:pt x="35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7" y="20200"/>
                </a:lnTo>
                <a:close/>
              </a:path>
              <a:path fill="lighten" w="35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97" h="21600">
                <a:moveTo>
                  <a:pt x="17548" y="3837"/>
                </a:moveTo>
                <a:lnTo>
                  <a:pt x="20125" y="6448"/>
                </a:lnTo>
                <a:lnTo>
                  <a:pt x="20125" y="4707"/>
                </a:lnTo>
                <a:lnTo>
                  <a:pt x="21900" y="4707"/>
                </a:lnTo>
                <a:lnTo>
                  <a:pt x="21900" y="8224"/>
                </a:lnTo>
                <a:lnTo>
                  <a:pt x="24511" y="10800"/>
                </a:lnTo>
                <a:lnTo>
                  <a:pt x="22858" y="10800"/>
                </a:lnTo>
                <a:lnTo>
                  <a:pt x="22858" y="17989"/>
                </a:lnTo>
                <a:lnTo>
                  <a:pt x="12239" y="17989"/>
                </a:lnTo>
                <a:lnTo>
                  <a:pt x="12239" y="10800"/>
                </a:lnTo>
                <a:lnTo>
                  <a:pt x="10585" y="10800"/>
                </a:lnTo>
                <a:close/>
              </a:path>
              <a:path fill="darkenLess" w="35097" h="21600">
                <a:moveTo>
                  <a:pt x="20125" y="6448"/>
                </a:moveTo>
                <a:lnTo>
                  <a:pt x="20125" y="4707"/>
                </a:lnTo>
                <a:lnTo>
                  <a:pt x="21900" y="4707"/>
                </a:lnTo>
                <a:lnTo>
                  <a:pt x="21900" y="8224"/>
                </a:lnTo>
                <a:close/>
              </a:path>
              <a:path fill="darkenLess" w="35097" h="21600">
                <a:moveTo>
                  <a:pt x="16626" y="14299"/>
                </a:moveTo>
                <a:lnTo>
                  <a:pt x="18471" y="14299"/>
                </a:lnTo>
                <a:lnTo>
                  <a:pt x="18471" y="17989"/>
                </a:lnTo>
                <a:lnTo>
                  <a:pt x="22858" y="17989"/>
                </a:lnTo>
                <a:lnTo>
                  <a:pt x="22858" y="10800"/>
                </a:lnTo>
                <a:lnTo>
                  <a:pt x="12239" y="10800"/>
                </a:lnTo>
                <a:lnTo>
                  <a:pt x="12239" y="17989"/>
                </a:lnTo>
                <a:lnTo>
                  <a:pt x="16626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6666"/>
                </a:solidFill>
                <a:latin typeface="Monotype Corsiva"/>
              </a:rPr>
              <a:t>I visti d’ingres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5950080"/>
            <a:ext cx="1368360" cy="57600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1295" h="21600">
                <a:moveTo>
                  <a:pt x="0" y="0"/>
                </a:moveTo>
                <a:lnTo>
                  <a:pt x="51295" y="0"/>
                </a:lnTo>
                <a:lnTo>
                  <a:pt x="51295" y="21600"/>
                </a:lnTo>
                <a:lnTo>
                  <a:pt x="0" y="21600"/>
                </a:lnTo>
                <a:close/>
              </a:path>
              <a:path fill="lightenLess" w="51295" h="21600">
                <a:moveTo>
                  <a:pt x="0" y="0"/>
                </a:moveTo>
                <a:lnTo>
                  <a:pt x="51295" y="0"/>
                </a:lnTo>
                <a:lnTo>
                  <a:pt x="49895" y="1400"/>
                </a:lnTo>
                <a:lnTo>
                  <a:pt x="1400" y="1400"/>
                </a:lnTo>
                <a:close/>
              </a:path>
              <a:path fill="darken" w="51295" h="21600">
                <a:moveTo>
                  <a:pt x="51295" y="0"/>
                </a:moveTo>
                <a:lnTo>
                  <a:pt x="51295" y="21600"/>
                </a:lnTo>
                <a:lnTo>
                  <a:pt x="49895" y="20200"/>
                </a:lnTo>
                <a:lnTo>
                  <a:pt x="49895" y="1400"/>
                </a:lnTo>
                <a:close/>
              </a:path>
              <a:path fill="darkenLess" w="51295" h="21600">
                <a:moveTo>
                  <a:pt x="51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5" y="20200"/>
                </a:lnTo>
                <a:close/>
              </a:path>
              <a:path fill="lighten" w="51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95" h="21600">
                <a:moveTo>
                  <a:pt x="25647" y="3837"/>
                </a:moveTo>
                <a:lnTo>
                  <a:pt x="28224" y="6448"/>
                </a:lnTo>
                <a:lnTo>
                  <a:pt x="28224" y="4707"/>
                </a:lnTo>
                <a:lnTo>
                  <a:pt x="29999" y="4707"/>
                </a:lnTo>
                <a:lnTo>
                  <a:pt x="29999" y="8224"/>
                </a:lnTo>
                <a:lnTo>
                  <a:pt x="32610" y="10800"/>
                </a:lnTo>
                <a:lnTo>
                  <a:pt x="30957" y="10800"/>
                </a:lnTo>
                <a:lnTo>
                  <a:pt x="30957" y="17989"/>
                </a:lnTo>
                <a:lnTo>
                  <a:pt x="20338" y="17989"/>
                </a:lnTo>
                <a:lnTo>
                  <a:pt x="20338" y="10800"/>
                </a:lnTo>
                <a:lnTo>
                  <a:pt x="18685" y="10800"/>
                </a:lnTo>
                <a:close/>
              </a:path>
              <a:path fill="darkenLess" w="51295" h="21600">
                <a:moveTo>
                  <a:pt x="28224" y="6448"/>
                </a:moveTo>
                <a:lnTo>
                  <a:pt x="28224" y="4707"/>
                </a:lnTo>
                <a:lnTo>
                  <a:pt x="29999" y="4707"/>
                </a:lnTo>
                <a:lnTo>
                  <a:pt x="29999" y="8224"/>
                </a:lnTo>
                <a:close/>
              </a:path>
              <a:path fill="darkenLess" w="51295" h="21600">
                <a:moveTo>
                  <a:pt x="24725" y="14299"/>
                </a:moveTo>
                <a:lnTo>
                  <a:pt x="26570" y="14299"/>
                </a:lnTo>
                <a:lnTo>
                  <a:pt x="26570" y="17989"/>
                </a:lnTo>
                <a:lnTo>
                  <a:pt x="30957" y="17989"/>
                </a:lnTo>
                <a:lnTo>
                  <a:pt x="30957" y="10800"/>
                </a:lnTo>
                <a:lnTo>
                  <a:pt x="20338" y="10800"/>
                </a:lnTo>
                <a:lnTo>
                  <a:pt x="20338" y="17989"/>
                </a:lnTo>
                <a:lnTo>
                  <a:pt x="24725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6666"/>
                </a:solidFill>
                <a:latin typeface="Monotype Corsiva"/>
              </a:rPr>
              <a:t>Corso extracomunit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95640" y="2565360"/>
            <a:ext cx="1081080" cy="719280"/>
          </a:xfrm>
          <a:custGeom>
            <a:avLst/>
            <a:gdLst>
              <a:gd name="textAreaLeft" fmla="*/ 46440 w 1081080"/>
              <a:gd name="textAreaRight" fmla="*/ 1034640 w 1081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59" h="21600">
                <a:moveTo>
                  <a:pt x="0" y="0"/>
                </a:moveTo>
                <a:lnTo>
                  <a:pt x="32459" y="0"/>
                </a:lnTo>
                <a:lnTo>
                  <a:pt x="32459" y="21600"/>
                </a:lnTo>
                <a:lnTo>
                  <a:pt x="0" y="21600"/>
                </a:lnTo>
                <a:close/>
              </a:path>
              <a:path fill="lightenLess" w="32459" h="21600">
                <a:moveTo>
                  <a:pt x="0" y="0"/>
                </a:moveTo>
                <a:lnTo>
                  <a:pt x="32459" y="0"/>
                </a:lnTo>
                <a:lnTo>
                  <a:pt x="31059" y="1400"/>
                </a:lnTo>
                <a:lnTo>
                  <a:pt x="1400" y="1400"/>
                </a:lnTo>
                <a:close/>
              </a:path>
              <a:path fill="darken" w="32459" h="21600">
                <a:moveTo>
                  <a:pt x="32459" y="0"/>
                </a:moveTo>
                <a:lnTo>
                  <a:pt x="32459" y="21600"/>
                </a:lnTo>
                <a:lnTo>
                  <a:pt x="31059" y="20200"/>
                </a:lnTo>
                <a:lnTo>
                  <a:pt x="31059" y="1400"/>
                </a:lnTo>
                <a:close/>
              </a:path>
              <a:path fill="darkenLess" w="32459" h="21600">
                <a:moveTo>
                  <a:pt x="32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59" y="20200"/>
                </a:lnTo>
                <a:close/>
              </a:path>
              <a:path fill="lighten" w="32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59" h="21600">
                <a:moveTo>
                  <a:pt x="16230" y="3837"/>
                </a:moveTo>
                <a:lnTo>
                  <a:pt x="18806" y="6448"/>
                </a:lnTo>
                <a:lnTo>
                  <a:pt x="18806" y="4707"/>
                </a:lnTo>
                <a:lnTo>
                  <a:pt x="20582" y="4707"/>
                </a:lnTo>
                <a:lnTo>
                  <a:pt x="20582" y="8224"/>
                </a:lnTo>
                <a:lnTo>
                  <a:pt x="23193" y="10800"/>
                </a:lnTo>
                <a:lnTo>
                  <a:pt x="21539" y="10800"/>
                </a:lnTo>
                <a:lnTo>
                  <a:pt x="21539" y="17989"/>
                </a:lnTo>
                <a:lnTo>
                  <a:pt x="10920" y="17989"/>
                </a:lnTo>
                <a:lnTo>
                  <a:pt x="10920" y="10800"/>
                </a:lnTo>
                <a:lnTo>
                  <a:pt x="9267" y="10800"/>
                </a:lnTo>
                <a:close/>
              </a:path>
              <a:path fill="darkenLess" w="32459" h="21600">
                <a:moveTo>
                  <a:pt x="18806" y="6448"/>
                </a:moveTo>
                <a:lnTo>
                  <a:pt x="18806" y="4707"/>
                </a:lnTo>
                <a:lnTo>
                  <a:pt x="20582" y="4707"/>
                </a:lnTo>
                <a:lnTo>
                  <a:pt x="20582" y="8224"/>
                </a:lnTo>
                <a:close/>
              </a:path>
              <a:path fill="darkenLess" w="32459" h="21600">
                <a:moveTo>
                  <a:pt x="15307" y="14299"/>
                </a:moveTo>
                <a:lnTo>
                  <a:pt x="17152" y="14299"/>
                </a:lnTo>
                <a:lnTo>
                  <a:pt x="17152" y="17989"/>
                </a:lnTo>
                <a:lnTo>
                  <a:pt x="21539" y="17989"/>
                </a:lnTo>
                <a:lnTo>
                  <a:pt x="21539" y="10800"/>
                </a:lnTo>
                <a:lnTo>
                  <a:pt x="10920" y="10800"/>
                </a:lnTo>
                <a:lnTo>
                  <a:pt x="10920" y="17989"/>
                </a:lnTo>
                <a:lnTo>
                  <a:pt x="15307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422100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na alle slide del c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isti Schengen Uniformi  (V.S.U.)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2565000"/>
            <a:ext cx="7696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no visti validi per il territorio dell’insieme delle parti contraenti, cioè per tutti i paesi Scheng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 l’Italia non è la destinazione principale del viaggio, il visto Schengen va richiesto alla Rappresentanza del Paese che è la destinazione principa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/>
          </p:cNvPr>
          <p:cNvSpPr/>
          <p:nvPr/>
        </p:nvSpPr>
        <p:spPr>
          <a:xfrm>
            <a:off x="539640" y="6021360"/>
            <a:ext cx="936720" cy="57636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97" h="21600">
                <a:moveTo>
                  <a:pt x="0" y="0"/>
                </a:moveTo>
                <a:lnTo>
                  <a:pt x="35097" y="0"/>
                </a:lnTo>
                <a:lnTo>
                  <a:pt x="35097" y="21600"/>
                </a:lnTo>
                <a:lnTo>
                  <a:pt x="0" y="21600"/>
                </a:lnTo>
                <a:close/>
              </a:path>
              <a:path fill="lightenLess" w="35097" h="21600">
                <a:moveTo>
                  <a:pt x="0" y="0"/>
                </a:moveTo>
                <a:lnTo>
                  <a:pt x="35097" y="0"/>
                </a:lnTo>
                <a:lnTo>
                  <a:pt x="33697" y="1400"/>
                </a:lnTo>
                <a:lnTo>
                  <a:pt x="1400" y="1400"/>
                </a:lnTo>
                <a:close/>
              </a:path>
              <a:path fill="darken" w="35097" h="21600">
                <a:moveTo>
                  <a:pt x="35097" y="0"/>
                </a:moveTo>
                <a:lnTo>
                  <a:pt x="35097" y="21600"/>
                </a:lnTo>
                <a:lnTo>
                  <a:pt x="33697" y="20200"/>
                </a:lnTo>
                <a:lnTo>
                  <a:pt x="33697" y="1400"/>
                </a:lnTo>
                <a:close/>
              </a:path>
              <a:path fill="darkenLess" w="35097" h="21600">
                <a:moveTo>
                  <a:pt x="35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7" y="20200"/>
                </a:lnTo>
                <a:close/>
              </a:path>
              <a:path fill="lighten" w="35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97" h="21600">
                <a:moveTo>
                  <a:pt x="17548" y="3837"/>
                </a:moveTo>
                <a:lnTo>
                  <a:pt x="20125" y="6448"/>
                </a:lnTo>
                <a:lnTo>
                  <a:pt x="20125" y="4707"/>
                </a:lnTo>
                <a:lnTo>
                  <a:pt x="21900" y="4707"/>
                </a:lnTo>
                <a:lnTo>
                  <a:pt x="21900" y="8224"/>
                </a:lnTo>
                <a:lnTo>
                  <a:pt x="24511" y="10800"/>
                </a:lnTo>
                <a:lnTo>
                  <a:pt x="22858" y="10800"/>
                </a:lnTo>
                <a:lnTo>
                  <a:pt x="22858" y="17989"/>
                </a:lnTo>
                <a:lnTo>
                  <a:pt x="12239" y="17989"/>
                </a:lnTo>
                <a:lnTo>
                  <a:pt x="12239" y="10800"/>
                </a:lnTo>
                <a:lnTo>
                  <a:pt x="10585" y="10800"/>
                </a:lnTo>
                <a:close/>
              </a:path>
              <a:path fill="darkenLess" w="35097" h="21600">
                <a:moveTo>
                  <a:pt x="20125" y="6448"/>
                </a:moveTo>
                <a:lnTo>
                  <a:pt x="20125" y="4707"/>
                </a:lnTo>
                <a:lnTo>
                  <a:pt x="21900" y="4707"/>
                </a:lnTo>
                <a:lnTo>
                  <a:pt x="21900" y="8224"/>
                </a:lnTo>
                <a:close/>
              </a:path>
              <a:path fill="darkenLess" w="35097" h="21600">
                <a:moveTo>
                  <a:pt x="16626" y="14299"/>
                </a:moveTo>
                <a:lnTo>
                  <a:pt x="18471" y="14299"/>
                </a:lnTo>
                <a:lnTo>
                  <a:pt x="18471" y="17989"/>
                </a:lnTo>
                <a:lnTo>
                  <a:pt x="22858" y="17989"/>
                </a:lnTo>
                <a:lnTo>
                  <a:pt x="22858" y="10800"/>
                </a:lnTo>
                <a:lnTo>
                  <a:pt x="12239" y="10800"/>
                </a:lnTo>
                <a:lnTo>
                  <a:pt x="12239" y="17989"/>
                </a:lnTo>
                <a:lnTo>
                  <a:pt x="16626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752472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7493"/>
                </a:moveTo>
                <a:lnTo>
                  <a:pt x="12681" y="7493"/>
                </a:lnTo>
                <a:lnTo>
                  <a:pt x="12681" y="12828"/>
                </a:lnTo>
                <a:cubicBezTo>
                  <a:pt x="12681" y="13751"/>
                  <a:pt x="13482" y="14482"/>
                  <a:pt x="14517" y="14482"/>
                </a:cubicBezTo>
                <a:lnTo>
                  <a:pt x="16180" y="14482"/>
                </a:lnTo>
                <a:cubicBezTo>
                  <a:pt x="17216" y="14482"/>
                  <a:pt x="18016" y="13751"/>
                  <a:pt x="18016" y="12828"/>
                </a:cubicBezTo>
                <a:lnTo>
                  <a:pt x="18016" y="7493"/>
                </a:lnTo>
                <a:lnTo>
                  <a:pt x="16180" y="7493"/>
                </a:lnTo>
                <a:lnTo>
                  <a:pt x="19687" y="3985"/>
                </a:lnTo>
                <a:lnTo>
                  <a:pt x="23360" y="7493"/>
                </a:lnTo>
                <a:lnTo>
                  <a:pt x="21524" y="7493"/>
                </a:lnTo>
                <a:lnTo>
                  <a:pt x="21524" y="12828"/>
                </a:lnTo>
                <a:cubicBezTo>
                  <a:pt x="21524" y="15596"/>
                  <a:pt x="18948" y="18155"/>
                  <a:pt x="16180" y="18155"/>
                </a:cubicBezTo>
                <a:lnTo>
                  <a:pt x="14517" y="18155"/>
                </a:lnTo>
                <a:cubicBezTo>
                  <a:pt x="11750" y="18155"/>
                  <a:pt x="9173" y="15596"/>
                  <a:pt x="9173" y="12828"/>
                </a:cubicBez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isti a Validità Territoriale Limitata (V.T.L.)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no validi soltanto per lo Stato Schengen che lo ha rilasciato, senza alcuna possibilità (neanche di accesso per il solo transito) negli altri Stati Schenge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’ concesso per motivi umanitari, di interesse nazionale o in forza di obblighi internazionali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n possono essere richiesti dall’interessato, ma sono rilasciati direttamente dalla Rappresentanza Diplomatica o dal Consola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1"/>
          </p:cNvPr>
          <p:cNvSpPr/>
          <p:nvPr/>
        </p:nvSpPr>
        <p:spPr>
          <a:xfrm>
            <a:off x="539640" y="59500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7559" y="3837"/>
                </a:moveTo>
                <a:lnTo>
                  <a:pt x="20136" y="6448"/>
                </a:lnTo>
                <a:lnTo>
                  <a:pt x="20136" y="4707"/>
                </a:lnTo>
                <a:lnTo>
                  <a:pt x="21911" y="4707"/>
                </a:lnTo>
                <a:lnTo>
                  <a:pt x="21911" y="8224"/>
                </a:lnTo>
                <a:lnTo>
                  <a:pt x="24522" y="10800"/>
                </a:lnTo>
                <a:lnTo>
                  <a:pt x="22869" y="10800"/>
                </a:lnTo>
                <a:lnTo>
                  <a:pt x="22869" y="17989"/>
                </a:lnTo>
                <a:lnTo>
                  <a:pt x="12250" y="17989"/>
                </a:lnTo>
                <a:lnTo>
                  <a:pt x="12250" y="10800"/>
                </a:lnTo>
                <a:lnTo>
                  <a:pt x="10596" y="10800"/>
                </a:lnTo>
                <a:close/>
              </a:path>
              <a:path fill="darkenLess" w="35119" h="21600">
                <a:moveTo>
                  <a:pt x="20136" y="6448"/>
                </a:moveTo>
                <a:lnTo>
                  <a:pt x="20136" y="4707"/>
                </a:lnTo>
                <a:lnTo>
                  <a:pt x="21911" y="4707"/>
                </a:lnTo>
                <a:lnTo>
                  <a:pt x="21911" y="8224"/>
                </a:lnTo>
                <a:close/>
              </a:path>
              <a:path fill="darkenLess" w="35119" h="21600">
                <a:moveTo>
                  <a:pt x="16637" y="14299"/>
                </a:moveTo>
                <a:lnTo>
                  <a:pt x="18482" y="14299"/>
                </a:lnTo>
                <a:lnTo>
                  <a:pt x="18482" y="17989"/>
                </a:lnTo>
                <a:lnTo>
                  <a:pt x="22869" y="17989"/>
                </a:lnTo>
                <a:lnTo>
                  <a:pt x="22869" y="10800"/>
                </a:lnTo>
                <a:lnTo>
                  <a:pt x="12250" y="10800"/>
                </a:lnTo>
                <a:lnTo>
                  <a:pt x="12250" y="17989"/>
                </a:lnTo>
                <a:lnTo>
                  <a:pt x="16637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752472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7493"/>
                </a:moveTo>
                <a:lnTo>
                  <a:pt x="12681" y="7493"/>
                </a:lnTo>
                <a:lnTo>
                  <a:pt x="12681" y="12828"/>
                </a:lnTo>
                <a:cubicBezTo>
                  <a:pt x="12681" y="13751"/>
                  <a:pt x="13482" y="14482"/>
                  <a:pt x="14517" y="14482"/>
                </a:cubicBezTo>
                <a:lnTo>
                  <a:pt x="16180" y="14482"/>
                </a:lnTo>
                <a:cubicBezTo>
                  <a:pt x="17216" y="14482"/>
                  <a:pt x="18016" y="13751"/>
                  <a:pt x="18016" y="12828"/>
                </a:cubicBezTo>
                <a:lnTo>
                  <a:pt x="18016" y="7493"/>
                </a:lnTo>
                <a:lnTo>
                  <a:pt x="16180" y="7493"/>
                </a:lnTo>
                <a:lnTo>
                  <a:pt x="19687" y="3985"/>
                </a:lnTo>
                <a:lnTo>
                  <a:pt x="23360" y="7493"/>
                </a:lnTo>
                <a:lnTo>
                  <a:pt x="21524" y="7493"/>
                </a:lnTo>
                <a:lnTo>
                  <a:pt x="21524" y="12828"/>
                </a:lnTo>
                <a:cubicBezTo>
                  <a:pt x="21524" y="15596"/>
                  <a:pt x="18948" y="18155"/>
                  <a:pt x="16180" y="18155"/>
                </a:cubicBezTo>
                <a:lnTo>
                  <a:pt x="14517" y="18155"/>
                </a:lnTo>
                <a:cubicBezTo>
                  <a:pt x="11750" y="18155"/>
                  <a:pt x="9173" y="15596"/>
                  <a:pt x="9173" y="12828"/>
                </a:cubicBez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l vist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94960" y="1828800"/>
            <a:ext cx="7410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l visto è l’autorizzazione concessa allo straniero per l’ingresso nel territorio italia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ene rilasciato dalla Rappresentanza Diplomatica Consolare Italiana del paese d’origine o di stabile residenza dello stranie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’ stampato su carta adesiva e si applica sul passaporto o documento di viaggio equivalente del richied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ca0000"/>
                </a:solidFill>
                <a:uFillTx/>
                <a:latin typeface="Arial"/>
              </a:rPr>
              <a:t>Non è possibile il rilascio di alcun visto (né la proroga di un visto preesistente) allo straniero che già si trovi nel Territorio Nazion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00720" y="5877000"/>
            <a:ext cx="2232000" cy="792000"/>
          </a:xfrm>
          <a:custGeom>
            <a:avLst/>
            <a:gdLst>
              <a:gd name="textAreaLeft" fmla="*/ 51120 w 2232000"/>
              <a:gd name="textAreaRight" fmla="*/ 2180880 w 223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60855" h="21600">
                <a:moveTo>
                  <a:pt x="0" y="0"/>
                </a:moveTo>
                <a:lnTo>
                  <a:pt x="60855" y="0"/>
                </a:lnTo>
                <a:lnTo>
                  <a:pt x="60855" y="21600"/>
                </a:lnTo>
                <a:lnTo>
                  <a:pt x="0" y="21600"/>
                </a:lnTo>
                <a:close/>
              </a:path>
              <a:path fill="lightenLess" w="60855" h="21600">
                <a:moveTo>
                  <a:pt x="0" y="0"/>
                </a:moveTo>
                <a:lnTo>
                  <a:pt x="60855" y="0"/>
                </a:lnTo>
                <a:lnTo>
                  <a:pt x="59455" y="1400"/>
                </a:lnTo>
                <a:lnTo>
                  <a:pt x="1400" y="1400"/>
                </a:lnTo>
                <a:close/>
              </a:path>
              <a:path fill="darken" w="60855" h="21600">
                <a:moveTo>
                  <a:pt x="60855" y="0"/>
                </a:moveTo>
                <a:lnTo>
                  <a:pt x="60855" y="21600"/>
                </a:lnTo>
                <a:lnTo>
                  <a:pt x="59455" y="20200"/>
                </a:lnTo>
                <a:lnTo>
                  <a:pt x="59455" y="1400"/>
                </a:lnTo>
                <a:close/>
              </a:path>
              <a:path fill="darkenLess" w="60855" h="21600">
                <a:moveTo>
                  <a:pt x="6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455" y="20200"/>
                </a:lnTo>
                <a:close/>
              </a:path>
              <a:path fill="lighten" w="6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font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72360" y="595008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7280" y="5119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0000"/>
                </a:solidFill>
                <a:latin typeface="Arial"/>
              </a:rPr>
              <a:t>N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539640" y="6021360"/>
            <a:ext cx="936720" cy="57636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97" h="21600">
                <a:moveTo>
                  <a:pt x="0" y="0"/>
                </a:moveTo>
                <a:lnTo>
                  <a:pt x="35097" y="0"/>
                </a:lnTo>
                <a:lnTo>
                  <a:pt x="35097" y="21600"/>
                </a:lnTo>
                <a:lnTo>
                  <a:pt x="0" y="21600"/>
                </a:lnTo>
                <a:close/>
              </a:path>
              <a:path fill="lightenLess" w="35097" h="21600">
                <a:moveTo>
                  <a:pt x="0" y="0"/>
                </a:moveTo>
                <a:lnTo>
                  <a:pt x="35097" y="0"/>
                </a:lnTo>
                <a:lnTo>
                  <a:pt x="33697" y="1400"/>
                </a:lnTo>
                <a:lnTo>
                  <a:pt x="1400" y="1400"/>
                </a:lnTo>
                <a:close/>
              </a:path>
              <a:path fill="darken" w="35097" h="21600">
                <a:moveTo>
                  <a:pt x="35097" y="0"/>
                </a:moveTo>
                <a:lnTo>
                  <a:pt x="35097" y="21600"/>
                </a:lnTo>
                <a:lnTo>
                  <a:pt x="33697" y="20200"/>
                </a:lnTo>
                <a:lnTo>
                  <a:pt x="33697" y="1400"/>
                </a:lnTo>
                <a:close/>
              </a:path>
              <a:path fill="darkenLess" w="35097" h="21600">
                <a:moveTo>
                  <a:pt x="35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7" y="20200"/>
                </a:lnTo>
                <a:close/>
              </a:path>
              <a:path fill="lighten" w="35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97" h="21600">
                <a:moveTo>
                  <a:pt x="17548" y="3837"/>
                </a:moveTo>
                <a:lnTo>
                  <a:pt x="20125" y="6448"/>
                </a:lnTo>
                <a:lnTo>
                  <a:pt x="20125" y="4707"/>
                </a:lnTo>
                <a:lnTo>
                  <a:pt x="21900" y="4707"/>
                </a:lnTo>
                <a:lnTo>
                  <a:pt x="21900" y="8224"/>
                </a:lnTo>
                <a:lnTo>
                  <a:pt x="24511" y="10800"/>
                </a:lnTo>
                <a:lnTo>
                  <a:pt x="22858" y="10800"/>
                </a:lnTo>
                <a:lnTo>
                  <a:pt x="22858" y="17989"/>
                </a:lnTo>
                <a:lnTo>
                  <a:pt x="12239" y="17989"/>
                </a:lnTo>
                <a:lnTo>
                  <a:pt x="12239" y="10800"/>
                </a:lnTo>
                <a:lnTo>
                  <a:pt x="10585" y="10800"/>
                </a:lnTo>
                <a:close/>
              </a:path>
              <a:path fill="darkenLess" w="35097" h="21600">
                <a:moveTo>
                  <a:pt x="20125" y="6448"/>
                </a:moveTo>
                <a:lnTo>
                  <a:pt x="20125" y="4707"/>
                </a:lnTo>
                <a:lnTo>
                  <a:pt x="21900" y="4707"/>
                </a:lnTo>
                <a:lnTo>
                  <a:pt x="21900" y="8224"/>
                </a:lnTo>
                <a:close/>
              </a:path>
              <a:path fill="darkenLess" w="35097" h="21600">
                <a:moveTo>
                  <a:pt x="16626" y="14299"/>
                </a:moveTo>
                <a:lnTo>
                  <a:pt x="18471" y="14299"/>
                </a:lnTo>
                <a:lnTo>
                  <a:pt x="18471" y="17989"/>
                </a:lnTo>
                <a:lnTo>
                  <a:pt x="22858" y="17989"/>
                </a:lnTo>
                <a:lnTo>
                  <a:pt x="22858" y="10800"/>
                </a:lnTo>
                <a:lnTo>
                  <a:pt x="12239" y="10800"/>
                </a:lnTo>
                <a:lnTo>
                  <a:pt x="12239" y="17989"/>
                </a:lnTo>
                <a:lnTo>
                  <a:pt x="16626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6666"/>
                </a:solidFill>
                <a:latin typeface="Monotype Corsiva"/>
              </a:rPr>
              <a:t>I visti d’ingres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Il rifiuto del visto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l rifiuto del visto va comunicato allo straniero in lingua a lui comprensibil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 i visti di breve durata non c’è l’obbligo ad esplicitare la motivazione del rifiu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539640" y="6021360"/>
            <a:ext cx="936720" cy="57636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97" h="21600">
                <a:moveTo>
                  <a:pt x="0" y="0"/>
                </a:moveTo>
                <a:lnTo>
                  <a:pt x="35097" y="0"/>
                </a:lnTo>
                <a:lnTo>
                  <a:pt x="35097" y="21600"/>
                </a:lnTo>
                <a:lnTo>
                  <a:pt x="0" y="21600"/>
                </a:lnTo>
                <a:close/>
              </a:path>
              <a:path fill="lightenLess" w="35097" h="21600">
                <a:moveTo>
                  <a:pt x="0" y="0"/>
                </a:moveTo>
                <a:lnTo>
                  <a:pt x="35097" y="0"/>
                </a:lnTo>
                <a:lnTo>
                  <a:pt x="33697" y="1400"/>
                </a:lnTo>
                <a:lnTo>
                  <a:pt x="1400" y="1400"/>
                </a:lnTo>
                <a:close/>
              </a:path>
              <a:path fill="darken" w="35097" h="21600">
                <a:moveTo>
                  <a:pt x="35097" y="0"/>
                </a:moveTo>
                <a:lnTo>
                  <a:pt x="35097" y="21600"/>
                </a:lnTo>
                <a:lnTo>
                  <a:pt x="33697" y="20200"/>
                </a:lnTo>
                <a:lnTo>
                  <a:pt x="33697" y="1400"/>
                </a:lnTo>
                <a:close/>
              </a:path>
              <a:path fill="darkenLess" w="35097" h="21600">
                <a:moveTo>
                  <a:pt x="35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7" y="20200"/>
                </a:lnTo>
                <a:close/>
              </a:path>
              <a:path fill="lighten" w="35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97" h="21600">
                <a:moveTo>
                  <a:pt x="17548" y="3837"/>
                </a:moveTo>
                <a:lnTo>
                  <a:pt x="20125" y="6448"/>
                </a:lnTo>
                <a:lnTo>
                  <a:pt x="20125" y="4707"/>
                </a:lnTo>
                <a:lnTo>
                  <a:pt x="21900" y="4707"/>
                </a:lnTo>
                <a:lnTo>
                  <a:pt x="21900" y="8224"/>
                </a:lnTo>
                <a:lnTo>
                  <a:pt x="24511" y="10800"/>
                </a:lnTo>
                <a:lnTo>
                  <a:pt x="22858" y="10800"/>
                </a:lnTo>
                <a:lnTo>
                  <a:pt x="22858" y="17989"/>
                </a:lnTo>
                <a:lnTo>
                  <a:pt x="12239" y="17989"/>
                </a:lnTo>
                <a:lnTo>
                  <a:pt x="12239" y="10800"/>
                </a:lnTo>
                <a:lnTo>
                  <a:pt x="10585" y="10800"/>
                </a:lnTo>
                <a:close/>
              </a:path>
              <a:path fill="darkenLess" w="35097" h="21600">
                <a:moveTo>
                  <a:pt x="20125" y="6448"/>
                </a:moveTo>
                <a:lnTo>
                  <a:pt x="20125" y="4707"/>
                </a:lnTo>
                <a:lnTo>
                  <a:pt x="21900" y="4707"/>
                </a:lnTo>
                <a:lnTo>
                  <a:pt x="21900" y="8224"/>
                </a:lnTo>
                <a:close/>
              </a:path>
              <a:path fill="darkenLess" w="35097" h="21600">
                <a:moveTo>
                  <a:pt x="16626" y="14299"/>
                </a:moveTo>
                <a:lnTo>
                  <a:pt x="18471" y="14299"/>
                </a:lnTo>
                <a:lnTo>
                  <a:pt x="18471" y="17989"/>
                </a:lnTo>
                <a:lnTo>
                  <a:pt x="22858" y="17989"/>
                </a:lnTo>
                <a:lnTo>
                  <a:pt x="22858" y="10800"/>
                </a:lnTo>
                <a:lnTo>
                  <a:pt x="12239" y="10800"/>
                </a:lnTo>
                <a:lnTo>
                  <a:pt x="12239" y="17989"/>
                </a:lnTo>
                <a:lnTo>
                  <a:pt x="16626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6666"/>
                </a:solidFill>
                <a:latin typeface="Monotype Corsiva"/>
              </a:rPr>
              <a:t>I visti d’ingres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"/>
          </p:cNvPr>
          <p:cNvSpPr/>
          <p:nvPr/>
        </p:nvSpPr>
        <p:spPr>
          <a:xfrm>
            <a:off x="7093080" y="5950080"/>
            <a:ext cx="1368360" cy="57600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1295" h="21600">
                <a:moveTo>
                  <a:pt x="0" y="0"/>
                </a:moveTo>
                <a:lnTo>
                  <a:pt x="51295" y="0"/>
                </a:lnTo>
                <a:lnTo>
                  <a:pt x="51295" y="21600"/>
                </a:lnTo>
                <a:lnTo>
                  <a:pt x="0" y="21600"/>
                </a:lnTo>
                <a:close/>
              </a:path>
              <a:path fill="lightenLess" w="51295" h="21600">
                <a:moveTo>
                  <a:pt x="0" y="0"/>
                </a:moveTo>
                <a:lnTo>
                  <a:pt x="51295" y="0"/>
                </a:lnTo>
                <a:lnTo>
                  <a:pt x="49895" y="1400"/>
                </a:lnTo>
                <a:lnTo>
                  <a:pt x="1400" y="1400"/>
                </a:lnTo>
                <a:close/>
              </a:path>
              <a:path fill="darken" w="51295" h="21600">
                <a:moveTo>
                  <a:pt x="51295" y="0"/>
                </a:moveTo>
                <a:lnTo>
                  <a:pt x="51295" y="21600"/>
                </a:lnTo>
                <a:lnTo>
                  <a:pt x="49895" y="20200"/>
                </a:lnTo>
                <a:lnTo>
                  <a:pt x="49895" y="1400"/>
                </a:lnTo>
                <a:close/>
              </a:path>
              <a:path fill="darkenLess" w="51295" h="21600">
                <a:moveTo>
                  <a:pt x="51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5" y="20200"/>
                </a:lnTo>
                <a:close/>
              </a:path>
              <a:path fill="lighten" w="51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95" h="21600">
                <a:moveTo>
                  <a:pt x="25647" y="3837"/>
                </a:moveTo>
                <a:lnTo>
                  <a:pt x="28224" y="6448"/>
                </a:lnTo>
                <a:lnTo>
                  <a:pt x="28224" y="4707"/>
                </a:lnTo>
                <a:lnTo>
                  <a:pt x="29999" y="4707"/>
                </a:lnTo>
                <a:lnTo>
                  <a:pt x="29999" y="8224"/>
                </a:lnTo>
                <a:lnTo>
                  <a:pt x="32610" y="10800"/>
                </a:lnTo>
                <a:lnTo>
                  <a:pt x="30957" y="10800"/>
                </a:lnTo>
                <a:lnTo>
                  <a:pt x="30957" y="17989"/>
                </a:lnTo>
                <a:lnTo>
                  <a:pt x="20338" y="17989"/>
                </a:lnTo>
                <a:lnTo>
                  <a:pt x="20338" y="10800"/>
                </a:lnTo>
                <a:lnTo>
                  <a:pt x="18685" y="10800"/>
                </a:lnTo>
                <a:close/>
              </a:path>
              <a:path fill="darkenLess" w="51295" h="21600">
                <a:moveTo>
                  <a:pt x="28224" y="6448"/>
                </a:moveTo>
                <a:lnTo>
                  <a:pt x="28224" y="4707"/>
                </a:lnTo>
                <a:lnTo>
                  <a:pt x="29999" y="4707"/>
                </a:lnTo>
                <a:lnTo>
                  <a:pt x="29999" y="8224"/>
                </a:lnTo>
                <a:close/>
              </a:path>
              <a:path fill="darkenLess" w="51295" h="21600">
                <a:moveTo>
                  <a:pt x="24725" y="14299"/>
                </a:moveTo>
                <a:lnTo>
                  <a:pt x="26570" y="14299"/>
                </a:lnTo>
                <a:lnTo>
                  <a:pt x="26570" y="17989"/>
                </a:lnTo>
                <a:lnTo>
                  <a:pt x="30957" y="17989"/>
                </a:lnTo>
                <a:lnTo>
                  <a:pt x="30957" y="10800"/>
                </a:lnTo>
                <a:lnTo>
                  <a:pt x="20338" y="10800"/>
                </a:lnTo>
                <a:lnTo>
                  <a:pt x="20338" y="17989"/>
                </a:lnTo>
                <a:lnTo>
                  <a:pt x="24725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6666"/>
                </a:solidFill>
                <a:latin typeface="Monotype Corsiva"/>
              </a:rPr>
              <a:t>Corso extracomunit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Visti d’ingresso area Schengen</a:t>
            </a:r>
            <a:br>
              <a:rPr sz="2000"/>
            </a:br>
            <a:r>
              <a:rPr b="0" lang="en-US" sz="1800" spc="-1" strike="noStrike" u="sng">
                <a:solidFill>
                  <a:srgbClr val="99cc00"/>
                </a:solidFill>
                <a:uFillTx/>
                <a:latin typeface="Arial Black"/>
                <a:hlinkClick r:id="rId1"/>
              </a:rPr>
              <a:t>decreto MAE 12 LUGLIO 2000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4716360" y="2708280"/>
            <a:ext cx="3024360" cy="1655640"/>
          </a:xfrm>
          <a:custGeom>
            <a:avLst/>
            <a:gdLst>
              <a:gd name="textAreaLeft" fmla="*/ 107280 w 3024360"/>
              <a:gd name="textAreaRight" fmla="*/ 2917080 w 3024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9453" h="21600">
                <a:moveTo>
                  <a:pt x="0" y="0"/>
                </a:moveTo>
                <a:lnTo>
                  <a:pt x="39453" y="0"/>
                </a:lnTo>
                <a:lnTo>
                  <a:pt x="39453" y="21600"/>
                </a:lnTo>
                <a:lnTo>
                  <a:pt x="0" y="21600"/>
                </a:lnTo>
                <a:close/>
              </a:path>
              <a:path fill="lightenLess" w="39453" h="21600">
                <a:moveTo>
                  <a:pt x="0" y="0"/>
                </a:moveTo>
                <a:lnTo>
                  <a:pt x="39453" y="0"/>
                </a:lnTo>
                <a:lnTo>
                  <a:pt x="38053" y="1400"/>
                </a:lnTo>
                <a:lnTo>
                  <a:pt x="1400" y="1400"/>
                </a:lnTo>
                <a:close/>
              </a:path>
              <a:path fill="darken" w="39453" h="21600">
                <a:moveTo>
                  <a:pt x="39453" y="0"/>
                </a:moveTo>
                <a:lnTo>
                  <a:pt x="39453" y="21600"/>
                </a:lnTo>
                <a:lnTo>
                  <a:pt x="38053" y="20200"/>
                </a:lnTo>
                <a:lnTo>
                  <a:pt x="38053" y="1400"/>
                </a:lnTo>
                <a:close/>
              </a:path>
              <a:path fill="darkenLess" w="39453" h="21600">
                <a:moveTo>
                  <a:pt x="39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3" y="20200"/>
                </a:lnTo>
                <a:close/>
              </a:path>
              <a:path fill="lighten" w="39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ti a Validità Territo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a (V.T.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possono esser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o A, B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9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ase alla Convenzione di applicazione degli Accordi Schengen, i visti sono denomina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1332000" y="2708280"/>
            <a:ext cx="3024000" cy="1655640"/>
          </a:xfrm>
          <a:custGeom>
            <a:avLst/>
            <a:gdLst>
              <a:gd name="textAreaLeft" fmla="*/ 107280 w 3024000"/>
              <a:gd name="textAreaRight" fmla="*/ 2916720 w 3024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9448" h="21600">
                <a:moveTo>
                  <a:pt x="0" y="0"/>
                </a:moveTo>
                <a:lnTo>
                  <a:pt x="39448" y="0"/>
                </a:lnTo>
                <a:lnTo>
                  <a:pt x="39448" y="21600"/>
                </a:lnTo>
                <a:lnTo>
                  <a:pt x="0" y="21600"/>
                </a:lnTo>
                <a:close/>
              </a:path>
              <a:path fill="lightenLess" w="39448" h="21600">
                <a:moveTo>
                  <a:pt x="0" y="0"/>
                </a:moveTo>
                <a:lnTo>
                  <a:pt x="39448" y="0"/>
                </a:lnTo>
                <a:lnTo>
                  <a:pt x="38048" y="1400"/>
                </a:lnTo>
                <a:lnTo>
                  <a:pt x="1400" y="1400"/>
                </a:lnTo>
                <a:close/>
              </a:path>
              <a:path fill="darken" w="39448" h="21600">
                <a:moveTo>
                  <a:pt x="39448" y="0"/>
                </a:moveTo>
                <a:lnTo>
                  <a:pt x="39448" y="21600"/>
                </a:lnTo>
                <a:lnTo>
                  <a:pt x="38048" y="20200"/>
                </a:lnTo>
                <a:lnTo>
                  <a:pt x="38048" y="1400"/>
                </a:lnTo>
                <a:close/>
              </a:path>
              <a:path fill="darkenLess" w="39448" h="21600">
                <a:moveTo>
                  <a:pt x="39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48" y="20200"/>
                </a:lnTo>
                <a:close/>
              </a:path>
              <a:path fill="lighten" w="39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ti Schengen Unifor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.S.U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possono esser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o A, B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4437000"/>
            <a:ext cx="3024360" cy="1656000"/>
          </a:xfrm>
          <a:custGeom>
            <a:avLst/>
            <a:gdLst>
              <a:gd name="textAreaLeft" fmla="*/ 107280 w 3024360"/>
              <a:gd name="textAreaRight" fmla="*/ 2917080 w 3024360"/>
              <a:gd name="textAreaTop" fmla="*/ 107280 h 1656000"/>
              <a:gd name="textAreaBottom" fmla="*/ 1548720 h 1656000"/>
            </a:gdLst>
            <a:ahLst/>
            <a:rect l="textAreaLeft" t="textAreaTop" r="textAreaRight" b="textAreaBottom"/>
            <a:pathLst>
              <a:path w="39444" h="21600">
                <a:moveTo>
                  <a:pt x="0" y="0"/>
                </a:moveTo>
                <a:lnTo>
                  <a:pt x="39444" y="0"/>
                </a:lnTo>
                <a:lnTo>
                  <a:pt x="39444" y="21600"/>
                </a:lnTo>
                <a:lnTo>
                  <a:pt x="0" y="21600"/>
                </a:lnTo>
                <a:close/>
              </a:path>
              <a:path fill="lightenLess" w="39444" h="21600">
                <a:moveTo>
                  <a:pt x="0" y="0"/>
                </a:moveTo>
                <a:lnTo>
                  <a:pt x="39444" y="0"/>
                </a:lnTo>
                <a:lnTo>
                  <a:pt x="38044" y="1400"/>
                </a:lnTo>
                <a:lnTo>
                  <a:pt x="1400" y="1400"/>
                </a:lnTo>
                <a:close/>
              </a:path>
              <a:path fill="darken" w="39444" h="21600">
                <a:moveTo>
                  <a:pt x="39444" y="0"/>
                </a:moveTo>
                <a:lnTo>
                  <a:pt x="39444" y="21600"/>
                </a:lnTo>
                <a:lnTo>
                  <a:pt x="38044" y="20200"/>
                </a:lnTo>
                <a:lnTo>
                  <a:pt x="38044" y="1400"/>
                </a:lnTo>
                <a:close/>
              </a:path>
              <a:path fill="darkenLess" w="39444" h="21600">
                <a:moveTo>
                  <a:pt x="394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44" y="20200"/>
                </a:lnTo>
                <a:close/>
              </a:path>
              <a:path fill="lighten" w="394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ti Nazionali (V.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o visti di lunga du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Tipo D e han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ità superiore a 90 g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539640" y="6021360"/>
            <a:ext cx="936720" cy="57636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97" h="21600">
                <a:moveTo>
                  <a:pt x="0" y="0"/>
                </a:moveTo>
                <a:lnTo>
                  <a:pt x="35097" y="0"/>
                </a:lnTo>
                <a:lnTo>
                  <a:pt x="35097" y="21600"/>
                </a:lnTo>
                <a:lnTo>
                  <a:pt x="0" y="21600"/>
                </a:lnTo>
                <a:close/>
              </a:path>
              <a:path fill="lightenLess" w="35097" h="21600">
                <a:moveTo>
                  <a:pt x="0" y="0"/>
                </a:moveTo>
                <a:lnTo>
                  <a:pt x="35097" y="0"/>
                </a:lnTo>
                <a:lnTo>
                  <a:pt x="33697" y="1400"/>
                </a:lnTo>
                <a:lnTo>
                  <a:pt x="1400" y="1400"/>
                </a:lnTo>
                <a:close/>
              </a:path>
              <a:path fill="darken" w="35097" h="21600">
                <a:moveTo>
                  <a:pt x="35097" y="0"/>
                </a:moveTo>
                <a:lnTo>
                  <a:pt x="35097" y="21600"/>
                </a:lnTo>
                <a:lnTo>
                  <a:pt x="33697" y="20200"/>
                </a:lnTo>
                <a:lnTo>
                  <a:pt x="33697" y="1400"/>
                </a:lnTo>
                <a:close/>
              </a:path>
              <a:path fill="darkenLess" w="35097" h="21600">
                <a:moveTo>
                  <a:pt x="35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7" y="20200"/>
                </a:lnTo>
                <a:close/>
              </a:path>
              <a:path fill="lighten" w="35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97" h="21600">
                <a:moveTo>
                  <a:pt x="17548" y="3837"/>
                </a:moveTo>
                <a:lnTo>
                  <a:pt x="20125" y="6448"/>
                </a:lnTo>
                <a:lnTo>
                  <a:pt x="20125" y="4707"/>
                </a:lnTo>
                <a:lnTo>
                  <a:pt x="21900" y="4707"/>
                </a:lnTo>
                <a:lnTo>
                  <a:pt x="21900" y="8224"/>
                </a:lnTo>
                <a:lnTo>
                  <a:pt x="24511" y="10800"/>
                </a:lnTo>
                <a:lnTo>
                  <a:pt x="22858" y="10800"/>
                </a:lnTo>
                <a:lnTo>
                  <a:pt x="22858" y="17989"/>
                </a:lnTo>
                <a:lnTo>
                  <a:pt x="12239" y="17989"/>
                </a:lnTo>
                <a:lnTo>
                  <a:pt x="12239" y="10800"/>
                </a:lnTo>
                <a:lnTo>
                  <a:pt x="10585" y="10800"/>
                </a:lnTo>
                <a:close/>
              </a:path>
              <a:path fill="darkenLess" w="35097" h="21600">
                <a:moveTo>
                  <a:pt x="20125" y="6448"/>
                </a:moveTo>
                <a:lnTo>
                  <a:pt x="20125" y="4707"/>
                </a:lnTo>
                <a:lnTo>
                  <a:pt x="21900" y="4707"/>
                </a:lnTo>
                <a:lnTo>
                  <a:pt x="21900" y="8224"/>
                </a:lnTo>
                <a:close/>
              </a:path>
              <a:path fill="darkenLess" w="35097" h="21600">
                <a:moveTo>
                  <a:pt x="16626" y="14299"/>
                </a:moveTo>
                <a:lnTo>
                  <a:pt x="18471" y="14299"/>
                </a:lnTo>
                <a:lnTo>
                  <a:pt x="18471" y="17989"/>
                </a:lnTo>
                <a:lnTo>
                  <a:pt x="22858" y="17989"/>
                </a:lnTo>
                <a:lnTo>
                  <a:pt x="22858" y="10800"/>
                </a:lnTo>
                <a:lnTo>
                  <a:pt x="12239" y="10800"/>
                </a:lnTo>
                <a:lnTo>
                  <a:pt x="12239" y="17989"/>
                </a:lnTo>
                <a:lnTo>
                  <a:pt x="16626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6666"/>
                </a:solidFill>
                <a:latin typeface="Monotype Corsiva"/>
              </a:rPr>
              <a:t>I visti d’ingres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5950080"/>
            <a:ext cx="1368360" cy="57600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1295" h="21600">
                <a:moveTo>
                  <a:pt x="0" y="0"/>
                </a:moveTo>
                <a:lnTo>
                  <a:pt x="51295" y="0"/>
                </a:lnTo>
                <a:lnTo>
                  <a:pt x="51295" y="21600"/>
                </a:lnTo>
                <a:lnTo>
                  <a:pt x="0" y="21600"/>
                </a:lnTo>
                <a:close/>
              </a:path>
              <a:path fill="lightenLess" w="51295" h="21600">
                <a:moveTo>
                  <a:pt x="0" y="0"/>
                </a:moveTo>
                <a:lnTo>
                  <a:pt x="51295" y="0"/>
                </a:lnTo>
                <a:lnTo>
                  <a:pt x="49895" y="1400"/>
                </a:lnTo>
                <a:lnTo>
                  <a:pt x="1400" y="1400"/>
                </a:lnTo>
                <a:close/>
              </a:path>
              <a:path fill="darken" w="51295" h="21600">
                <a:moveTo>
                  <a:pt x="51295" y="0"/>
                </a:moveTo>
                <a:lnTo>
                  <a:pt x="51295" y="21600"/>
                </a:lnTo>
                <a:lnTo>
                  <a:pt x="49895" y="20200"/>
                </a:lnTo>
                <a:lnTo>
                  <a:pt x="49895" y="1400"/>
                </a:lnTo>
                <a:close/>
              </a:path>
              <a:path fill="darkenLess" w="51295" h="21600">
                <a:moveTo>
                  <a:pt x="51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5" y="20200"/>
                </a:lnTo>
                <a:close/>
              </a:path>
              <a:path fill="lighten" w="51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95" h="21600">
                <a:moveTo>
                  <a:pt x="25647" y="3837"/>
                </a:moveTo>
                <a:lnTo>
                  <a:pt x="28224" y="6448"/>
                </a:lnTo>
                <a:lnTo>
                  <a:pt x="28224" y="4707"/>
                </a:lnTo>
                <a:lnTo>
                  <a:pt x="29999" y="4707"/>
                </a:lnTo>
                <a:lnTo>
                  <a:pt x="29999" y="8224"/>
                </a:lnTo>
                <a:lnTo>
                  <a:pt x="32610" y="10800"/>
                </a:lnTo>
                <a:lnTo>
                  <a:pt x="30957" y="10800"/>
                </a:lnTo>
                <a:lnTo>
                  <a:pt x="30957" y="17989"/>
                </a:lnTo>
                <a:lnTo>
                  <a:pt x="20338" y="17989"/>
                </a:lnTo>
                <a:lnTo>
                  <a:pt x="20338" y="10800"/>
                </a:lnTo>
                <a:lnTo>
                  <a:pt x="18685" y="10800"/>
                </a:lnTo>
                <a:close/>
              </a:path>
              <a:path fill="darkenLess" w="51295" h="21600">
                <a:moveTo>
                  <a:pt x="28224" y="6448"/>
                </a:moveTo>
                <a:lnTo>
                  <a:pt x="28224" y="4707"/>
                </a:lnTo>
                <a:lnTo>
                  <a:pt x="29999" y="4707"/>
                </a:lnTo>
                <a:lnTo>
                  <a:pt x="29999" y="8224"/>
                </a:lnTo>
                <a:close/>
              </a:path>
              <a:path fill="darkenLess" w="51295" h="21600">
                <a:moveTo>
                  <a:pt x="24725" y="14299"/>
                </a:moveTo>
                <a:lnTo>
                  <a:pt x="26570" y="14299"/>
                </a:lnTo>
                <a:lnTo>
                  <a:pt x="26570" y="17989"/>
                </a:lnTo>
                <a:lnTo>
                  <a:pt x="30957" y="17989"/>
                </a:lnTo>
                <a:lnTo>
                  <a:pt x="30957" y="10800"/>
                </a:lnTo>
                <a:lnTo>
                  <a:pt x="20338" y="10800"/>
                </a:lnTo>
                <a:lnTo>
                  <a:pt x="20338" y="17989"/>
                </a:lnTo>
                <a:lnTo>
                  <a:pt x="24725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6666"/>
                </a:solidFill>
                <a:latin typeface="Monotype Corsiva"/>
              </a:rPr>
              <a:t>Corso extracomunit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a validità dei visti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12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 classificazione dei visti indica la durata della permanenz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ipo 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 giorni  (per transito aeroportual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ipo B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o a 5 giorni (per transit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ipo C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o a 90 giorn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ipo 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ltre 90 giorni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5734080"/>
            <a:ext cx="2232000" cy="934920"/>
          </a:xfrm>
          <a:custGeom>
            <a:avLst/>
            <a:gdLst>
              <a:gd name="textAreaLeft" fmla="*/ 60480 w 2232000"/>
              <a:gd name="textAreaRight" fmla="*/ 2171520 w 2232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51556" h="21600">
                <a:moveTo>
                  <a:pt x="0" y="0"/>
                </a:moveTo>
                <a:lnTo>
                  <a:pt x="51556" y="0"/>
                </a:lnTo>
                <a:lnTo>
                  <a:pt x="51556" y="21600"/>
                </a:lnTo>
                <a:lnTo>
                  <a:pt x="0" y="21600"/>
                </a:lnTo>
                <a:close/>
              </a:path>
              <a:path fill="lightenLess" w="51556" h="21600">
                <a:moveTo>
                  <a:pt x="0" y="0"/>
                </a:moveTo>
                <a:lnTo>
                  <a:pt x="51556" y="0"/>
                </a:lnTo>
                <a:lnTo>
                  <a:pt x="50156" y="1400"/>
                </a:lnTo>
                <a:lnTo>
                  <a:pt x="1400" y="1400"/>
                </a:lnTo>
                <a:close/>
              </a:path>
              <a:path fill="darken" w="51556" h="21600">
                <a:moveTo>
                  <a:pt x="51556" y="0"/>
                </a:moveTo>
                <a:lnTo>
                  <a:pt x="51556" y="21600"/>
                </a:lnTo>
                <a:lnTo>
                  <a:pt x="50156" y="20200"/>
                </a:lnTo>
                <a:lnTo>
                  <a:pt x="50156" y="1400"/>
                </a:lnTo>
                <a:close/>
              </a:path>
              <a:path fill="darkenLess" w="51556" h="21600">
                <a:moveTo>
                  <a:pt x="51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156" y="20200"/>
                </a:lnTo>
                <a:close/>
              </a:path>
              <a:path fill="lighten" w="51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ella d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tesi dei vi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587700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539640" y="6021360"/>
            <a:ext cx="936720" cy="57636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97" h="21600">
                <a:moveTo>
                  <a:pt x="0" y="0"/>
                </a:moveTo>
                <a:lnTo>
                  <a:pt x="35097" y="0"/>
                </a:lnTo>
                <a:lnTo>
                  <a:pt x="35097" y="21600"/>
                </a:lnTo>
                <a:lnTo>
                  <a:pt x="0" y="21600"/>
                </a:lnTo>
                <a:close/>
              </a:path>
              <a:path fill="lightenLess" w="35097" h="21600">
                <a:moveTo>
                  <a:pt x="0" y="0"/>
                </a:moveTo>
                <a:lnTo>
                  <a:pt x="35097" y="0"/>
                </a:lnTo>
                <a:lnTo>
                  <a:pt x="33697" y="1400"/>
                </a:lnTo>
                <a:lnTo>
                  <a:pt x="1400" y="1400"/>
                </a:lnTo>
                <a:close/>
              </a:path>
              <a:path fill="darken" w="35097" h="21600">
                <a:moveTo>
                  <a:pt x="35097" y="0"/>
                </a:moveTo>
                <a:lnTo>
                  <a:pt x="35097" y="21600"/>
                </a:lnTo>
                <a:lnTo>
                  <a:pt x="33697" y="20200"/>
                </a:lnTo>
                <a:lnTo>
                  <a:pt x="33697" y="1400"/>
                </a:lnTo>
                <a:close/>
              </a:path>
              <a:path fill="darkenLess" w="35097" h="21600">
                <a:moveTo>
                  <a:pt x="35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7" y="20200"/>
                </a:lnTo>
                <a:close/>
              </a:path>
              <a:path fill="lighten" w="35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97" h="21600">
                <a:moveTo>
                  <a:pt x="17548" y="3837"/>
                </a:moveTo>
                <a:lnTo>
                  <a:pt x="20125" y="6448"/>
                </a:lnTo>
                <a:lnTo>
                  <a:pt x="20125" y="4707"/>
                </a:lnTo>
                <a:lnTo>
                  <a:pt x="21900" y="4707"/>
                </a:lnTo>
                <a:lnTo>
                  <a:pt x="21900" y="8224"/>
                </a:lnTo>
                <a:lnTo>
                  <a:pt x="24511" y="10800"/>
                </a:lnTo>
                <a:lnTo>
                  <a:pt x="22858" y="10800"/>
                </a:lnTo>
                <a:lnTo>
                  <a:pt x="22858" y="17989"/>
                </a:lnTo>
                <a:lnTo>
                  <a:pt x="12239" y="17989"/>
                </a:lnTo>
                <a:lnTo>
                  <a:pt x="12239" y="10800"/>
                </a:lnTo>
                <a:lnTo>
                  <a:pt x="10585" y="10800"/>
                </a:lnTo>
                <a:close/>
              </a:path>
              <a:path fill="darkenLess" w="35097" h="21600">
                <a:moveTo>
                  <a:pt x="20125" y="6448"/>
                </a:moveTo>
                <a:lnTo>
                  <a:pt x="20125" y="4707"/>
                </a:lnTo>
                <a:lnTo>
                  <a:pt x="21900" y="4707"/>
                </a:lnTo>
                <a:lnTo>
                  <a:pt x="21900" y="8224"/>
                </a:lnTo>
                <a:close/>
              </a:path>
              <a:path fill="darkenLess" w="35097" h="21600">
                <a:moveTo>
                  <a:pt x="16626" y="14299"/>
                </a:moveTo>
                <a:lnTo>
                  <a:pt x="18471" y="14299"/>
                </a:lnTo>
                <a:lnTo>
                  <a:pt x="18471" y="17989"/>
                </a:lnTo>
                <a:lnTo>
                  <a:pt x="22858" y="17989"/>
                </a:lnTo>
                <a:lnTo>
                  <a:pt x="22858" y="10800"/>
                </a:lnTo>
                <a:lnTo>
                  <a:pt x="12239" y="10800"/>
                </a:lnTo>
                <a:lnTo>
                  <a:pt x="12239" y="17989"/>
                </a:lnTo>
                <a:lnTo>
                  <a:pt x="16626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6666"/>
                </a:solidFill>
                <a:latin typeface="Monotype Corsiva"/>
              </a:rPr>
              <a:t>I visti d’ingres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Le tipologie di visto (Decreto MAE 12.7.2000)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55640" y="1989000"/>
          <a:ext cx="7696080" cy="4092840"/>
        </p:xfrm>
        <a:graphic>
          <a:graphicData uri="http://schemas.openxmlformats.org/drawingml/2006/table">
            <a:tbl>
              <a:tblPr/>
              <a:tblGrid>
                <a:gridCol w="2376360"/>
                <a:gridCol w="2592360"/>
                <a:gridCol w="2727360"/>
              </a:tblGrid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ozione 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ari (*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e mediche (*,*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plomatico 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iare al seguito 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ra sportiva (*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ito (*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voro autonomo (*,*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voro subordinato (*,*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sione (*,*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vi religiosi (*,*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ingresso 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idenza elettiva 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congiungimento familiare 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io (*,*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ito (*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ito aeroportuale (***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sporto (*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ismo (*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canze-lavoro 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</a:tr>
              <a:tr h="5202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*) Visti Nazionali (V.N.);  (**) Vist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engen Uniformi (V:S:U); Visti a validità Territoriale Limitata (V.T.L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564c9"/>
                        </a:gs>
                        <a:gs pos="100000">
                          <a:srgbClr val="3d58b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539640" y="609300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7559" y="3837"/>
                </a:moveTo>
                <a:lnTo>
                  <a:pt x="20136" y="6448"/>
                </a:lnTo>
                <a:lnTo>
                  <a:pt x="20136" y="4707"/>
                </a:lnTo>
                <a:lnTo>
                  <a:pt x="21911" y="4707"/>
                </a:lnTo>
                <a:lnTo>
                  <a:pt x="21911" y="8224"/>
                </a:lnTo>
                <a:lnTo>
                  <a:pt x="24522" y="10800"/>
                </a:lnTo>
                <a:lnTo>
                  <a:pt x="22869" y="10800"/>
                </a:lnTo>
                <a:lnTo>
                  <a:pt x="22869" y="17989"/>
                </a:lnTo>
                <a:lnTo>
                  <a:pt x="12250" y="17989"/>
                </a:lnTo>
                <a:lnTo>
                  <a:pt x="12250" y="10800"/>
                </a:lnTo>
                <a:lnTo>
                  <a:pt x="10596" y="10800"/>
                </a:lnTo>
                <a:close/>
              </a:path>
              <a:path fill="darkenLess" w="35119" h="21600">
                <a:moveTo>
                  <a:pt x="20136" y="6448"/>
                </a:moveTo>
                <a:lnTo>
                  <a:pt x="20136" y="4707"/>
                </a:lnTo>
                <a:lnTo>
                  <a:pt x="21911" y="4707"/>
                </a:lnTo>
                <a:lnTo>
                  <a:pt x="21911" y="8224"/>
                </a:lnTo>
                <a:close/>
              </a:path>
              <a:path fill="darkenLess" w="35119" h="21600">
                <a:moveTo>
                  <a:pt x="16637" y="14299"/>
                </a:moveTo>
                <a:lnTo>
                  <a:pt x="18482" y="14299"/>
                </a:lnTo>
                <a:lnTo>
                  <a:pt x="18482" y="17989"/>
                </a:lnTo>
                <a:lnTo>
                  <a:pt x="22869" y="17989"/>
                </a:lnTo>
                <a:lnTo>
                  <a:pt x="22869" y="10800"/>
                </a:lnTo>
                <a:lnTo>
                  <a:pt x="12250" y="10800"/>
                </a:lnTo>
                <a:lnTo>
                  <a:pt x="12250" y="17989"/>
                </a:lnTo>
                <a:lnTo>
                  <a:pt x="16637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6666"/>
                </a:solidFill>
                <a:latin typeface="Monotype Corsiva"/>
              </a:rPr>
              <a:t>I visti d’ingres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6093000"/>
            <a:ext cx="1368360" cy="57600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1295" h="21600">
                <a:moveTo>
                  <a:pt x="0" y="0"/>
                </a:moveTo>
                <a:lnTo>
                  <a:pt x="51295" y="0"/>
                </a:lnTo>
                <a:lnTo>
                  <a:pt x="51295" y="21600"/>
                </a:lnTo>
                <a:lnTo>
                  <a:pt x="0" y="21600"/>
                </a:lnTo>
                <a:close/>
              </a:path>
              <a:path fill="lightenLess" w="51295" h="21600">
                <a:moveTo>
                  <a:pt x="0" y="0"/>
                </a:moveTo>
                <a:lnTo>
                  <a:pt x="51295" y="0"/>
                </a:lnTo>
                <a:lnTo>
                  <a:pt x="49895" y="1400"/>
                </a:lnTo>
                <a:lnTo>
                  <a:pt x="1400" y="1400"/>
                </a:lnTo>
                <a:close/>
              </a:path>
              <a:path fill="darken" w="51295" h="21600">
                <a:moveTo>
                  <a:pt x="51295" y="0"/>
                </a:moveTo>
                <a:lnTo>
                  <a:pt x="51295" y="21600"/>
                </a:lnTo>
                <a:lnTo>
                  <a:pt x="49895" y="20200"/>
                </a:lnTo>
                <a:lnTo>
                  <a:pt x="49895" y="1400"/>
                </a:lnTo>
                <a:close/>
              </a:path>
              <a:path fill="darkenLess" w="51295" h="21600">
                <a:moveTo>
                  <a:pt x="51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5" y="20200"/>
                </a:lnTo>
                <a:close/>
              </a:path>
              <a:path fill="lighten" w="51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95" h="21600">
                <a:moveTo>
                  <a:pt x="25647" y="3837"/>
                </a:moveTo>
                <a:lnTo>
                  <a:pt x="28224" y="6448"/>
                </a:lnTo>
                <a:lnTo>
                  <a:pt x="28224" y="4707"/>
                </a:lnTo>
                <a:lnTo>
                  <a:pt x="29999" y="4707"/>
                </a:lnTo>
                <a:lnTo>
                  <a:pt x="29999" y="8224"/>
                </a:lnTo>
                <a:lnTo>
                  <a:pt x="32610" y="10800"/>
                </a:lnTo>
                <a:lnTo>
                  <a:pt x="30957" y="10800"/>
                </a:lnTo>
                <a:lnTo>
                  <a:pt x="30957" y="17989"/>
                </a:lnTo>
                <a:lnTo>
                  <a:pt x="20338" y="17989"/>
                </a:lnTo>
                <a:lnTo>
                  <a:pt x="20338" y="10800"/>
                </a:lnTo>
                <a:lnTo>
                  <a:pt x="18685" y="10800"/>
                </a:lnTo>
                <a:close/>
              </a:path>
              <a:path fill="darkenLess" w="51295" h="21600">
                <a:moveTo>
                  <a:pt x="28224" y="6448"/>
                </a:moveTo>
                <a:lnTo>
                  <a:pt x="28224" y="4707"/>
                </a:lnTo>
                <a:lnTo>
                  <a:pt x="29999" y="4707"/>
                </a:lnTo>
                <a:lnTo>
                  <a:pt x="29999" y="8224"/>
                </a:lnTo>
                <a:close/>
              </a:path>
              <a:path fill="darkenLess" w="51295" h="21600">
                <a:moveTo>
                  <a:pt x="24725" y="14299"/>
                </a:moveTo>
                <a:lnTo>
                  <a:pt x="26570" y="14299"/>
                </a:lnTo>
                <a:lnTo>
                  <a:pt x="26570" y="17989"/>
                </a:lnTo>
                <a:lnTo>
                  <a:pt x="30957" y="17989"/>
                </a:lnTo>
                <a:lnTo>
                  <a:pt x="30957" y="10800"/>
                </a:lnTo>
                <a:lnTo>
                  <a:pt x="20338" y="10800"/>
                </a:lnTo>
                <a:lnTo>
                  <a:pt x="20338" y="17989"/>
                </a:lnTo>
                <a:lnTo>
                  <a:pt x="24725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6666"/>
                </a:solidFill>
                <a:latin typeface="Monotype Corsiva"/>
              </a:rPr>
              <a:t>Corso extracomunit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ittadini dei seguenti paesi non sono obbligati a richiedere il VISTO d’INGRESSO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rché i soggiorni non siano superiori ai 90 gior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 inoltre, anche nei casi d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I cittadini esenti dal visto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2565360"/>
          <a:ext cx="7129440" cy="1911240"/>
        </p:xfrm>
        <a:graphic>
          <a:graphicData uri="http://schemas.openxmlformats.org/drawingml/2006/table">
            <a:tbl>
              <a:tblPr/>
              <a:tblGrid>
                <a:gridCol w="1782720"/>
                <a:gridCol w="1782720"/>
                <a:gridCol w="1781280"/>
                <a:gridCol w="1782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or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str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s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un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ea del S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az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app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ng K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s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a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ova Zel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gap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i Un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b9b94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755640" y="4797360"/>
          <a:ext cx="7129440" cy="127476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ttadini britannici titolari del documento di viaggio British nationals (Overse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c1c14d"/>
                        </a:gs>
                      </a:gsLst>
                      <a:lin ang="54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voratori frontalie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c1c14d"/>
                        </a:gs>
                      </a:gsLst>
                      <a:lin ang="5400000"/>
                    </a:gra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i di paesi con obbligo di visto, ma che partecipano a precorsi scolastici di scambio con insegnanti accompagnat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c1c14d"/>
                        </a:gs>
                      </a:gsLst>
                      <a:lin ang="54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fugiati statutari e apoli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c1c14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539640" y="609300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7559" y="3837"/>
                </a:moveTo>
                <a:lnTo>
                  <a:pt x="20136" y="6448"/>
                </a:lnTo>
                <a:lnTo>
                  <a:pt x="20136" y="4707"/>
                </a:lnTo>
                <a:lnTo>
                  <a:pt x="21911" y="4707"/>
                </a:lnTo>
                <a:lnTo>
                  <a:pt x="21911" y="8224"/>
                </a:lnTo>
                <a:lnTo>
                  <a:pt x="24522" y="10800"/>
                </a:lnTo>
                <a:lnTo>
                  <a:pt x="22869" y="10800"/>
                </a:lnTo>
                <a:lnTo>
                  <a:pt x="22869" y="17989"/>
                </a:lnTo>
                <a:lnTo>
                  <a:pt x="12250" y="17989"/>
                </a:lnTo>
                <a:lnTo>
                  <a:pt x="12250" y="10800"/>
                </a:lnTo>
                <a:lnTo>
                  <a:pt x="10596" y="10800"/>
                </a:lnTo>
                <a:close/>
              </a:path>
              <a:path fill="darkenLess" w="35119" h="21600">
                <a:moveTo>
                  <a:pt x="20136" y="6448"/>
                </a:moveTo>
                <a:lnTo>
                  <a:pt x="20136" y="4707"/>
                </a:lnTo>
                <a:lnTo>
                  <a:pt x="21911" y="4707"/>
                </a:lnTo>
                <a:lnTo>
                  <a:pt x="21911" y="8224"/>
                </a:lnTo>
                <a:close/>
              </a:path>
              <a:path fill="darkenLess" w="35119" h="21600">
                <a:moveTo>
                  <a:pt x="16637" y="14299"/>
                </a:moveTo>
                <a:lnTo>
                  <a:pt x="18482" y="14299"/>
                </a:lnTo>
                <a:lnTo>
                  <a:pt x="18482" y="17989"/>
                </a:lnTo>
                <a:lnTo>
                  <a:pt x="22869" y="17989"/>
                </a:lnTo>
                <a:lnTo>
                  <a:pt x="22869" y="10800"/>
                </a:lnTo>
                <a:lnTo>
                  <a:pt x="12250" y="10800"/>
                </a:lnTo>
                <a:lnTo>
                  <a:pt x="12250" y="17989"/>
                </a:lnTo>
                <a:lnTo>
                  <a:pt x="16637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6666"/>
                </a:solidFill>
                <a:latin typeface="Monotype Corsiva"/>
              </a:rPr>
              <a:t>I visti d’ingres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6093000"/>
            <a:ext cx="1368360" cy="57600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1295" h="21600">
                <a:moveTo>
                  <a:pt x="0" y="0"/>
                </a:moveTo>
                <a:lnTo>
                  <a:pt x="51295" y="0"/>
                </a:lnTo>
                <a:lnTo>
                  <a:pt x="51295" y="21600"/>
                </a:lnTo>
                <a:lnTo>
                  <a:pt x="0" y="21600"/>
                </a:lnTo>
                <a:close/>
              </a:path>
              <a:path fill="lightenLess" w="51295" h="21600">
                <a:moveTo>
                  <a:pt x="0" y="0"/>
                </a:moveTo>
                <a:lnTo>
                  <a:pt x="51295" y="0"/>
                </a:lnTo>
                <a:lnTo>
                  <a:pt x="49895" y="1400"/>
                </a:lnTo>
                <a:lnTo>
                  <a:pt x="1400" y="1400"/>
                </a:lnTo>
                <a:close/>
              </a:path>
              <a:path fill="darken" w="51295" h="21600">
                <a:moveTo>
                  <a:pt x="51295" y="0"/>
                </a:moveTo>
                <a:lnTo>
                  <a:pt x="51295" y="21600"/>
                </a:lnTo>
                <a:lnTo>
                  <a:pt x="49895" y="20200"/>
                </a:lnTo>
                <a:lnTo>
                  <a:pt x="49895" y="1400"/>
                </a:lnTo>
                <a:close/>
              </a:path>
              <a:path fill="darkenLess" w="51295" h="21600">
                <a:moveTo>
                  <a:pt x="51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5" y="20200"/>
                </a:lnTo>
                <a:close/>
              </a:path>
              <a:path fill="lighten" w="51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95" h="21600">
                <a:moveTo>
                  <a:pt x="25647" y="3837"/>
                </a:moveTo>
                <a:lnTo>
                  <a:pt x="28224" y="6448"/>
                </a:lnTo>
                <a:lnTo>
                  <a:pt x="28224" y="4707"/>
                </a:lnTo>
                <a:lnTo>
                  <a:pt x="29999" y="4707"/>
                </a:lnTo>
                <a:lnTo>
                  <a:pt x="29999" y="8224"/>
                </a:lnTo>
                <a:lnTo>
                  <a:pt x="32610" y="10800"/>
                </a:lnTo>
                <a:lnTo>
                  <a:pt x="30957" y="10800"/>
                </a:lnTo>
                <a:lnTo>
                  <a:pt x="30957" y="17989"/>
                </a:lnTo>
                <a:lnTo>
                  <a:pt x="20338" y="17989"/>
                </a:lnTo>
                <a:lnTo>
                  <a:pt x="20338" y="10800"/>
                </a:lnTo>
                <a:lnTo>
                  <a:pt x="18685" y="10800"/>
                </a:lnTo>
                <a:close/>
              </a:path>
              <a:path fill="darkenLess" w="51295" h="21600">
                <a:moveTo>
                  <a:pt x="28224" y="6448"/>
                </a:moveTo>
                <a:lnTo>
                  <a:pt x="28224" y="4707"/>
                </a:lnTo>
                <a:lnTo>
                  <a:pt x="29999" y="4707"/>
                </a:lnTo>
                <a:lnTo>
                  <a:pt x="29999" y="8224"/>
                </a:lnTo>
                <a:close/>
              </a:path>
              <a:path fill="darkenLess" w="51295" h="21600">
                <a:moveTo>
                  <a:pt x="24725" y="14299"/>
                </a:moveTo>
                <a:lnTo>
                  <a:pt x="26570" y="14299"/>
                </a:lnTo>
                <a:lnTo>
                  <a:pt x="26570" y="17989"/>
                </a:lnTo>
                <a:lnTo>
                  <a:pt x="30957" y="17989"/>
                </a:lnTo>
                <a:lnTo>
                  <a:pt x="30957" y="10800"/>
                </a:lnTo>
                <a:lnTo>
                  <a:pt x="20338" y="10800"/>
                </a:lnTo>
                <a:lnTo>
                  <a:pt x="20338" y="17989"/>
                </a:lnTo>
                <a:lnTo>
                  <a:pt x="24725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6666"/>
                </a:solidFill>
                <a:latin typeface="Monotype Corsiva"/>
              </a:rPr>
              <a:t>Corso extracomunit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Sono esenti sempre dall’obbligo del visto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4956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66"/>
                </a:solidFill>
                <a:uFillTx/>
                <a:latin typeface="Arial Black"/>
              </a:rPr>
              <a:t>Per i soggiorni di lunga durata (oltre i 90 giorni) a qualsiasi titolo, tutti gli stranieri  devono sempre munirsi di Visto  anche se cittadini di paesi non soggetti ad obbligo di Visto per transito o per breve soggiorno , fatta eccezione di San Marino, Santa Sede e Svizzer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080" y="2125800"/>
            <a:ext cx="767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6280" y="1219320"/>
            <a:ext cx="771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7440" y="1879560"/>
            <a:ext cx="584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I cittadini di San Marino, Santa Sede e Svizz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6160" y="33526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66"/>
                </a:solidFill>
                <a:uFillTx/>
                <a:latin typeface="Arial"/>
              </a:rPr>
              <a:t>OBBLIGO DEL VI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539640" y="6021360"/>
            <a:ext cx="936720" cy="57636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97" h="21600">
                <a:moveTo>
                  <a:pt x="0" y="0"/>
                </a:moveTo>
                <a:lnTo>
                  <a:pt x="35097" y="0"/>
                </a:lnTo>
                <a:lnTo>
                  <a:pt x="35097" y="21600"/>
                </a:lnTo>
                <a:lnTo>
                  <a:pt x="0" y="21600"/>
                </a:lnTo>
                <a:close/>
              </a:path>
              <a:path fill="lightenLess" w="35097" h="21600">
                <a:moveTo>
                  <a:pt x="0" y="0"/>
                </a:moveTo>
                <a:lnTo>
                  <a:pt x="35097" y="0"/>
                </a:lnTo>
                <a:lnTo>
                  <a:pt x="33697" y="1400"/>
                </a:lnTo>
                <a:lnTo>
                  <a:pt x="1400" y="1400"/>
                </a:lnTo>
                <a:close/>
              </a:path>
              <a:path fill="darken" w="35097" h="21600">
                <a:moveTo>
                  <a:pt x="35097" y="0"/>
                </a:moveTo>
                <a:lnTo>
                  <a:pt x="35097" y="21600"/>
                </a:lnTo>
                <a:lnTo>
                  <a:pt x="33697" y="20200"/>
                </a:lnTo>
                <a:lnTo>
                  <a:pt x="33697" y="1400"/>
                </a:lnTo>
                <a:close/>
              </a:path>
              <a:path fill="darkenLess" w="35097" h="21600">
                <a:moveTo>
                  <a:pt x="35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7" y="20200"/>
                </a:lnTo>
                <a:close/>
              </a:path>
              <a:path fill="lighten" w="35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97" h="21600">
                <a:moveTo>
                  <a:pt x="17548" y="3837"/>
                </a:moveTo>
                <a:lnTo>
                  <a:pt x="20125" y="6448"/>
                </a:lnTo>
                <a:lnTo>
                  <a:pt x="20125" y="4707"/>
                </a:lnTo>
                <a:lnTo>
                  <a:pt x="21900" y="4707"/>
                </a:lnTo>
                <a:lnTo>
                  <a:pt x="21900" y="8224"/>
                </a:lnTo>
                <a:lnTo>
                  <a:pt x="24511" y="10800"/>
                </a:lnTo>
                <a:lnTo>
                  <a:pt x="22858" y="10800"/>
                </a:lnTo>
                <a:lnTo>
                  <a:pt x="22858" y="17989"/>
                </a:lnTo>
                <a:lnTo>
                  <a:pt x="12239" y="17989"/>
                </a:lnTo>
                <a:lnTo>
                  <a:pt x="12239" y="10800"/>
                </a:lnTo>
                <a:lnTo>
                  <a:pt x="10585" y="10800"/>
                </a:lnTo>
                <a:close/>
              </a:path>
              <a:path fill="darkenLess" w="35097" h="21600">
                <a:moveTo>
                  <a:pt x="20125" y="6448"/>
                </a:moveTo>
                <a:lnTo>
                  <a:pt x="20125" y="4707"/>
                </a:lnTo>
                <a:lnTo>
                  <a:pt x="21900" y="4707"/>
                </a:lnTo>
                <a:lnTo>
                  <a:pt x="21900" y="8224"/>
                </a:lnTo>
                <a:close/>
              </a:path>
              <a:path fill="darkenLess" w="35097" h="21600">
                <a:moveTo>
                  <a:pt x="16626" y="14299"/>
                </a:moveTo>
                <a:lnTo>
                  <a:pt x="18471" y="14299"/>
                </a:lnTo>
                <a:lnTo>
                  <a:pt x="18471" y="17989"/>
                </a:lnTo>
                <a:lnTo>
                  <a:pt x="22858" y="17989"/>
                </a:lnTo>
                <a:lnTo>
                  <a:pt x="22858" y="10800"/>
                </a:lnTo>
                <a:lnTo>
                  <a:pt x="12239" y="10800"/>
                </a:lnTo>
                <a:lnTo>
                  <a:pt x="12239" y="17989"/>
                </a:lnTo>
                <a:lnTo>
                  <a:pt x="16626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6666"/>
                </a:solidFill>
                <a:latin typeface="Monotype Corsiva"/>
              </a:rPr>
              <a:t>I visti d’ingres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3080" y="5950080"/>
            <a:ext cx="1368360" cy="57600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1295" h="21600">
                <a:moveTo>
                  <a:pt x="0" y="0"/>
                </a:moveTo>
                <a:lnTo>
                  <a:pt x="51295" y="0"/>
                </a:lnTo>
                <a:lnTo>
                  <a:pt x="51295" y="21600"/>
                </a:lnTo>
                <a:lnTo>
                  <a:pt x="0" y="21600"/>
                </a:lnTo>
                <a:close/>
              </a:path>
              <a:path fill="lightenLess" w="51295" h="21600">
                <a:moveTo>
                  <a:pt x="0" y="0"/>
                </a:moveTo>
                <a:lnTo>
                  <a:pt x="51295" y="0"/>
                </a:lnTo>
                <a:lnTo>
                  <a:pt x="49895" y="1400"/>
                </a:lnTo>
                <a:lnTo>
                  <a:pt x="1400" y="1400"/>
                </a:lnTo>
                <a:close/>
              </a:path>
              <a:path fill="darken" w="51295" h="21600">
                <a:moveTo>
                  <a:pt x="51295" y="0"/>
                </a:moveTo>
                <a:lnTo>
                  <a:pt x="51295" y="21600"/>
                </a:lnTo>
                <a:lnTo>
                  <a:pt x="49895" y="20200"/>
                </a:lnTo>
                <a:lnTo>
                  <a:pt x="49895" y="1400"/>
                </a:lnTo>
                <a:close/>
              </a:path>
              <a:path fill="darkenLess" w="51295" h="21600">
                <a:moveTo>
                  <a:pt x="51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5" y="20200"/>
                </a:lnTo>
                <a:close/>
              </a:path>
              <a:path fill="lighten" w="51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95" h="21600">
                <a:moveTo>
                  <a:pt x="25647" y="3837"/>
                </a:moveTo>
                <a:lnTo>
                  <a:pt x="28224" y="6448"/>
                </a:lnTo>
                <a:lnTo>
                  <a:pt x="28224" y="4707"/>
                </a:lnTo>
                <a:lnTo>
                  <a:pt x="29999" y="4707"/>
                </a:lnTo>
                <a:lnTo>
                  <a:pt x="29999" y="8224"/>
                </a:lnTo>
                <a:lnTo>
                  <a:pt x="32610" y="10800"/>
                </a:lnTo>
                <a:lnTo>
                  <a:pt x="30957" y="10800"/>
                </a:lnTo>
                <a:lnTo>
                  <a:pt x="30957" y="17989"/>
                </a:lnTo>
                <a:lnTo>
                  <a:pt x="20338" y="17989"/>
                </a:lnTo>
                <a:lnTo>
                  <a:pt x="20338" y="10800"/>
                </a:lnTo>
                <a:lnTo>
                  <a:pt x="18685" y="10800"/>
                </a:lnTo>
                <a:close/>
              </a:path>
              <a:path fill="darkenLess" w="51295" h="21600">
                <a:moveTo>
                  <a:pt x="28224" y="6448"/>
                </a:moveTo>
                <a:lnTo>
                  <a:pt x="28224" y="4707"/>
                </a:lnTo>
                <a:lnTo>
                  <a:pt x="29999" y="4707"/>
                </a:lnTo>
                <a:lnTo>
                  <a:pt x="29999" y="8224"/>
                </a:lnTo>
                <a:close/>
              </a:path>
              <a:path fill="darkenLess" w="51295" h="21600">
                <a:moveTo>
                  <a:pt x="24725" y="14299"/>
                </a:moveTo>
                <a:lnTo>
                  <a:pt x="26570" y="14299"/>
                </a:lnTo>
                <a:lnTo>
                  <a:pt x="26570" y="17989"/>
                </a:lnTo>
                <a:lnTo>
                  <a:pt x="30957" y="17989"/>
                </a:lnTo>
                <a:lnTo>
                  <a:pt x="30957" y="10800"/>
                </a:lnTo>
                <a:lnTo>
                  <a:pt x="20338" y="10800"/>
                </a:lnTo>
                <a:lnTo>
                  <a:pt x="20338" y="17989"/>
                </a:lnTo>
                <a:lnTo>
                  <a:pt x="24725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6666"/>
                </a:solidFill>
                <a:latin typeface="Monotype Corsiva"/>
              </a:rPr>
              <a:t>Corso extracomunit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I mezzi di sussistenza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4292640"/>
            <a:ext cx="7488360" cy="1728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2421000"/>
            <a:ext cx="7488000" cy="936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66"/>
                </a:solidFill>
                <a:latin typeface="Arial"/>
              </a:rPr>
              <a:t>Per ottenere il visto, lo straniero deve indic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66"/>
                </a:solidFill>
                <a:latin typeface="Arial"/>
              </a:rPr>
              <a:t>Le finalità del vi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66"/>
                </a:solidFill>
                <a:latin typeface="Arial"/>
              </a:rPr>
              <a:t>I mezzi di sostentamento per il viaggio ed il soggi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66"/>
                </a:solidFill>
                <a:latin typeface="Arial"/>
              </a:rPr>
              <a:t>Le condizioni di allo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66"/>
                </a:solidFill>
                <a:latin typeface="Arial"/>
              </a:rPr>
              <a:t>La dimostrazione del sostentamento per il viaggio ed il soggiorno può essere assolta attraver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66"/>
                </a:solidFill>
                <a:latin typeface="Arial"/>
              </a:rPr>
              <a:t>L’esibizione di denaro con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66"/>
                </a:solidFill>
                <a:latin typeface="Arial"/>
              </a:rPr>
              <a:t>Fideiussioni banc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66"/>
                </a:solidFill>
                <a:latin typeface="Arial"/>
              </a:rPr>
              <a:t>Polizze fideiuss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66"/>
                </a:solidFill>
                <a:latin typeface="Arial"/>
              </a:rPr>
              <a:t>Equivalenti titoli di cre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66"/>
                </a:solidFill>
                <a:latin typeface="Arial"/>
              </a:rPr>
              <a:t>Titoli di servizi prepagati o dimostrazione di disponibilità di reddito in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539640" y="609300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7559" y="3837"/>
                </a:moveTo>
                <a:lnTo>
                  <a:pt x="20136" y="6448"/>
                </a:lnTo>
                <a:lnTo>
                  <a:pt x="20136" y="4707"/>
                </a:lnTo>
                <a:lnTo>
                  <a:pt x="21911" y="4707"/>
                </a:lnTo>
                <a:lnTo>
                  <a:pt x="21911" y="8224"/>
                </a:lnTo>
                <a:lnTo>
                  <a:pt x="24522" y="10800"/>
                </a:lnTo>
                <a:lnTo>
                  <a:pt x="22869" y="10800"/>
                </a:lnTo>
                <a:lnTo>
                  <a:pt x="22869" y="17989"/>
                </a:lnTo>
                <a:lnTo>
                  <a:pt x="12250" y="17989"/>
                </a:lnTo>
                <a:lnTo>
                  <a:pt x="12250" y="10800"/>
                </a:lnTo>
                <a:lnTo>
                  <a:pt x="10596" y="10800"/>
                </a:lnTo>
                <a:close/>
              </a:path>
              <a:path fill="darkenLess" w="35119" h="21600">
                <a:moveTo>
                  <a:pt x="20136" y="6448"/>
                </a:moveTo>
                <a:lnTo>
                  <a:pt x="20136" y="4707"/>
                </a:lnTo>
                <a:lnTo>
                  <a:pt x="21911" y="4707"/>
                </a:lnTo>
                <a:lnTo>
                  <a:pt x="21911" y="8224"/>
                </a:lnTo>
                <a:close/>
              </a:path>
              <a:path fill="darkenLess" w="35119" h="21600">
                <a:moveTo>
                  <a:pt x="16637" y="14299"/>
                </a:moveTo>
                <a:lnTo>
                  <a:pt x="18482" y="14299"/>
                </a:lnTo>
                <a:lnTo>
                  <a:pt x="18482" y="17989"/>
                </a:lnTo>
                <a:lnTo>
                  <a:pt x="22869" y="17989"/>
                </a:lnTo>
                <a:lnTo>
                  <a:pt x="22869" y="10800"/>
                </a:lnTo>
                <a:lnTo>
                  <a:pt x="12250" y="10800"/>
                </a:lnTo>
                <a:lnTo>
                  <a:pt x="12250" y="17989"/>
                </a:lnTo>
                <a:lnTo>
                  <a:pt x="16637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6666"/>
                </a:solidFill>
                <a:latin typeface="Monotype Corsiva"/>
              </a:rPr>
              <a:t>I visti d’ingres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93080" y="6093000"/>
            <a:ext cx="1368360" cy="57600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1295" h="21600">
                <a:moveTo>
                  <a:pt x="0" y="0"/>
                </a:moveTo>
                <a:lnTo>
                  <a:pt x="51295" y="0"/>
                </a:lnTo>
                <a:lnTo>
                  <a:pt x="51295" y="21600"/>
                </a:lnTo>
                <a:lnTo>
                  <a:pt x="0" y="21600"/>
                </a:lnTo>
                <a:close/>
              </a:path>
              <a:path fill="lightenLess" w="51295" h="21600">
                <a:moveTo>
                  <a:pt x="0" y="0"/>
                </a:moveTo>
                <a:lnTo>
                  <a:pt x="51295" y="0"/>
                </a:lnTo>
                <a:lnTo>
                  <a:pt x="49895" y="1400"/>
                </a:lnTo>
                <a:lnTo>
                  <a:pt x="1400" y="1400"/>
                </a:lnTo>
                <a:close/>
              </a:path>
              <a:path fill="darken" w="51295" h="21600">
                <a:moveTo>
                  <a:pt x="51295" y="0"/>
                </a:moveTo>
                <a:lnTo>
                  <a:pt x="51295" y="21600"/>
                </a:lnTo>
                <a:lnTo>
                  <a:pt x="49895" y="20200"/>
                </a:lnTo>
                <a:lnTo>
                  <a:pt x="49895" y="1400"/>
                </a:lnTo>
                <a:close/>
              </a:path>
              <a:path fill="darkenLess" w="51295" h="21600">
                <a:moveTo>
                  <a:pt x="51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5" y="20200"/>
                </a:lnTo>
                <a:close/>
              </a:path>
              <a:path fill="lighten" w="51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95" h="21600">
                <a:moveTo>
                  <a:pt x="25647" y="3837"/>
                </a:moveTo>
                <a:lnTo>
                  <a:pt x="28224" y="6448"/>
                </a:lnTo>
                <a:lnTo>
                  <a:pt x="28224" y="4707"/>
                </a:lnTo>
                <a:lnTo>
                  <a:pt x="29999" y="4707"/>
                </a:lnTo>
                <a:lnTo>
                  <a:pt x="29999" y="8224"/>
                </a:lnTo>
                <a:lnTo>
                  <a:pt x="32610" y="10800"/>
                </a:lnTo>
                <a:lnTo>
                  <a:pt x="30957" y="10800"/>
                </a:lnTo>
                <a:lnTo>
                  <a:pt x="30957" y="17989"/>
                </a:lnTo>
                <a:lnTo>
                  <a:pt x="20338" y="17989"/>
                </a:lnTo>
                <a:lnTo>
                  <a:pt x="20338" y="10800"/>
                </a:lnTo>
                <a:lnTo>
                  <a:pt x="18685" y="10800"/>
                </a:lnTo>
                <a:close/>
              </a:path>
              <a:path fill="darkenLess" w="51295" h="21600">
                <a:moveTo>
                  <a:pt x="28224" y="6448"/>
                </a:moveTo>
                <a:lnTo>
                  <a:pt x="28224" y="4707"/>
                </a:lnTo>
                <a:lnTo>
                  <a:pt x="29999" y="4707"/>
                </a:lnTo>
                <a:lnTo>
                  <a:pt x="29999" y="8224"/>
                </a:lnTo>
                <a:close/>
              </a:path>
              <a:path fill="darkenLess" w="51295" h="21600">
                <a:moveTo>
                  <a:pt x="24725" y="14299"/>
                </a:moveTo>
                <a:lnTo>
                  <a:pt x="26570" y="14299"/>
                </a:lnTo>
                <a:lnTo>
                  <a:pt x="26570" y="17989"/>
                </a:lnTo>
                <a:lnTo>
                  <a:pt x="30957" y="17989"/>
                </a:lnTo>
                <a:lnTo>
                  <a:pt x="30957" y="10800"/>
                </a:lnTo>
                <a:lnTo>
                  <a:pt x="20338" y="10800"/>
                </a:lnTo>
                <a:lnTo>
                  <a:pt x="20338" y="17989"/>
                </a:lnTo>
                <a:lnTo>
                  <a:pt x="24725" y="17989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6666"/>
                </a:solidFill>
                <a:latin typeface="Monotype Corsiva"/>
              </a:rPr>
              <a:t>Corso extracomunit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36:19Z</dcterms:created>
  <dc:creator>danielam</dc:creator>
  <dc:description/>
  <dc:language>en-US</dc:language>
  <cp:lastModifiedBy>Patronato Inca</cp:lastModifiedBy>
  <dcterms:modified xsi:type="dcterms:W3CDTF">2009-03-10T15:34:48Z</dcterms:modified>
  <cp:revision>18</cp:revision>
  <dc:subject/>
  <dc:title>Inca senza frontiere  per gli immigrati</dc:title>
</cp:coreProperties>
</file>