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47BA0-AE0B-4FC4-8AE7-BEE9768FBA11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6BA18-38AF-4009-9F1D-FF9E60464DB1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CH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EF232-F57A-453B-8768-94F004317221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CH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C2B41-192C-44FE-90E6-9BA97C49C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54083-4DE6-43BB-8014-CF5E425B1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F9B91-0FF9-4755-A6DC-77E01D999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89A6C-A7F1-49A1-91F9-BB75E49EE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B6A08-DF3F-4540-811C-FDC23EAD0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2FD68-3ACF-4AC7-852F-D8F7668AF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65C14-07EB-4976-94E2-6DEA7C88E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EBF44-4483-41E5-913A-6ECAAC833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BF38B-212B-4506-8D91-C6EB26B1F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B16EC-1190-42A3-BE6D-AF2787DEB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850C0-914B-4DE7-A21E-D49187FA7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42A45-6512-47AA-B7F0-136D4385E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7342A-8A01-4FB0-B8B0-52BC11C91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C3C61-6066-4E88-B908-FB9A6B98D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38FCB-0261-44D5-B316-FBB1AD33C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ED714-1EB2-4F22-AECC-188AAC4F5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C91CB-618E-45B0-A5E0-5F97882B8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8720D-659B-4753-B638-9B3EB6167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74DEA-7DFB-46B7-BE64-C520D3BDA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E791C-6B96-47E4-88C7-BD04904A8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CC8B7-5B6A-48AC-BB87-8D87BC23D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54DD9-0302-450E-A5C9-8AC3571B1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76D86-77AB-4353-888F-7A8DE64EA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6F4EE-6640-45EA-8B64-511A1BE1E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B1EDF-E002-4B73-8A83-1EA6BFA1FF5B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0120" y="-85320"/>
            <a:ext cx="2430360" cy="2250720"/>
            <a:chOff x="7170120" y="-85320"/>
            <a:chExt cx="2430360" cy="22507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0120" y="-85320"/>
              <a:ext cx="2430360" cy="2250720"/>
              <a:chOff x="7170120" y="-85320"/>
              <a:chExt cx="2430360" cy="22507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0120" y="-85320"/>
                <a:ext cx="2430360" cy="2250720"/>
                <a:chOff x="7170120" y="-85320"/>
                <a:chExt cx="2430360" cy="22507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920" y="112320"/>
                  <a:ext cx="24372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9720" y="522720"/>
                  <a:ext cx="428400" cy="6951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7680" y="285120"/>
                  <a:ext cx="804960" cy="1425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1040" y="-26280"/>
                  <a:ext cx="120816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5720" y="1422360"/>
                  <a:ext cx="26928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280"/>
                  <a:ext cx="28836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2800" y="333720"/>
                  <a:ext cx="28836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9880" y="218880"/>
                  <a:ext cx="285120" cy="219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1480" y="4661280"/>
              <a:ext cx="998640" cy="4640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000" y="4639680"/>
              <a:ext cx="995400" cy="459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480" y="4625280"/>
              <a:ext cx="660240" cy="41976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75544-D1BD-4624-B1C4-9E663C910870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5"/>
          <p:cNvSpPr/>
          <p:nvPr/>
        </p:nvSpPr>
        <p:spPr>
          <a:xfrm>
            <a:off x="100080" y="2330280"/>
            <a:ext cx="89694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5400" spc="-1" strike="noStrike">
                <a:solidFill>
                  <a:srgbClr val="000000"/>
                </a:solidFill>
                <a:latin typeface="Bookman Old Style"/>
              </a:rPr>
              <a:t>SEMINARIO INFORMATIVO SULLE PROCEDURE 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5400" spc="-1" strike="noStrike">
                <a:solidFill>
                  <a:srgbClr val="000000"/>
                </a:solidFill>
                <a:latin typeface="Bookman Old Style"/>
              </a:rPr>
              <a:t>INCA CH-INCA LAZIO</a:t>
            </a:r>
            <a:r>
              <a:rPr b="1" i="1" lang="de-CH" sz="5400" spc="-1" strike="noStrike">
                <a:solidFill>
                  <a:srgbClr val="ff0000"/>
                </a:solidFill>
                <a:latin typeface="Bookman Old Style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9" name="Picture 11" descr="inca"/>
          <p:cNvPicPr/>
          <p:nvPr/>
        </p:nvPicPr>
        <p:blipFill>
          <a:blip r:embed="rId1"/>
          <a:stretch/>
        </p:blipFill>
        <p:spPr>
          <a:xfrm>
            <a:off x="6450120" y="217440"/>
            <a:ext cx="215424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61680" y="336240"/>
            <a:ext cx="6870600" cy="717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fr-CH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FFICI SVIZZER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130400"/>
            <a:ext cx="7999560" cy="5199120"/>
          </a:xfrm>
          <a:prstGeom prst="rect">
            <a:avLst/>
          </a:prstGeom>
          <a:solidFill>
            <a:srgbClr val="66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rdinamento 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llinzona                  Angelica Sorrentin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fficio legale</a:t>
            </a:r>
            <a:r>
              <a:rPr b="0" lang="fr-CH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CH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Emilio Crignol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rna                          Francesco Miceli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sanna                      Sarah Nai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nevra                      Carmen Gnazz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urigo</a:t>
            </a:r>
            <a:r>
              <a:rPr b="0" lang="fr-CH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CH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Antonella Montesi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uchatel      </a:t>
            </a:r>
            <a:r>
              <a:rPr b="0" lang="fr-CH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CH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Antonella Ferrari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lea</a:t>
            </a:r>
            <a:r>
              <a:rPr b="0" lang="fr-CH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CH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Antonio Arcuri            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2" name="Picture 4" descr="inca"/>
          <p:cNvPicPr/>
          <p:nvPr/>
        </p:nvPicPr>
        <p:blipFill>
          <a:blip r:embed="rId1"/>
          <a:stretch/>
        </p:blipFill>
        <p:spPr>
          <a:xfrm>
            <a:off x="8607600" y="0"/>
            <a:ext cx="536400" cy="549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Segnaposto piè di pagina 4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12840" y="409680"/>
            <a:ext cx="8145360" cy="1342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FFICIO DI RIFERIMENTO PER IL LAZI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2273040"/>
            <a:ext cx="7696080" cy="3477960"/>
          </a:xfrm>
          <a:prstGeom prst="rect">
            <a:avLst/>
          </a:prstGeom>
          <a:solidFill>
            <a:srgbClr val="66ffcc"/>
          </a:solidFill>
          <a:ln w="9360">
            <a:solidFill>
              <a:srgbClr val="ccff99"/>
            </a:solidFill>
            <a:miter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fficio regionale di Ginevra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onsabile   </a:t>
            </a:r>
            <a:r>
              <a:rPr b="1" lang="fr-CH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rmen Gnazzo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1" marL="6984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</a:t>
            </a:r>
            <a:r>
              <a:rPr b="0" lang="fr-CH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essandro Marchesan</a:t>
            </a:r>
            <a:r>
              <a:rPr b="0" lang="fr-CH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1" marL="698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Comic Sans MS"/>
              </a:rPr>
              <a:t>                           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6" name="Picture 4" descr="inca"/>
          <p:cNvPicPr/>
          <p:nvPr/>
        </p:nvPicPr>
        <p:blipFill>
          <a:blip r:embed="rId1"/>
          <a:stretch/>
        </p:blipFill>
        <p:spPr>
          <a:xfrm>
            <a:off x="8545680" y="63360"/>
            <a:ext cx="53496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" dur="5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" dur="50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Segnaposto piè di pagina 4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12480" y="264960"/>
            <a:ext cx="8302680" cy="14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FFICIO DI RIFERIMENTO PER IL LAZI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2020680"/>
            <a:ext cx="7696080" cy="4392360"/>
          </a:xfrm>
          <a:prstGeom prst="rect">
            <a:avLst/>
          </a:prstGeom>
          <a:solidFill>
            <a:srgbClr val="66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fficio Legale in Svizzera :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fr-CH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LEA     </a:t>
            </a:r>
            <a:r>
              <a:rPr b="1" lang="fr-CH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ilio Crignola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FFICIO APERTO LA MATTINA DA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TEDI AL VENERDI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0" name="Picture 4" descr="inca"/>
          <p:cNvPicPr/>
          <p:nvPr/>
        </p:nvPicPr>
        <p:blipFill>
          <a:blip r:embed="rId1"/>
          <a:stretch/>
        </p:blipFill>
        <p:spPr>
          <a:xfrm>
            <a:off x="8545680" y="63360"/>
            <a:ext cx="53496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" dur="5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" dur="500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64960" y="493560"/>
            <a:ext cx="7964640" cy="974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A INVIARE DOMANDA AVS/AI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80960" y="1731600"/>
            <a:ext cx="8013600" cy="3814920"/>
          </a:xfrm>
          <a:prstGeom prst="rect">
            <a:avLst/>
          </a:prstGeom>
          <a:solidFill>
            <a:srgbClr val="66ffcc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INCA MANDA UN MESSAGGIO TELEMATICO ALLA SEDE INCA ESTERO AL MOMENTO IN CUI SI INSERISCE IL FLAG CONVENZIOIN INTERNAZIONALI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3" name="Picture 4" descr="inca"/>
          <p:cNvPicPr/>
          <p:nvPr/>
        </p:nvPicPr>
        <p:blipFill>
          <a:blip r:embed="rId1"/>
          <a:stretch/>
        </p:blipFill>
        <p:spPr>
          <a:xfrm>
            <a:off x="8545680" y="63360"/>
            <a:ext cx="53496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64960" y="493560"/>
            <a:ext cx="7964640" cy="974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A INVIARE DOMANDA AV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5" name="Picture 4" descr="inca"/>
          <p:cNvPicPr/>
          <p:nvPr/>
        </p:nvPicPr>
        <p:blipFill>
          <a:blip r:embed="rId1"/>
          <a:stretch/>
        </p:blipFill>
        <p:spPr>
          <a:xfrm>
            <a:off x="8545680" y="63360"/>
            <a:ext cx="534960" cy="54936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1239840" y="1925640"/>
            <a:ext cx="7134120" cy="3934440"/>
          </a:xfrm>
          <a:prstGeom prst="rect">
            <a:avLst/>
          </a:prstGeom>
          <a:solidFill>
            <a:srgbClr val="66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viare: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mandati trilingu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pia della documentazione rilevante (trasmissione INPS,carta AVS, attestati di lavoro, etc.)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17680" y="349200"/>
            <a:ext cx="7603920" cy="874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A INVIARE DOMANDAAI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8" name="Picture 4" descr="inca"/>
          <p:cNvPicPr/>
          <p:nvPr/>
        </p:nvPicPr>
        <p:blipFill>
          <a:blip r:embed="rId1"/>
          <a:stretch/>
        </p:blipFill>
        <p:spPr>
          <a:xfrm>
            <a:off x="8545680" y="63360"/>
            <a:ext cx="534960" cy="54936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5"/>
          <p:cNvSpPr/>
          <p:nvPr/>
        </p:nvSpPr>
        <p:spPr>
          <a:xfrm>
            <a:off x="614520" y="1539720"/>
            <a:ext cx="7291080" cy="3993480"/>
          </a:xfrm>
          <a:prstGeom prst="rect">
            <a:avLst/>
          </a:prstGeom>
          <a:solidFill>
            <a:srgbClr val="66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viare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mandati trilingu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pia della documentazione rilevante(trasmissione INPS,carta AVS, attestati di lavoro, etc.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fr-CH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cumentazione medica esistent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44600" y="469440"/>
            <a:ext cx="7424640" cy="97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CORSO AI UFFICIO LEGAL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1" name="Picture 4" descr="inca"/>
          <p:cNvPicPr/>
          <p:nvPr/>
        </p:nvPicPr>
        <p:blipFill>
          <a:blip r:embed="rId1"/>
          <a:stretch/>
        </p:blipFill>
        <p:spPr>
          <a:xfrm>
            <a:off x="8545680" y="63360"/>
            <a:ext cx="534960" cy="54936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554040" y="1925640"/>
            <a:ext cx="7856640" cy="3934440"/>
          </a:xfrm>
          <a:prstGeom prst="rect">
            <a:avLst/>
          </a:prstGeom>
          <a:solidFill>
            <a:srgbClr val="66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viare: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mandato trilingu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mandato giudiziario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pia del provvedimento impugnato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cumenti medici validi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cumenti economici validi se necessario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4" descr="inca"/>
          <p:cNvPicPr/>
          <p:nvPr/>
        </p:nvPicPr>
        <p:blipFill>
          <a:blip r:embed="rId1"/>
          <a:stretch/>
        </p:blipFill>
        <p:spPr>
          <a:xfrm>
            <a:off x="8545680" y="63360"/>
            <a:ext cx="534960" cy="549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4" name="Object 2"/>
          <p:cNvGraphicFramePr/>
          <p:nvPr/>
        </p:nvGraphicFramePr>
        <p:xfrm>
          <a:off x="662040" y="328680"/>
          <a:ext cx="7638840" cy="59482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85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62040" y="328680"/>
                    <a:ext cx="7638840" cy="594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8T21:35:25Z</dcterms:created>
  <dc:creator>villiamz</dc:creator>
  <dc:description/>
  <dc:language>en-US</dc:language>
  <cp:lastModifiedBy>Angelica</cp:lastModifiedBy>
  <dcterms:modified xsi:type="dcterms:W3CDTF">2009-06-19T06:01:07Z</dcterms:modified>
  <cp:revision>287</cp:revision>
  <dc:subject/>
  <dc:title>Diapositiva 1</dc:title>
</cp:coreProperties>
</file>