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10174288" cy="7239000"/>
  <p:notesSz cx="6858000" cy="9328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0F95-476D-40F5-8347-B0C7ED5A0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3200" y="435924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073C-18F6-48C4-95F8-BDB116BD4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336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4E69-BA91-403F-B70F-0D738DFF0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640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320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640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F90E-CDDB-4180-A6A1-57924F863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E873-0BE1-4012-AA52-0F1A6FEA8D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6CE3-D1A0-497A-B362-E0D807FFB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104D-2170-405C-AC01-7E4DF9BF4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5B0D-E17B-486D-BE16-C3E131ED7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3200" y="642600"/>
            <a:ext cx="8645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E014-B0F0-4BFE-A4DC-5F80A0CBD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4207-BBA3-430A-B087-9C7EC6AFF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336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DD8F-6258-4DC2-B14D-220FA65CF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4FDB-DC2E-4629-863F-79E8003DD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6000"/>
          </a:bodyPr>
          <a:p>
            <a:pPr marL="357840" indent="-3578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8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3040" indent="-237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1480" indent="-2390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49640" y="6683400"/>
            <a:ext cx="2119320" cy="482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AEA1ACE6-270F-48B5-8D6B-8862A9923B6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677880" y="6595920"/>
            <a:ext cx="89866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73200" y="6651720"/>
            <a:ext cx="1364760" cy="589680"/>
            <a:chOff x="673200" y="6651720"/>
            <a:chExt cx="1364760" cy="589680"/>
          </a:xfrm>
        </p:grpSpPr>
        <p:sp>
          <p:nvSpPr>
            <p:cNvPr id="5" name=""/>
            <p:cNvSpPr/>
            <p:nvPr/>
          </p:nvSpPr>
          <p:spPr>
            <a:xfrm>
              <a:off x="1090080" y="6867360"/>
              <a:ext cx="947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atronato IN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CG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9800" y="6738840"/>
              <a:ext cx="433800" cy="453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0" bIns="0" anchor="b" anchorCtr="1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Garamond"/>
                </a:rPr>
                <a:t>C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3200" y="6651720"/>
              <a:ext cx="558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0" bIns="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Garamond"/>
                </a:rPr>
                <a:t>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9800" y="7175520"/>
              <a:ext cx="432360" cy="1728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0"/>
                  </a:moveTo>
                  <a:lnTo>
                    <a:pt x="0" y="12"/>
                  </a:lnTo>
                  <a:lnTo>
                    <a:pt x="248" y="12"/>
                  </a:lnTo>
                  <a:lnTo>
                    <a:pt x="2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9800" y="6746760"/>
              <a:ext cx="432360" cy="1764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0"/>
                  </a:moveTo>
                  <a:lnTo>
                    <a:pt x="0" y="12"/>
                  </a:lnTo>
                  <a:lnTo>
                    <a:pt x="248" y="12"/>
                  </a:lnTo>
                  <a:lnTo>
                    <a:pt x="2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36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Trattamenti pensionistici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stemi di cal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000160"/>
            <a:ext cx="86104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la legge 8 agosto 1995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n.335 - Riforma Di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roduzione del sistem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tributiv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ma su un sistema pensionistico a ripartizione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licazione de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stema di calcolo retributiv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coloro che al 31.12.1995 avevano 18 anni di contributi (936 sett.Considerata tutta la contribuzione compresa quella versata all’est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licazione del sistema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lcolo mis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coloro che avevano alla medesima dat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 18 anni di contributi ( normativa del sistema retributivo, calcolo in 2 quote: la 1^, contr.fino al 1995, calcolo sistema retributivo; la 2^, contr.dall’1.1.1996, calcolo sistema contributiv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512200" y="987480"/>
            <a:ext cx="1319040" cy="13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7412-A7ED-4860-A0C3-2039DA8A4C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3240" y="-360"/>
            <a:ext cx="8645400" cy="1677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vecchiaia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680" y="1873080"/>
            <a:ext cx="89913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domand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 pensione di vecchiaia va presentata all’INPS ne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se in cui l’interessato compie l’età pensionabi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previa risoluzione del rapporto di lav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cumenti da alleg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ato di famigl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dice fisca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glio matricolare del milita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delli 01M fino al 1998 e modelli Cud dal 1999 in po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896080" y="2711520"/>
            <a:ext cx="2705040" cy="254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2FC7-9F80-4D83-9C14-76B8E4D959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768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vecchia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914400"/>
            <a:ext cx="9715680" cy="561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gime di cum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l 1° gennaio del 2001(art.72, L.388/2000) la pensione di vecchiaia è interamente cumulabile sia con la retribuzione da lavoro dipendente che con il reddito da lavoro auton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preceden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no al 31.12.1994 le pensioni di vecchiaia o coloro che entro tale data avevano raggiunto il requisito - cumulo totale della pensione con il reddito da lavoro autonomo, mentre con la retribuzione da lavoro dipendente trattenuta = al 50% dell’eccedenza del trattamento minimo, fino a concorrenza del reddito st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l’1.1.1995 la trattenuta sulla pensione era del 50% dell’eccedenza del trattamento minimo sia per retribuzione da lavoro dipendente che da reddito da lavoro autono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645D-194C-4C54-B2F7-6A900D28ED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anzianità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quisiti diritto -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voratori dipendenti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066680"/>
            <a:ext cx="874404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egge di riforma 335/95 (art.1, commi da 25 a 32) ha introdotto - per la pensione di anzianità - il requisito dell’età e ha stabilito nuovi termini di decorre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isionare tabelle C 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quisi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il 2003- 200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5 anni di assicurazione e di contribuzione (1820 contr.sett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7 anni di età (tab.C. all.alla L.449/97) per la generalità dei lav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no 2003: 55 anni di età (tab.B.all.alla L.335/95) per gli operai e i precoc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no 2004: 56 anni di età (tab. B all.alla L.335795) per gli operai e i preco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ndipendentemente dall’età, la maggiore anzianità contributiva di 37 anni per il 2003 e 38 per il 2004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di cui 35 di contribuzione effettiva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(tab.B e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oluzione del rapporto di lavoro (per i lavoratori dipenden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5960" y="1960560"/>
            <a:ext cx="1630440" cy="181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BFF0-C776-4500-8EC0-AE853E0C51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228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anzianità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quisiti diritto -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voratori dipend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5320" y="1515960"/>
            <a:ext cx="83631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ribuzione utile per il dirit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odi di lavoro; versamenti volontar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riscatto; da ricongiunzion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servizio militare; periodi di maternità (astensione obbligatoria e facoltativa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Cig e Cigs; di mobilità indennizz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 i lavoratori edili la contribuzione da trattamento speciale - è diventata utile per i periodi dal 1.1.2001 (art.78, c.22, L.388/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20080" y="14778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04160" y="1008000"/>
            <a:ext cx="1630440" cy="181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16AB-E6A6-4393-8DC3-4F06D3D85A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0" y="2808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anzianità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quisiti diritto -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voratori dipend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7600" y="2038320"/>
            <a:ext cx="86299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 il requisito della maggiore anzianità contributiva -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fatto salvo il requisito dei 35 anni di contributi effettivi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tilizzabile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tutta l’altra contribuzione figurativa (ds e malattia e in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ttenzion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verifica per l’accesso alla prima finestra utile occorre fare il calcolo sia con il doppio requisito di anzianità contributiva e di età che con il requisito della maggiore anzianità contributiva - considerando che - per le finestre di luglio e settembre occorre sempre anche il compimento dei 57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20F4-21D1-43EC-9EB0-9A1C4E76EF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044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4440" y="1619280"/>
            <a:ext cx="9334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imestre  requisiti                          Decorr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il 1° trim.                                1° luglio se 57 anni di 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il 2° trim.                                1° ottobre se 57 anni di 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il 3° trim.                                1° genn. dell’anno succes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il 4° trim.                                1° aprile dell’anno succes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 le finestre di luglio e ottobre, il 57° anno di età deve essere compiuto rispettivamente entro giugno ed entro settembre stesso anno, altrimenti la decorrenza si sposta al 1° gennaio dell’anno succes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0"/>
            <a:ext cx="12566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anzianità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ecorrenze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voratori dipen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48680" y="1076400"/>
            <a:ext cx="102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934400" y="482760"/>
            <a:ext cx="1915920" cy="180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1E4B-D8EC-4974-A665-187000FE29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0" y="-362160"/>
            <a:ext cx="864540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anzianità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voratori autonomi e/o lavoratori con contribuzione mista  - Requis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3040" y="1887480"/>
            <a:ext cx="85154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quisi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il 2002 - 200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5 anni di assicurazione e di contribuzione (1820 contr.sett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8 anni di età (dal 1° gennaio 200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ipendentemente dall’età, la maggiore anzianità contributiva di 40 a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è necessaria la cessazione dell’attività per i lavoratori autonomi, mentre per coloro che hanno una posizione mista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(art.1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L.233/90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necessaria la risoluzione del rapporto di lav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686800" y="1619280"/>
            <a:ext cx="66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935840" y="1293840"/>
            <a:ext cx="1879560" cy="1050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8600" y="82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136224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A6C7-A059-49E5-8022-C8407959B9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4480" y="-360"/>
            <a:ext cx="866448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anzianità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voratori autonomi e/o lavoratori con contribuzione mista  - Decorr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85760" y="1962000"/>
            <a:ext cx="83631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imestre requisiti                                   Decorr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1° trimestre                                     1° otto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2° trimestre                                     1° gennaio anno su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3° trimestre                                     1° aprile anno succes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 4° trimestre                                    1° luglio anno succes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Tutte le domande ( lav.dip.e aut.) per la pensione di anzianità devono essere presentate nel mese precedente a quello di decorrenza-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Documentazione uguale a quella per la Vecchia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95720" y="2714760"/>
            <a:ext cx="154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90960" y="2311560"/>
            <a:ext cx="1916280" cy="180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4009-431B-43D7-B95D-73D35FD42A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58880" y="-360"/>
            <a:ext cx="778824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Pensione di anzianità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 regime di cumulo art.72 - L.388/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1849320"/>
            <a:ext cx="895356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l’1.1.2001 la pensione di anzianità co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40 anni di contribu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teramente cumulabi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 i redditi derivanti da qualsiasi attività lavorativa, sia autonoma che dipend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pensione di anzianità con meno di 40 anni di contributi è interament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incumulabi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 la retribuzione da lavoro dipendente (anche la 13^mensilità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l’1.1.2001 la pensione di anzianità è tornata parzialmente  cumulabile con il reddito da lavoro autonomo (ininfluente fino al 31.12.199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ttenuta del 30% sull’eccedenza del T.M. e comunque non superiore al 30% del reddito ann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6280" y="628560"/>
            <a:ext cx="9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235080"/>
            <a:ext cx="1549440" cy="124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CBEF-C6DD-4A6D-8D60-FFA2BEE137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11160" y="318960"/>
            <a:ext cx="8645760" cy="1206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Pensione di anzianità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 regime di cum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360" y="1467000"/>
            <a:ext cx="9277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per verifica trattenu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orto pens. Anz. € 12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. T.M. 2003      €  402,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€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200,00 - 402,12 = € 797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0% di 797,88 = 239,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ttenuta comunque non superiore al 30% del redd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o mensile € 516,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0% di € 516,45 = € 154,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Trattenuta applicabile € 154,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4000" y="2038320"/>
            <a:ext cx="133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05680" y="1900080"/>
            <a:ext cx="192240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67AA-62A5-4887-A946-DF24199233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0" y="318960"/>
            <a:ext cx="8645400" cy="1206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Trattamenti pensionistici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stemi di cal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5320" y="1638360"/>
            <a:ext cx="87058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licazione de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stema contributiv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quelli assicurati dall’1.1.1996 e oltre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ttenzi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coloro che al 31.12.1995 aveva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no di 18 ann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 contribuzione e possono far valere 15 anni di contribuzione di cui 5 nel sistema contributivo (dall’1.1.1996 in poi) è possibil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opzione nel sistema contrib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sitività: anticipazione dell’età pensionabile a 57 anni (se si supera 1,20 importo 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gatività: non applicazione dell’integrazione al 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15400" y="2543040"/>
            <a:ext cx="571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763120" y="239076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839080" y="2390760"/>
            <a:ext cx="55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435880" y="2035080"/>
            <a:ext cx="1319400" cy="13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DD27-B133-407B-8320-4CFF9FC40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11160" y="509400"/>
            <a:ext cx="7769520" cy="1130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Pensione di anzianità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 regime di cumulo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44, c.1, L.289/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2080" y="2335320"/>
            <a:ext cx="7829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al 1° gennaio 200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i titolari di pensione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zianità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tutti i fondi o casse pensioni - posso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umula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otalmente le loro pensioni con i redditi da lavoro dipendente o autonomo………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momento d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correnz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a pensione hanno raggiunto - come minimo 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7 anni di contribuzione e 58 anni di 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05200" y="39434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52600"/>
            <a:ext cx="10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1549440" cy="12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5464-B69F-4AB5-86D3-532094B467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63440" y="1009440"/>
            <a:ext cx="820908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Pensione di anzianità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 regime di cumul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44, c.1, L.289/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629080"/>
            <a:ext cx="82677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1° gennaio 2003 - possono cumulare pensione e reddito da lavoro dipendente e auton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che i gi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nsionati di anzianità…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al momento della decorrenza della pensione - avevano un’anzianità contributiva pari o superiore a 37 anni e un’età pari o superiore a 58 a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040" y="45720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1549440" cy="1243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705200" y="39434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8683-8326-4FBB-938B-B1077DEE07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15720" y="0"/>
            <a:ext cx="7674120" cy="1225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Pensione di anzianità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- regime di cumulo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44, c.1, L.289/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744560"/>
            <a:ext cx="83818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tta cumulabilità viene accordata anche a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ià pensiona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 anzianità a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°dicembre 200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in regime di totale o parziale incumulabilità - qualora versi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ntro 3 mesi dall’iniz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ell’attività lavorativ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ll’ente erogat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30%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’importo della loro pensione al gennaio 2003 - a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etto del T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moltiplicato per la differenza tra la somma dei requisiti validi per l’accesso al cumulo (37+58=95) e la somma dei requisiti raggiunti al momento della decorrenza della propria pen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L’importo determinato deve essere maggiorato del 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57480" y="685800"/>
            <a:ext cx="169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1549440" cy="12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FC8B7-231C-42E8-8F69-7404DC4802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712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ssegno ordinario d’invalidità -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1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gge 222/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62080" y="939960"/>
            <a:ext cx="874404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quisi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anni di contributi versati (260 contr.sett.) di cui 3 nell’ultimo quinquennio (è utile tutta la contribuzione:sia eff. che figurativ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dita della capacità di lavoro, in occupazione confacente alla proprie attitudini, superiore a 2/3 (67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urata dell’asseg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ssegno d’invalidità è concesso per 3 anni, ed è rinnovabile a doma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po 3 riconoscimenti consecutivi, l’assegno è confermato (la revisione da parte dell’Istituto è sempre possib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La domanda di conferma deve essere presentata entro il semestre precedente la scadenza del trien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5400" cy="142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2097-B89A-4AF8-821E-76E8445D32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0" y="-419400"/>
            <a:ext cx="940932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ssegno ordinario d’invalid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 1-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gge 222/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629080"/>
            <a:ext cx="90486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compimento dell’età pensionabile (60 anni per la donna e 65 per l’uomo) l’assegno viene trasformato in pensione di vecchiaia, se risultano maturati i requisiti(20 anni di contributi settimanal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periodi di fruizione dell’Aoi, senza attività lavorativa o VV, sono considerati utili soltanto se al momento del compimento dell’età pensionabile l’interessato risulta titolare dell’assegno (ugualmente per la reversibilità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4440" y="466560"/>
            <a:ext cx="78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63520" y="571680"/>
            <a:ext cx="1403280" cy="20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FBB7-71C3-476D-AAD4-7ACE9D3B41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712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ssegno ordinario d’invalid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 1-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gge 222/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409680"/>
            <a:ext cx="64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760" y="0"/>
            <a:ext cx="1390680" cy="1989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428840" y="2114640"/>
            <a:ext cx="7277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 periodi di fruizione dell’assegno sono utili anche per la presentazione di domanda di Aoi in caso di revoca del medesim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oi non è reversibile - ma….. i periodi di fruizione concorrono al requisito x la reversibilità (15 anni di contributi o 5 anni di cui 3 nell’ultimo quinquenni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 contributi derivanti dalla sola fruizione dell’Aoi non sono mai utili per la misur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9847-05D9-4A12-BF2B-626F7FEB70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141092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ssegno ordinario d’invalid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1 -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gge 222/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960" y="1068480"/>
            <a:ext cx="918216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isura dell’asse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mporto dell’assegno è calcolato come qualsiasi altro trattamento pensionis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Se è inferiore al T.M. l’assegno è integrabile con l’importo dell’assegno sociale fino all’importo del T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imiti di reddito per l’integ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o singolo:2 volte l’ammontare annuo dell’assegno sociale, per l’anno 2004  € 9.567,2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o coniugale: 3 volte l’ammontare annuo dell’assegno sociale, per l’anno 2004 € 14.350,8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’integrazione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on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può essere parziale (il superamento dei limiti - anche di lieve entità - elimina il diritto all’integra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71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1680" y="0"/>
            <a:ext cx="871560" cy="12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C7F0-EDFA-4948-8D24-E7D599DF9C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9880" y="-400320"/>
            <a:ext cx="986616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ssegno ordinario d’invalid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1 -legge 222/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0280" y="1066680"/>
            <a:ext cx="91058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isura dell’assegno - Integrazion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dditi da consider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utti i redditi Irpef, compreso quello del TFR(e i redditi a tassazione separata),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ell’anno a cui si riferisce l’integ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dditi da esclud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asa di abitazi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mporto a calcolo dell’asseg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pensioni di guerra, e i sussidi dello S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’importo della pensione Vo derivante da Aoi non può essere inferiore a quello dell’asse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360" y="504720"/>
            <a:ext cx="43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1680" y="0"/>
            <a:ext cx="871560" cy="12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CE9C-C1E1-4787-AB41-7A4B2AA0E9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5840" y="-438480"/>
            <a:ext cx="973152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ssegno ordinario d’invalidità - Particolarit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1577880"/>
            <a:ext cx="8439120" cy="451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L’assegno ordinario d’invalidità è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compatibi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 la pensione d’invalidità civile parziale(tranne ciechi - sordomuti - inv.total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a)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L’Aoi è incumulabile con la rendita INAIL, se liquidata per lo stesso ev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b)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Se l’importo dell’assegno è superiore a quello della rendita INAIL, l’INPS eroga la differe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 L’assegno d’invalidità è erogato secondo i limiti di redditi stabiliti dalla legge 335/95, tabella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360" y="6192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1680" y="0"/>
            <a:ext cx="871560" cy="12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2F1A-919F-465A-820D-1F1823EED4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4480" y="-360"/>
            <a:ext cx="9428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ssegno ordinario d’invalid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pplicazione tabella G - (art.1, c.42, L.335/9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04800" y="1415880"/>
            <a:ext cx="834408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)Erogazione dell’assegno secondo la tabella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dditi d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voro                                       Perc. di ri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o inf. o pari a 4 volte il T.M.               Nessuna riduzione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o superiore a 4 volte il T.M.                25% di ri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o superiore a 5 volte il T.M.                50% di ri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 il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no a € 21.433,36 ---------------------nessuna tratten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 € 21.433,36 a € 26.791,70 -------25% tratten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€ 26.791,70------------------------50% di tratten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5840" y="762120"/>
            <a:ext cx="51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0760" y="706320"/>
            <a:ext cx="1225440" cy="22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130C-6EA4-434A-B25A-78463B7032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584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vecchiaia - Sistema retributivo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nzianità 18 anni di contr.al 31.12.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640" y="1733400"/>
            <a:ext cx="8667720" cy="49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ensione di vecchiai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- lavoratori dipenden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Dlgs.503/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quisi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imento de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nni per l’uomo, de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a donn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zianità assicurativa e contributiva d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nn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ess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 rapporto di lav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no al 31.12.1993 l’età pensionabile per i lav.dipendenti era fissata a 60 anni per gli uomini e a 55 anni per le donne. Il requisito contributivo fino al 31.12.1992 era di 15 anni di contributi. La cessazione del rapporto di lavoro non era obbligat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flipH="1">
            <a:off x="7808400" y="2349360"/>
            <a:ext cx="2364120" cy="23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7A33-5610-4B4B-850E-AED60D6786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58960" y="-324000"/>
            <a:ext cx="8588160" cy="1849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ssegno ordinario d’invalid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pplicazione tabella G - Norma di salvaguar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924200"/>
            <a:ext cx="83628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) individuare la fascia di reddito in cui collocare il titolare : trovare l’importo della pensione spettante - secondo percent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) confrontare tale cifra con l’importo che si ottiene sommando il limite della fascia precedente con l’importo della pensione in percentuale della fascia ste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) da tale somma detrarre l’importo dei redditi da lavo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Quello sarà l’importo della pensione che deve essere garant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7200" y="82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1680" y="230040"/>
            <a:ext cx="1035000" cy="18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2C1A-FEFE-4383-8B43-09259654868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7768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ssegno ordinario d’invalid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pplicazione tabella G - Norma di salvaguar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52560" y="1457280"/>
            <a:ext cx="9658440" cy="61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il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no a € 21.433,36 ---------------------nessuna tratten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 € 21.433,36 a € 26.791,70 -------25% tratten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€ 26.791,70------------------------50% di tratten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itolare di Aoi di € 13.000,00 annui e di reddito lav. di € 22.00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centuale di pensione spettante:75% = € 9.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mite fascia prec. € 21.433,36. + perc.Aoi 13.000 = € 34.433,3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€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34.433,36 - 22.000,00 (redd.da lav.) = € 12.433,36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orto pensione spet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200" y="289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1680" y="230040"/>
            <a:ext cx="1035000" cy="18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5283-FD60-405A-B9D9-C0EF0BF91D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0" y="24264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ssegno ordinario d’invalid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pplicazione tabella 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1670040"/>
            <a:ext cx="86868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dditi da valut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lavoro dipendente, autonomo, professionale, d’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lordo delle trattenute erariali e al netto dei contributi previdenziali e assistenzi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pplicazione ai trattamenti d’invalidità con decorrenza 1.9.1995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 trattamenti d’invalidità (legge 222/84) già in essere all’agosto 1995 - il loro importo rimane cristallizzato all’importo in essere a questa data - con riassorbimento sui futuri miglioram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tabella G non viene più applicata dalla data di trasformazione in pensione di vecchia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9ED0-F43A-475F-9584-79AF62B8F4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ssegno ordinario d’invalid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articolarità cum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4880" y="1305000"/>
            <a:ext cx="94680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riterio di cumulabilità è il segu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prima cosa viene applicato il comma 43 d’incumulabilità con la rendita INAIL;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uccessivamente applicazione della tab.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 il normale regime di cumulo applicabile a tutti i trattamenti, che dal 2001 (art.72, L.388/00) stabilisce: Nessuna trattenuta con anzianità contr.di 40 anni.Anzianità contributiva inferiore a 40 anni: trattenuta del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50%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’importo superiore al trattamento minimo per la retribuzione da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lavoro dipenden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e la trattenuta del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30%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’importo superiore al trattamento minimo per il reddito da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lavo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autonom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Trattenuta che comunque non può essere superiore al 30% del reddito da lavoro autono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essuna trattenut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Se retribuzione o reddito d’importo annuo inferiore al T.M. , lavoro a termine per non oltre 50 giornate anno solare, e a coloro che lavorano come operai agricoli o lavoratori domes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7720" y="62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239760"/>
            <a:ext cx="1068480" cy="85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6238-80A5-4F3C-8676-0979D42CEC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8228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Pensione d’inabilità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t.2 L.222/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680" y="2228760"/>
            <a:ext cx="933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95320" y="2324160"/>
            <a:ext cx="893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51040"/>
            <a:ext cx="97920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quisi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anni di contributi (260 contr.sett.), di cui 3 nell’ultimo quinquenn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ssoluta e permanente impossibilità a svolgere qualsiasi attività (100% d’invalidità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ttenzione!  L’attività lavorativa e i trattamenti sostitutivi della retribuzione sono causa ostativa all’erogazi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rogazione della pensione è condizionata alla cessazione di ogni attività lavorativa - compresa la cancellazione dagli elenchi dei CD/CM e dagli albi dei commercianti e artigia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la partecipazione - solo in capitale - ad una cooperativa può essere causa ostativa all’erog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1680" y="0"/>
            <a:ext cx="1347840" cy="19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436D-F934-4AA2-B5CD-F9D9EE28FB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712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Pensione d’inabilità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t.2 L.222/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6720" y="1487520"/>
            <a:ext cx="91440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 caso di aggravamento delle condizioni fisiche - il titolare di Aoi può presentare domanda di pensione d’inabilità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il requisito contributivo deve ritenersi automaticamente perfezion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- a seguito di revisione - risulta che l’interessato non può essere considerato inabile - la pensione viene revocata, ma se…..permane un’invalidità superiore a 2/3 ………viene attribuito l’Ao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clus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al diritto alla pensione d’inabilità i titolari di pensione d’invalidità con decorrenza anteriore al 1.8.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caso di recupero della capacità lavorativa,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periodo di fruizione della pensione d’inabilità è coperto da contribuzione figurativ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Non vi è copertura se la cessazione del diritto è dovuta ad altra ca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720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1680" y="0"/>
            <a:ext cx="110016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86C5-68A1-41C1-9708-F5A720B5C7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946656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Pensione d’inabilità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t.2 L.222/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85760" y="1428840"/>
            <a:ext cx="908712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is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pensione d’inabilità è calcolata sulla base dei contributi versati dall’assicurato, aumentati degli anni che mancano alla vecchia età pensionabile (differenza tra FPLD:60 e 55 anni e GgSs:65 e 60 ann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pensione d’inabilità è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compatibil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qualsiasi retribuzione o reddito o compenso, con l’iscrizione negli elenchi o albi profession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pensione d’inabilità è totalment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cumulabi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 la rendita INAIL (art.1, comma 43, L.335/9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Attenzi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A differenza dell’Aoi -  la pensione d’inabilità non si trasforma in Vo e l’incumulabilità rimane a vita e ….se l’assistito è titolare di rendita INAIL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360" y="619200"/>
            <a:ext cx="85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1680" y="0"/>
            <a:ext cx="1081080" cy="15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F2ED-523A-450F-90EA-5DFCAE0A71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3200" y="1423800"/>
            <a:ext cx="940932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segno privilegiato d’invalidità - pensione privilegiata d’inabil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 6 L.222/8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7160" y="2914560"/>
            <a:ext cx="8496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scritto all’AGO ha diritto all’Aoi o alla pensione d’inabilità - a prescindere dai requisiti richiesti, qua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) l’invalidità o l’inabilità risultino in rapporto causale con finalità di serviz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) dall’evento non derivi il diritto a rendita INAIL (o dalla Stato o altri Enti pubblic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i fatto - nel caso di specie - si ha l’erogazione della rendita IN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52360"/>
            <a:ext cx="2143080" cy="15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63E0-0DC0-4538-A66C-69DCED30BA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080" y="34272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ssegno mensile per assistenza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t.5 - legge 222/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640" y="2247840"/>
            <a:ext cx="85345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ssegno mensile per l’assistenza personale e continuativa , complementare alla pensione d’inabilità, viene riconosciuto al titolare di pensione d’inabilità qualora questi sia incapace di deambulare e di svolgere gli atti quotidiani della v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L’importo dell’assegno è inferiore a quello stabilito per inabilità civ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ssegno è incompatibile con quello erogato o dall’INAIL o per inv. Civ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9800" y="0"/>
            <a:ext cx="1509840" cy="21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8B36-4E3E-42A2-B6F5-6CB18DBE1C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3200" y="-2289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Trattamenti di reversibil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incipali n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743040"/>
            <a:ext cx="97156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leggi e le norme fondamentali della pensione ai supersti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.L.Lgt. 603/1919: assicurava unicamente un assegno temporaneo per 6 msi alla vedova e ai figli di età inferiore ai 15 a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.D.L. 636/1939: istituzione della pensione So ma solo a decorrere dal 1° gennaio 19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gge 218/1952: ha esteso la So ai genitori del dante causa in mancanza del coniuge e dei fig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gge 55/1958: estensione ai superstiti di assicurato con 15 anni di contributi - ma non raggiunta l’età pension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gge 903/1965: elevazione delle quote di pensione spettanti - introduzione della pensione privilegiata ai superst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gge 153/1969: estensione ai CD/CM le norme del FPLD, Legge 160/1975, Legge 903/1977 legge di par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9DE0-62C8-4924-9F63-979C351269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0" y="338040"/>
            <a:ext cx="8645400" cy="1206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vecchiaia - Sistema retributiv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ribuzione utile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905120"/>
            <a:ext cx="8839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 periodi di contribuzione ut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odi di lavo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odi di servizio militar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rsamenti volontar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odi di maternità (astensione obbligatoria e facoltativa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lattia e infortunio(nel 2002, valide 78 settimane); + 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odi di Cig e Ci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odi di mobil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15240" y="2666880"/>
            <a:ext cx="23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flipH="1">
            <a:off x="7085160" y="1625760"/>
            <a:ext cx="2363760" cy="23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BD57-C1CE-4421-8EAF-C13AE49450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3200" y="338040"/>
            <a:ext cx="864540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Trattamenti di reversibil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nsione di reversibilità e pensione indiret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5320" y="2390760"/>
            <a:ext cx="8782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pensione di reversibilità deriva dalla pensione del dante cau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pensione indiretta deriva dalla posizione assicurativa del dante ca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a pensione indiretta i requisiti so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5 anni di contribuzione o, in alternativa, 5 anni di contributi di cui 3 nell’ultimo quinquenn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normativa  è identica per le due prestazioni (una volta accertato il diritto alla pensione indiret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0040" y="0"/>
            <a:ext cx="1236960" cy="13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3054-D946-4B3A-852B-6F363590C1D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87520" y="-248040"/>
            <a:ext cx="868536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Trattamenti di reversibilità - Benefici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38400" y="1122480"/>
            <a:ext cx="84772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beneficiari - in ordine prioritario - so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l vedovo o la vedev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vedovo o la vedova divorziati, ma se titolari di assegno divorzile (il diritto non è in discussione se c’è solo separazion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li orfani minori di 18 anni o studenti fino a 19 anni per scuola media superiore e corso universitario - in pari- fino a 26 ann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orfani con età superiore a 18 anni inabili e a carico del dante causa;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i nipoti minori conviventi con i nonn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genitori con età superiore a 65 anni, senza pensione e a carico del defu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Times New Roman"/>
              </a:rPr>
              <a:t>i fratelli non coniugati, senza pensione, permanentemente </a:t>
            </a:r>
            <a:r>
              <a:rPr b="1" lang="it-IT" sz="2400" spc="-1" strike="noStrike">
                <a:solidFill>
                  <a:srgbClr val="009900"/>
                </a:solidFill>
                <a:latin typeface="Times New Roman"/>
              </a:rPr>
              <a:t>inabili </a:t>
            </a:r>
            <a:r>
              <a:rPr b="0" lang="it-IT" sz="2400" spc="-1" strike="noStrike">
                <a:solidFill>
                  <a:srgbClr val="009900"/>
                </a:solidFill>
                <a:latin typeface="Times New Roman"/>
              </a:rPr>
              <a:t>e a carico del defun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8480" cy="123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E81E-8CB7-4259-ABDF-FBF40D42412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77640" y="585720"/>
            <a:ext cx="8645400" cy="1206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Trattamenti di reversibilità - mis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57160" y="2000160"/>
            <a:ext cx="8534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rattamento di reversibilità viene erogato nella seguente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0% al coniug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70% all’orfano solo di entrambi i genitori (unicamente per So con decorrenza successiva all’8.8.9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0% a ciascun figli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in mancanza del coniu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0% a ciascun figlio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5% per genitore, fratello o so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quota massima - in presenza di + familiari rimasti- è il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640" y="695160"/>
            <a:ext cx="184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411120"/>
            <a:ext cx="1716120" cy="137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A975-C8BF-46BF-9605-8BD426227EE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4480" y="-360"/>
            <a:ext cx="866448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Trattamenti di reversibilità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rogazione tabella F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1, c.41, L.335/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9000" y="2030400"/>
            <a:ext cx="8515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cedentemente alla legge 335/95 per pensione reversibilità nessuna trattenuta / tranne le quote fisse (legge 160/75) in presenza di retribu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articolo 1, comma 41, legge 335/95 erogazione So correlata ai redditi persona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dditi personali                                Percentuale di ri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o superior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3 volte il T.M.        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o superiore a 4 volte il T.M.   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ddito superiore a 5 volte il T.M.        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8520" y="10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38080" y="1020600"/>
            <a:ext cx="1170000" cy="9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2CC4-8D26-4882-B24E-378D3A8930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89139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Trattamenti di reversibilità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rogazione tabella F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1, c.41, L.335/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5320" y="1797120"/>
            <a:ext cx="8991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 il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no € 16.075,02                                            nessuna tratten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€ 16.075,02  fino a € 21.433,36                25% tratten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€ 21.433,36  fino a € 26.791,70               40% tratten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ltre € 26.791,70                                           50% tratten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si applica la tabella - se nel nucleo vi sono figli contitolari So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gli con età inferiore a 18 anni, figli studenti (max.26 anni)- figli con età superiore a 18- in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1520" y="58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80880" y="514440"/>
            <a:ext cx="1106640" cy="8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2C7D-A2A3-46BD-B7B5-C6A57FE6BE0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9520" y="261720"/>
            <a:ext cx="8569080" cy="1587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Trattamenti di reversibilità - Applica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abella F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1, c.41, L.335/95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orma di salvaguar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3040" y="2019240"/>
            <a:ext cx="910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) individuare la fascia di reddito in cui collocare il titolare : trovare l’importo della pensione spettante - secondo percent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) confrontare tale cifra con l’importo che si ottiene sommando il limite della fascia precedente con l’importo della pensione in percentuale della fascia ste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) da tale somma detrarre l’importo dei redditi da lavo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Quello sarà l’importo della pensione che deve essere garant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80880"/>
            <a:ext cx="118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106640" cy="8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B3570-700B-4E52-96D6-C1F748E5FB1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4080" y="-343080"/>
            <a:ext cx="9028440" cy="1849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Trattamenti di reversibilità - Applica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abella F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1, c.41, L.335/95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orma di salvaguar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6280" y="1357200"/>
            <a:ext cx="895356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il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no € 16.075,02                                            nessuna tratten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 € 16.075,02  fino a € 21.433,36                25% tratten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a € 21.433,36  fino a € 26.791,70               40% tratten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oltre € 26.791,70                                           50% tratten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itolare So - importo di € 10.400,00 annui /  reddito personale €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centuale di pensione spettante: 60% = € 6.24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mite fascia prec. € 21.433,36 + perc.So 7.800 = € 29.233,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€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9.233,36- 22.000,00 = € 7.233,36 importo pensione So spett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C14B-1059-4C96-BEE6-3481FEAF667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4480" y="-304920"/>
            <a:ext cx="8645760" cy="1697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Trattamenti di reversibilità - Applica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tabella F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1, c.41, L.335/95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33480" y="1171440"/>
            <a:ext cx="88390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dditi da consider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utti i redditi assoggettabili ad Irpef, al netto dei contributi previdenziali e assistenzi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dditi da esclud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asa di abitazione, competenze arretrate a tassazione separata, l’importo delle altre pensioni di reversibil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pplicazione temporale della tabel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 tutti i trattamenti di reversibilità (tutti i fondi o casse di previdenza) dall’entrata in vigore della 335/95 per i trattamenti INPS dal 1.9.19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 trattamenti So con decorrenza precedente all’8.8.1995 - si ha la cristallizzazione dell’importo in essere a quella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0000" y="17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06640" cy="8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F1BE-0CFA-49AA-8DAB-22CB3EA3C9B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Trattamenti di reversibilità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umulabilità rendita IN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905120"/>
            <a:ext cx="971568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rticolo 1, comma 43 della legge 335/95 aveva stabilito l’incumulabilità tra la pensione So e la rendita INAIL derivanti da infortunio o malattia professio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opo anni di contenzioso legale, in buona parte positivo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rticolo 1 del DL.346/00 (decreto assorbito dalla Finanziaria per il 2001 - art.li 73 e 78, c.20, L.388/00), ha stabilit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cumulabilità tra trattamento di reversibilità con la rendita INAIL sia per infortunio che per malattia professionale dal 1° luglio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 il periodo settembre 1995/giugno 2000 rimangono incompatibili con le rendite INAIL ai superstiti le pensioni di reversibilità derivanti da pensioni di inabilità (Sentenze di Cassazione)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523800"/>
            <a:ext cx="85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06640" cy="8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874D7-87D1-49EC-BE6D-60D5AC97F0E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764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Indennità una tantum superstiti nel contributiv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decreto interministeriale  del 13.1.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486080"/>
            <a:ext cx="97920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ndennità una tantum spetta se non vi è il diritto alla pensione indiretta - a condizione 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) i superstiti non abbiano diritto a rendita INA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) i superstiti si devono trovare nella condizioni economiche previste per accedere all’assegno sociale  (reddito personale annuo per il 2003 = € 4.666,8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s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misura dell’una tantum è = all’importo dell’assegno sociale (2004: € 367,97) per il numero degli anni di contribuzione del dante ca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 i periodi inferiori all’anno il calcolo è in proporzione alle settimane coperte di contribuzion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79440" y="0"/>
            <a:ext cx="1373040" cy="137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C718-FA9C-483E-BAAA-634E8AE3F7B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8600" y="318960"/>
            <a:ext cx="8645400" cy="1206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vecchiaia -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iodo transitorio (art.1Dlgs.503/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5048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33480" y="1687680"/>
            <a:ext cx="716292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TA'   PER  LA  PENSIONE  DI  VECCHIA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OD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ETA' RICHIEST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OMINI        D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.1.1994  -  30.6.1995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5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.7.1995  -  31.12.199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57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.1.1997  -  30.6.1998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6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58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.7.1998  -  31.12.1999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 GENNAIO 2000 IN POI      65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60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421840" y="1355760"/>
            <a:ext cx="1382400" cy="19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0CC4-1E7A-4B0C-B582-5C332822D8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584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rattamenti di reversibilità - Principali ultime sent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066680"/>
            <a:ext cx="1017288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ntenza Corte Costituzionale n.42 del 25 febbraio 199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figli maggiorenni studenti che prestano attività lavorativa marginale non perdono il diritto alla pensione di reversi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ntenza Corte Costituzionale n.180 del 20 maggio 199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nipoti conviventi e a carico del dante causa sono equiparati ai figli legittimi o legittimati ai fini del diritto alla pensione di reversi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ntenza Corte Cassazione n.13460 dell’8.6.20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eriodo di convivenza “more uxorio” viene escluso nel criterio di attribuzione della misura della reversibilità, ma altre senten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7B97-442D-4DAC-9F62-EE8C4FE784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41320" y="76320"/>
            <a:ext cx="7128000" cy="667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7D00-B3D4-4F80-8E20-F0DE460EA89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upplementi e ricostituzioni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t.4 -legge 488/68 e art.7 - legge 155/19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4880" y="1295280"/>
            <a:ext cx="94680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 periodi di contribuzione effettiva e/o figurativa versata o accreditata successivamente alla decorrenza della pensione /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 determinano 2 fattispec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icostituzione della pens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 periodi con collocazione temporale precedente alla decorrenza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Riliquidazione del trattamento con erogazione degli arretrati della differenza d’importo dalla data di decorrenza della pen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Calcolo a seconda della collocazione temporale dei periodi detti: retributivo (antecedente al 1996); misto (prima e dopo il 31.12.1995); contributivo (successivamente al 31.12.1995)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ttenzione!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La ricostituzione può andare ad integrare l’integrazione al trattamento min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on vi sono termini di presentazione della do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305840" y="2192400"/>
            <a:ext cx="1457280" cy="89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F118-60E4-41F0-943E-E59E32F5DF9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82640" y="-286200"/>
            <a:ext cx="8626320" cy="1506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upplementi e ricostituzioni -</a:t>
            </a: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t.4 -legge 488/68 e art.7 - legge 155/19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6240" y="1200240"/>
            <a:ext cx="86677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upplemento di pens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 periodi con collocazione temporale successiva alla decor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Determinazione di detto periodo - secondo il sistema di calcolo  retributivo, misto o contributivo. Liquidazione di un supplement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ttenzione!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upplemento può andare ad integrare l’integrazione al trattamento mini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Liquidazione dal mese successivo alla domanda di supp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 domanda di supplemento deve essere inoltrata dopo 5 anni dalla decorrenza del trattamento o dalla data di decorrenza del precedente supple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na sola volta la domanda può essere inoltrata dopo 2 anni dalla decorrenza della pensione o dalla data del precedente supplemento - a condizione che sia stata compiuta l’età pensionabile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8528040" y="619200"/>
            <a:ext cx="1041480" cy="135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CDCA-BBD7-4C86-BE51-384B0A66965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0136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supplementare -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t.12 DPR 488/ 1968  e art.7- legge 155/1981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9000" y="1352520"/>
            <a:ext cx="89154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itolare di pensione a carico di forme di previdenza sostitutive, esclusive o esonerativ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INPDAP, fondi speciali, ecc..), a favore del quale siano stati versati contributi nel FPLD o nelle GgSs dei lavoratori autonomi (compresa la gestione separata dei co-co-co)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a dirit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lla liquidazione della pensione supplement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di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imento dell’età pensionabile richiesta in tale Fondo o Gest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riconoscimento d’invalid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pensione supplementare è reversibile secondo le normali n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ttenzione!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La pensione supplementare non è integrabile al T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 supplementare segue le norme di calcolo delle altre presta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164360" y="2913120"/>
            <a:ext cx="1160640" cy="101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C075-DEEA-4416-9E4E-8DD9575B165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01360" y="-360"/>
            <a:ext cx="8588520" cy="1468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rticolo 2-ter, legge 114/197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280" y="1390680"/>
            <a:ext cx="8648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titolare di pensione liquidata da una della Gestioni dei lavorator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utonom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a diritto a liquidare - ex novo e 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omanda -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il trattamento nel FPLD (invalidità, vecchiaia o anzianità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utilizzando la contribuzione versata in questo fondo sia prima che successivamente la decorrenza della pensione in essere, anche se già utilizzata per il raggiungimento del requisito contribu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La decorrenza del nuovo trattamento sarà dal mese successivo alla domanda, mentre il trattamento in essere verrà revoc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- I contributi della Gestione (relativi alla pensione revocata) daranno luogo ad un supplemento di pensione secondo le normali n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52920" y="2533680"/>
            <a:ext cx="685800" cy="6858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826F-0082-4A41-B3AA-36DA38124D3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9485280" cy="1892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vecchiaia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roghe all’innalzamento dell’età pensionabil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76240" y="1581120"/>
            <a:ext cx="86108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voratori non vedenti - tali dalla nascita o da data anteriore all’assicurazione (art.9, sub art.2 legge 218/5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PLD / età pens.55 anni uomo e 50 anni donna (10 anni di cont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gSs / età pens. 60 anni uomo e 55 anni donna (10 anni di cont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voratori non vedenti senza le suddette particolarit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PLD / età pens. 60 anni uomo e 55 anni donna (15 anni di cont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gSs / età pens. 65 anni uomo e 60 anni donna (15 anni di cont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Times New Roman"/>
              </a:rPr>
              <a:t>Lavoratori invalidi in misura non inferiore all’80% (art.1, c.8 Dlgs.503/9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799480" y="855720"/>
            <a:ext cx="1373400" cy="137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FFFC-6491-46D3-99BF-BDB8F56D88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0" y="24264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vecchiaia -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iodo transitorio (art.1Dlgs.503/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04840" y="1962000"/>
            <a:ext cx="85536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EQUISITI CONTRIBUTIVI RICHIEST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OD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CONTRIBUTI RICHIE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N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ETTIMA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MES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993 – 199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1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83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192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995 – 199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17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88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204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997 – 1998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18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93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21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999 – 200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19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988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2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ENNAIO 2001 IN POI      20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1.040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  240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667720" y="1676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421840" y="1355760"/>
            <a:ext cx="1382400" cy="19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7C34-4C69-462E-ADAB-5161CED7AD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0" y="24732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vecchiaia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roghe all’incremento contrib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2057400"/>
            <a:ext cx="8820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voratori derog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pendenti e autonomi con 15 anni di contributi (tutti) al 31.12.199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pendenti e autonomi ammessi alla VV in data ant. al 31.12.199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pendenti con anzianità assicurativa di 25 anni e occupati per almeno 10 anni con periodi di durata inf.a 52 sett. all’an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67720" y="1695600"/>
            <a:ext cx="1047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5960" y="1122480"/>
            <a:ext cx="1373400" cy="137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7E56-F49F-48F0-8D9A-00EF693227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64540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ensione di vecchiaia -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roghe all’incremento contribu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771560"/>
            <a:ext cx="75438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Requisito contributivo ridotto e personalizzato a norma dell’articolo 2, comma 3, lettera c) del D.lgs. 503/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pendenti con anzianità contributiva al 31.12.92 che incrementata dai periodi di  calendario dal 1.1.93 alla data di compimento dell'età pensionabile, non consentirebbe di raggiungere i nuovi requisiti assicurativi e contributivi (lett.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di modulo alleg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25000" y="1638360"/>
            <a:ext cx="110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265960" y="1122480"/>
            <a:ext cx="1373400" cy="137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FDB6-C31E-4CBA-9649-9E3A71994C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2T06:08:52Z</dcterms:created>
  <dc:creator>M. Bianchi</dc:creator>
  <dc:description/>
  <dc:language>en-US</dc:language>
  <cp:lastModifiedBy>.</cp:lastModifiedBy>
  <cp:lastPrinted>2004-06-25T08:36:16Z</cp:lastPrinted>
  <dcterms:modified xsi:type="dcterms:W3CDTF">2004-09-29T08:48:26Z</dcterms:modified>
  <cp:revision>330</cp:revision>
  <dc:subject/>
  <dc:title>LA CONTRIBUZIONE INPS</dc:title>
</cp:coreProperties>
</file>