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74288" cy="7239000"/>
  <p:notesSz cx="6858000" cy="9328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559F-7D3D-455A-B981-6ABFCDFEE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3200" y="435924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8812-0EE5-45CD-9D27-FE9CABBF3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336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D175-DEAF-4D7E-BBEB-414027A42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640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320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640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70AF-6291-4735-88A7-75AA0D821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C3C3-A4F5-4606-9879-F662D80CD9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6E41-71B9-404F-9D58-BF86EC8E9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14102-51D4-4697-93B7-D32C6B7F9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9F51-7EDE-44DC-8BE7-16E97E74A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3200" y="642600"/>
            <a:ext cx="8645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27DC-18ED-4249-89BF-C24C0CE2A6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E83D-5286-4AB2-8725-C765BE9A2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336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C589-3AD7-41C1-B1FE-1113699BC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C7E3-CC73-4335-9D89-3544F9568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6000"/>
          </a:bodyPr>
          <a:p>
            <a:pPr marL="357840" indent="-3578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8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3040" indent="-237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1480" indent="-2390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49640" y="6683400"/>
            <a:ext cx="2119320" cy="482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3CC95051-8F67-497B-9667-55EFCC8B2EF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677880" y="6595920"/>
            <a:ext cx="89866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73200" y="6651720"/>
            <a:ext cx="1364760" cy="589680"/>
            <a:chOff x="673200" y="6651720"/>
            <a:chExt cx="1364760" cy="589680"/>
          </a:xfrm>
        </p:grpSpPr>
        <p:sp>
          <p:nvSpPr>
            <p:cNvPr id="5" name=""/>
            <p:cNvSpPr/>
            <p:nvPr/>
          </p:nvSpPr>
          <p:spPr>
            <a:xfrm>
              <a:off x="1090080" y="6867360"/>
              <a:ext cx="947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atronato IN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CG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9800" y="6738840"/>
              <a:ext cx="433800" cy="453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0" bIns="0" anchor="b" anchorCtr="1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Garamond"/>
                </a:rPr>
                <a:t>C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3200" y="6651720"/>
              <a:ext cx="558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0" bIns="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Garamond"/>
                </a:rPr>
                <a:t>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9800" y="7175520"/>
              <a:ext cx="432360" cy="1728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0"/>
                  </a:moveTo>
                  <a:lnTo>
                    <a:pt x="0" y="12"/>
                  </a:lnTo>
                  <a:lnTo>
                    <a:pt x="248" y="12"/>
                  </a:lnTo>
                  <a:lnTo>
                    <a:pt x="2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9800" y="6746760"/>
              <a:ext cx="432360" cy="1764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0"/>
                  </a:moveTo>
                  <a:lnTo>
                    <a:pt x="0" y="12"/>
                  </a:lnTo>
                  <a:lnTo>
                    <a:pt x="248" y="12"/>
                  </a:lnTo>
                  <a:lnTo>
                    <a:pt x="2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06320" y="49500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nelle GgSs - CD/CM 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eggi n.1047/57 e n.233/9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28880" y="1276200"/>
            <a:ext cx="8839080" cy="48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crit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ltivatori diretti, mezzadri e coloni che abitualmente coltivano i fondi e allevano il besti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appartenenti al nucleo familiare se esercitano la medesima attività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imprenditori a titolo principale (2/3 del tempo lavorativo e 2/3 del reddito complessivo ricava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scrizione negli elench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Entro 90 giorni dall’inizio dell’attività presenta domanda per l’iscrizione e il pagamento dei contributi - Accertamenti da parte della Sede INPS di compe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507520" y="264960"/>
            <a:ext cx="1665360" cy="16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2AE4-F4FA-47A7-A840-64739D7E1F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360" y="24264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nelle GgSs - commerci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276200"/>
            <a:ext cx="81151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ale e massimale annuo - ai fini del versamento contrib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inimale annuo è dato dal minimale giornaliero degli operai del commercio X 312 (26g.x12m.). X il 2004 = a € 12.889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assimale annuo è dato dall’importo del tetto pensionabile (x il 2%) del FPLD - aumentato dei 2/3. X il 2004 = a € 63.138,00 (€ 37.883,00 + € 25.255,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iquota di versamento per il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7,39% per gli iscritti con + di 21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4,39% per gli iscritti con meno di 21 an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 € 7,49 per mater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18400" y="4246560"/>
            <a:ext cx="2135160" cy="213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2973-457F-49CE-9FF0-49CAA62D81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584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contribuzione nelle GgSs - minimali e massimali di contribu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640" y="1733400"/>
            <a:ext cx="91630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1.7.1990 sono stati introdotti (art.1, commi 3 e 4, legge 233/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mite minim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limite massim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imponibile ai fini contributivisia degli artigiani che dei commercia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limite minimo è = all’importo del minimale giornaliero degli operai settore artigianato e comm.moltiplicato x 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limite massimo è = all’importo del massimale annuo di retribuzione pensionabile annuo del FPLD aumentato dei 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di tabelle del manuale na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216A-ECE9-4981-A184-1559AC5FBB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4280" y="-360"/>
            <a:ext cx="866448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nelle GgSs - CD/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3400" y="971640"/>
            <a:ext cx="809640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1°luglio 1990 - con art. 7 della legge 233/90 - la contribuzione dei CD/CM  è rapportata al reddito di ogni lavora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ulla base del reddito aziendal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lo SCAU assegna l’azienda alle 4 fasce di reddito (tabella D)Il reddito medio convenzionale è determinato annualmente con decreto ministeri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seconda delle fasce viene convenzionalmente attribuito il  numero di giornate lavorative - utile a determinare il reddito annuo su cui versare l’aliquota di vers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l 2004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0,30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17,80% per gli iscr.con più o meno di 21 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7,30%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12,80% per gli iscr.con più o meno di 21 a. Territori montani o zone svantagg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 contr. addizionale = € 0,54 giornaliero+ contr.maternità = € 7,49 ann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194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0400" y="600120"/>
            <a:ext cx="85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3880" y="341280"/>
            <a:ext cx="1665360" cy="16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968A-8016-40E1-B71B-2DB6F46BEA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8080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nelle GgSs - CD/C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04840" y="1600200"/>
            <a:ext cx="72961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i fin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nsionistic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valida la contribu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ffettiva - da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olontaria - versamenti volon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gurativa - servizio militare, malattia, 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da riscatto -Corso legale di laurea + (periodo 57/61 - giornate inferiori a 104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 domanda entro il 31.12.1991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) - onere determinato criteri L.1338/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93000" y="1563840"/>
            <a:ext cx="1889280" cy="190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556B-EF91-479A-A906-4E846AE67A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136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nelle GgSs - CD/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7600" y="1009800"/>
            <a:ext cx="851544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i fini pensionistic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 il dirit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in base all’articolo 16 della legge 233/90 - la contribuzione versata nella gestione dei CD/CM è utile nelle altre gestioni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no al 31.12.1974  giornate assegnate / criterio ettaro-coltura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omini                156 gior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nne e ragazzi  104 giornate (dal 1° gennaio 1975 moltiplicate  diritto a pensione X coefficiente 1,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Dal 1.1.1975 al 30 giugno 1990: tutti 156 giornate x ann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determinare il numero delle settimane da totalizzare - le giornate da CD/CM devono essere divise per 3 (dopo eventuale riv.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35520" y="1922400"/>
            <a:ext cx="1041480" cy="104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A90A-71A9-42BD-A617-64BA1AFFFC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nelle GgSs - Artigi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596960"/>
            <a:ext cx="887724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crit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itolare d’impresa con carattere di professionalità e preval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miliari coadiuvanti (parenti ed affini entro il 3° gr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scrizione presso lo sportello polifunzionale dell’INPS o delle Camere di Commercio o dell’INAILvale per gli altri Enti - ma la validità dell’iscrizione spetta alle Commissioni Provinciali per l’Artigia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al 1° luglio 1990 - art.1 della legge 233/90 - la contribuzione degli artigiani è rapportata al reddito d’impresa dichiarato ai fini IRPEF relativo all’anno precedente - al lordo degli oneri deducibi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Attenzione! Dal 1.7.1990 sono stati istituiti un minimale e un massimale annui (vedi tabel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562960" y="663480"/>
            <a:ext cx="1279440" cy="12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BDA3-7AC3-45AD-9DCA-34C2C2FE52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nelle GgSs - Artigi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240" y="1295280"/>
            <a:ext cx="80964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imale e massimale annuo - ai fini del versamento contrib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inimale annuo è dato dal minimale giornaliero degli operai dell’artigianato X 312 (26g.x12m.). X il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200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 € 12.889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assimale annuo è dato dall’importo del tetto pensionabile (x il 2%) del FPLD - aumentato dei 2/3. X il 2004 =  € 63.138,00 (€ 37.883,00 tetto + 25.255,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iquota di versamento per il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7,00% per gli iscritti con + di 21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4,00% per gli iscritti con meno di 21 an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 € 7,49 per mater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378560" y="4338720"/>
            <a:ext cx="1979640" cy="200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2F96-5764-40AE-8319-F8CBD383C2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92320" y="395280"/>
            <a:ext cx="5997600" cy="116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nelle GgSs - Artigi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38360" y="2335320"/>
            <a:ext cx="75819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i fini pensionistici è valida la contribu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ffettiva - da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olontaria - versamenti volon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gurativa 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rvizio milita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malattia, 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riscatto -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rso legale di laurea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facoltà di riscatto non è consentita per i periodi precedenti l’obbligo assicurativo - e cioè prima del 1.1.19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11080" y="285840"/>
            <a:ext cx="18241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9F0D-965B-44A0-AA27-E8689C95B5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000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nelle GgSs - commerci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81200" y="906480"/>
            <a:ext cx="8038800" cy="74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scrit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itolari di attività commerciali e turistich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1° luglio 1990 le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ostetrich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esercitano la libera pr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loro che lavorano come </a:t>
            </a:r>
            <a:r>
              <a:rPr b="0" lang="it-IT" sz="2400" spc="-1" strike="noStrike">
                <a:solidFill>
                  <a:srgbClr val="00cc99"/>
                </a:solidFill>
                <a:latin typeface="Times New Roman"/>
              </a:rPr>
              <a:t>ausiliari del commerci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ome gli agenti e i rappresentanti, gli agenti aerei, gli agenti delle librerie delle stazioni,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1° gennaio 1997 - art.1, c.198, L.662/96 -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i Promotor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finanziar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oloro che svolgono attività di intermediazione mobili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scriz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- entro 30 giorni  dall’inizio dell’attività - presso lo sportello polifunzionale dell’INPS o delle Camere di Commercio o dell’INAIL vale per gli altri Enti - ma ...la validità dell’iscrizione spetta alla Camera di Com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799480" y="228600"/>
            <a:ext cx="1373400" cy="137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AC1B-9F41-43F5-B819-BD98B5DE4B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448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nelle GgSs - commerci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5760" y="17146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409760"/>
            <a:ext cx="803916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1° luglio 1990 - art.1 della legge 233/90 - la contribuzione degli artigiani è rapportata al reddito d’impresa dichiarato ai fini IRPEF relativo all’anno precedente - al lordo degli oneri deducibi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i fini pensionistici è valida la contribu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ffettiva - da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olontaria - versamenti volon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igurativa 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rvizio milita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malattia, 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 riscatto -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rso legale di laurea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facoltà di riscatto non è consentita per i periodi precedenti l’obbligo assicurativo - e cioè prima del 1.1.19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99280" y="2741760"/>
            <a:ext cx="2192400" cy="219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DD46-F90A-496F-8F91-A4FDD5D8A7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2T06:08:52Z</dcterms:created>
  <dc:creator>M. Bianchi</dc:creator>
  <dc:description/>
  <dc:language>en-US</dc:language>
  <cp:lastModifiedBy>.</cp:lastModifiedBy>
  <cp:lastPrinted>2004-06-25T08:36:16Z</cp:lastPrinted>
  <dcterms:modified xsi:type="dcterms:W3CDTF">2004-09-29T08:43:46Z</dcterms:modified>
  <cp:revision>330</cp:revision>
  <dc:subject/>
  <dc:title>LA CONTRIBUZIONE INPS</dc:title>
</cp:coreProperties>
</file>