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174288" cy="7239000"/>
  <p:notesSz cx="6858000" cy="9328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212B-ACE3-43CC-B2F8-22ADAB749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216A-BABD-427A-B195-D32D17ECF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019C-037A-4112-8EE0-000DE9DF9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640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209052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32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8640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4359240"/>
            <a:ext cx="278352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ED00-D498-4FDB-94F2-2DBCA8C48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101F-C1F0-4265-A588-10A8FDA55E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9ED8-0FAE-4F60-B9A2-60EC7A3CB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D671-AC81-4826-A4AF-A72AB37EB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2F0A-D56C-4320-8951-76034E15F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3200" y="642600"/>
            <a:ext cx="8645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4FC3-5638-476F-8BA2-66079010B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BAD2-13E8-4BC2-8D19-A45F114EE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3360" y="435924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7216-8AFA-49FA-AFC2-B8832FFF5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360" y="2090520"/>
            <a:ext cx="421884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3200" y="4359240"/>
            <a:ext cx="8645400" cy="2071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0777-A9AC-41B9-BF82-24E2CEFA1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0" y="6426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0" y="2090520"/>
            <a:ext cx="8645400" cy="434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6000"/>
          </a:bodyPr>
          <a:p>
            <a:pPr marL="357840" indent="-3578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8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3040" indent="-237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1480" indent="-2390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8840" indent="-2394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49640" y="6683400"/>
            <a:ext cx="2119320" cy="482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DBF1EFF3-A390-4E46-B1BD-3C372355BAB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677880" y="6595920"/>
            <a:ext cx="89866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73200" y="6651720"/>
            <a:ext cx="1364760" cy="589680"/>
            <a:chOff x="673200" y="6651720"/>
            <a:chExt cx="1364760" cy="589680"/>
          </a:xfrm>
        </p:grpSpPr>
        <p:sp>
          <p:nvSpPr>
            <p:cNvPr id="5" name=""/>
            <p:cNvSpPr/>
            <p:nvPr/>
          </p:nvSpPr>
          <p:spPr>
            <a:xfrm>
              <a:off x="1090080" y="6867360"/>
              <a:ext cx="94788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t">
              <a:spAutoFit/>
            </a:bodyPr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Patronato IN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Times New Roman"/>
                </a:rPr>
                <a:t>CG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39800" y="6738840"/>
              <a:ext cx="433800" cy="453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b" anchorCtr="1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Garamond"/>
                </a:rPr>
                <a:t>C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3200" y="6651720"/>
              <a:ext cx="558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360" rIns="108360" tIns="0" bIns="0" anchor="t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Garamond"/>
                </a:rPr>
                <a:t>I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39800" y="7175520"/>
              <a:ext cx="432360" cy="1728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9800" y="6746760"/>
              <a:ext cx="432360" cy="17640"/>
            </a:xfrm>
            <a:custGeom>
              <a:avLst/>
              <a:gdLst/>
              <a:ahLst/>
              <a:rect l="l" t="t" r="r" b="b"/>
              <a:pathLst>
                <a:path w="250" h="12">
                  <a:moveTo>
                    <a:pt x="0" y="0"/>
                  </a:moveTo>
                  <a:lnTo>
                    <a:pt x="0" y="12"/>
                  </a:lnTo>
                  <a:lnTo>
                    <a:pt x="248" y="12"/>
                  </a:lnTo>
                  <a:lnTo>
                    <a:pt x="2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16080" y="356760"/>
            <a:ext cx="7292880" cy="1111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e prime forme assicurative in It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714680"/>
            <a:ext cx="8991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gge 17 luglio 1898 n.350 - prima cassa pensioni a favore degli oper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creto legge 21 aprile 1919 n.603 - viene istituita l’assicurazione generale obbligatoria per l’invalidità e la vecchia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creto legge 19 ottobre 1919 n. 2214 viene istituita l’assicurazione contro la disoccup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 1927 viene istituita l’assicurazione obbligatoria contro la T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creto legge 4 ottobre 1935 n.1827 riunisce in un’unica legge le diverse normative ma…..senza sostanziali modifiche rispetto alle norme preced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3560" y="246240"/>
            <a:ext cx="1449720" cy="144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A7DE-40CA-43A8-9DE9-D84B685684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95320" y="0"/>
            <a:ext cx="344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SSICURAZIONE GENERALE OB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72440" y="399960"/>
            <a:ext cx="2019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.G.O.  = 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ICURAZIONE GENERALE OBG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IN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47880" y="1706400"/>
            <a:ext cx="659124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IV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devoluta alle gestioni pensioni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sono interessati tutti i fondi e le gestioni pensionistiche rientranti nella assicurazione generale obbligatoria “OB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ALTRA CONTRIBUZIONE</a:t>
            </a: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aliquote  aggiuntive I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prestazioni tempora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 flipH="1">
            <a:off x="7108560" y="3521160"/>
            <a:ext cx="1547640" cy="29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46F0-F099-41F5-A3BF-0D4E2635EF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76240" y="800280"/>
            <a:ext cx="78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CONTRIBUZIONE  FP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43280"/>
            <a:ext cx="8572680" cy="48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OBBLIGATORIA :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Footlight MT Light"/>
              </a:rPr>
              <a:t>DERIVANTE DA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FIGURATIVA : </a:t>
            </a:r>
            <a:r>
              <a:rPr b="0" lang="it-IT" sz="2400" spc="-1" strike="noStrike">
                <a:solidFill>
                  <a:srgbClr val="000000"/>
                </a:solidFill>
                <a:latin typeface="Footlight MT Light"/>
              </a:rPr>
              <a:t>PERIODI SOSTITUTIVI DEL LAVORO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VOLONTARIA : </a:t>
            </a:r>
            <a:r>
              <a:rPr b="0" lang="it-IT" sz="2400" spc="-1" strike="noStrike">
                <a:solidFill>
                  <a:srgbClr val="000000"/>
                </a:solidFill>
                <a:latin typeface="Footlight MT Light"/>
              </a:rPr>
              <a:t>VERSATA IN PROPRIO</a:t>
            </a:r>
            <a:r>
              <a:rPr b="1" lang="it-IT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A  RISCATTO :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UREA o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IODI LAVORATIVI PRESCRITTI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A RICONGIUNZIONE 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IODI CONTRIBUTI ALTRO 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ESTERA 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IODI DI LAVORO ALL’EST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61360" y="322200"/>
            <a:ext cx="1373040" cy="137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8720-8016-473B-A74F-114172EC17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1800" y="0"/>
            <a:ext cx="92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 FP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808200"/>
            <a:ext cx="4305600" cy="63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ssicurazione I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Arial Narrow"/>
              </a:rPr>
              <a:t>diritto a p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ssicurazione T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 Narrow"/>
              </a:rPr>
              <a:t>diritto a prestazioni economiche per T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ssicurazione 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 Narrow"/>
              </a:rPr>
              <a:t>diritto alla indennita’ di disoccupazione e mobil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ssicurazione CUA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 Narrow"/>
              </a:rPr>
              <a:t>diritto ai trattamenti di famig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ssicurazione CI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 Narrow"/>
              </a:rPr>
              <a:t>diritto alla cassa integrazione guadag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assicurazione MAL.M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 Narrow"/>
              </a:rPr>
              <a:t>diritto alla indennita’ di malattia e matern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flipH="1" rot="10800000">
            <a:off x="6599160" y="1095120"/>
            <a:ext cx="3556080" cy="359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FBF5-E0FE-4327-810E-2821AEF3D1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61760" y="1546200"/>
            <a:ext cx="67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TRIBUZIONE SOGGETTA A CONTRIB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91200" y="2371680"/>
            <a:ext cx="2549520" cy="1579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28880" y="247680"/>
            <a:ext cx="828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52440"/>
            <a:ext cx="7067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 FP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280" y="2495520"/>
            <a:ext cx="42670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utto ciò che il lavoratore riceve dal datore di lavoro in denaro o in natura - al lordo di qualsiasi trattenuta - in dipendenza del rapporto di lavoro (art.12, L.153/69 e art.2, c.15, L.335/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5514-64F2-4D3D-B243-6BA9CE21AB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0440" y="-343080"/>
            <a:ext cx="8645400" cy="1206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 FP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040" y="952560"/>
            <a:ext cx="975384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no escluse dalla retribuzione imponibile le somme corrisposte al lavoratore a tito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diaria o di indennità di trasferta in cifra fissa - al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rimborsi a piè di 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indennità di anzia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indennità di ca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gratificazione “una tantum” a titolo di libera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indennità per i marittimi a terra, in sostituzione del trattamento di bordo - al 60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borse di studio per i figli dei dipen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spese sostenute dal datore di lavoro per assicurazioni dipendenti, asili nido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56440" y="2379600"/>
            <a:ext cx="1373400" cy="137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1687-C086-4059-B0D9-46C8548EA9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A CONTRIBUZIONE  FP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047600"/>
            <a:ext cx="9410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INO AL 30.6.74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ROM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Tessera con marche (Mod.O1)  </a:t>
            </a:r>
            <a:r>
              <a:rPr b="0" i="1" lang="it-IT" sz="2400" spc="-1" strike="noStrike">
                <a:solidFill>
                  <a:srgbClr val="990033"/>
                </a:solidFill>
                <a:latin typeface="Times New Roman"/>
              </a:rPr>
              <a:t>Versata</a:t>
            </a:r>
            <a:r>
              <a:rPr b="1" i="1" lang="it-IT" sz="2400" spc="-1" strike="noStrike">
                <a:solidFill>
                  <a:srgbClr val="990033"/>
                </a:solidFill>
                <a:latin typeface="Times New Roman"/>
              </a:rPr>
              <a:t> all’inps e contabilizzata sul libretto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52760" y="2381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scheda4" descr=""/>
          <p:cNvPicPr/>
          <p:nvPr/>
        </p:nvPicPr>
        <p:blipFill>
          <a:blip r:embed="rId1"/>
          <a:stretch/>
        </p:blipFill>
        <p:spPr>
          <a:xfrm>
            <a:off x="3048120" y="2076480"/>
            <a:ext cx="380052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47B2-6247-40E3-8BFA-D99038FFDB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69520" y="-360"/>
            <a:ext cx="870300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pplicazione delle marche assicu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28880" y="1687680"/>
            <a:ext cx="8515080" cy="53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Alla fine del periodo di paga il datore di lavoro applicava sulla tessera la </a:t>
            </a:r>
            <a:r>
              <a:rPr b="1" i="1" lang="it-IT" sz="1900" spc="-1" strike="noStrike" u="sng">
                <a:solidFill>
                  <a:srgbClr val="000000"/>
                </a:solidFill>
                <a:uFillTx/>
                <a:latin typeface="Times New Roman"/>
              </a:rPr>
              <a:t>marca assicurativa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(mensile o settimanale) acquistat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Provvedeva poi ad annullarla apponendo sulla medesima la data del periodo di paga cui si riferiv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Il taglio della marca da applicare veniva individuato in relazione alla fascia retributiva in cui si collocava l’imponibile previdenzia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8080"/>
                </a:solidFill>
                <a:latin typeface="Times New Roman"/>
              </a:rPr>
              <a:t>Le marche assicurative, applicate sulla tessera e regolarmente annullate, costituivano e costituiscono la prova dell’avvenu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8080"/>
                </a:solidFill>
                <a:latin typeface="Times New Roman"/>
              </a:rPr>
              <a:t>versamento dei contrib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5280" y="264960"/>
            <a:ext cx="1373040" cy="137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0A12-1D08-46F3-AC10-A41475D398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864576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pplicazione delle marche assicur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00240" y="1581120"/>
            <a:ext cx="767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arche1" descr=""/>
          <p:cNvPicPr/>
          <p:nvPr/>
        </p:nvPicPr>
        <p:blipFill>
          <a:blip r:embed="rId1"/>
          <a:stretch/>
        </p:blipFill>
        <p:spPr>
          <a:xfrm>
            <a:off x="3562200" y="857160"/>
            <a:ext cx="4102200" cy="6096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81160" y="1028880"/>
            <a:ext cx="1200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ndo la tessera era completa di marche o al momento del licenziamento - la tessera veniva versata all’INPS con mod.O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5905-095D-4D81-98F0-D40F1B23CD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0" y="28080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Modello 03 - modulo di versamento tess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1486080"/>
            <a:ext cx="866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Questo modello veniva usato per la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riconsegna della tessera assicurativ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ra compilato in duplice copia: una copia restava all’INPS, l’altra era consegnata per ricevuta all’assicurato o al datore di lav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32004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scheda2" descr=""/>
          <p:cNvPicPr/>
          <p:nvPr/>
        </p:nvPicPr>
        <p:blipFill>
          <a:blip r:embed="rId1"/>
          <a:stretch/>
        </p:blipFill>
        <p:spPr>
          <a:xfrm>
            <a:off x="3041640" y="2509920"/>
            <a:ext cx="5981760" cy="4049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09480" y="3143160"/>
            <a:ext cx="190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l momento del ritiro della tessera assicurativa l’INPS apponeva sul mod. O.3 il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numero progressivo di ricevuta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la data di ric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969B-1283-4DC0-AE6A-B43367F819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Modello 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1120" y="2362320"/>
            <a:ext cx="767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cheda1" descr=""/>
          <p:cNvPicPr/>
          <p:nvPr/>
        </p:nvPicPr>
        <p:blipFill>
          <a:blip r:embed="rId1"/>
          <a:stretch/>
        </p:blipFill>
        <p:spPr>
          <a:xfrm>
            <a:off x="1257480" y="1690560"/>
            <a:ext cx="7162560" cy="41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32B9-8E37-4DD8-AD47-5BC691E124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2280" y="26172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it-IT" sz="3900" spc="-1" strike="noStrike">
                <a:solidFill>
                  <a:srgbClr val="000000"/>
                </a:solidFill>
                <a:latin typeface="Arial"/>
              </a:rPr>
              <a:t>LA CONTRIBUZIONE INP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95600" y="14670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57480" y="1295280"/>
            <a:ext cx="847692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SOGG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639880"/>
            <a:ext cx="293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NTE ASSICUR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          “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INP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29440" y="2781360"/>
            <a:ext cx="281916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SSIC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IL DATORE DI LAVOR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71760" y="3821040"/>
            <a:ext cx="346716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a50021"/>
                </a:solidFill>
                <a:latin typeface="Arial"/>
              </a:rPr>
              <a:t>L’ASSICU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a50021"/>
                </a:solidFill>
                <a:latin typeface="Arial"/>
              </a:rPr>
              <a:t>  “</a:t>
            </a:r>
            <a:r>
              <a:rPr b="1" lang="it-IT" sz="1600" spc="-1" strike="noStrike">
                <a:solidFill>
                  <a:srgbClr val="a50021"/>
                </a:solidFill>
                <a:latin typeface="Arial"/>
              </a:rPr>
              <a:t>IL LAVORATOR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743200" y="1836720"/>
            <a:ext cx="1155600" cy="59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1480" y="1711440"/>
            <a:ext cx="1096920" cy="89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41920" y="1744560"/>
            <a:ext cx="12600" cy="14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62080" y="5372280"/>
            <a:ext cx="9010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TA’ MINIMA RICHIESTA in base alla legge 977/67: tutela dei fanciulli e degli adolescent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5 A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4 ANNI per lavoro domestico, agricolo, attività  non  dipen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DD9A-C6F2-4264-B97E-2C7FF54F30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82640" y="-360"/>
            <a:ext cx="8626320" cy="1506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libretto personale (Mod. O1b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1520" y="1523880"/>
            <a:ext cx="268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tabella2" descr=""/>
          <p:cNvPicPr/>
          <p:nvPr/>
        </p:nvPicPr>
        <p:blipFill>
          <a:blip r:embed="rId1"/>
          <a:stretch/>
        </p:blipFill>
        <p:spPr>
          <a:xfrm>
            <a:off x="3505320" y="990720"/>
            <a:ext cx="5699160" cy="6248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71640" y="1619280"/>
            <a:ext cx="2057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8080"/>
                </a:solidFill>
                <a:latin typeface="Arial"/>
              </a:rPr>
              <a:t>Era intestato al lavoratore e doveva essere conservato dallo stesso per il controllo della propria situazione contribu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90CB-9798-46EC-B158-921377F43A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SSICURAZIONE  GENERALE  OBBLIG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295280"/>
            <a:ext cx="88963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rticolo 3 del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.L. 14 aprile 1939, n.63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ottopone all’obbligo assicurativo le persone di ambo i sessi (di tutte le nazionalità) che prestano la loro opera retribuita presso terz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I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a tubercolo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a disoccup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a nuzialità e la natalità (ENAOL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obbligo assicurativo iniziava dai 14 anni e cessava al compimento dell’età pensiona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Dal 1° maggio 1952 (L.218/52) l’obbligo assicurativo è stato esteso anche a coloro che lavorano successivamente al pens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94160" y="2664000"/>
            <a:ext cx="223992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547A-A142-40DD-A9C8-3353F38BEC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76280" y="0"/>
            <a:ext cx="101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SSICURAZIONE  GENERALE  OBBLIG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880" y="798480"/>
            <a:ext cx="8629560" cy="80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NDO PENSIONI LAVORATORI DIPENDENTI =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PLD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iene istituito dall’art.29 della legge 153/69 come fusione dell’IVS e del Fondo di adegu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ono iscritti al FP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lavoratori dipen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ollaboratori domes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salariati fissi dell’agrico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soci di società e di cooperative (DPR 602/7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detti alla piccola pesca (L.250/5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lavoratori dei pubblici servizi di trasporto (Dlgs.414/96,) - i dipendenti dell’ENEL, della Telefonia e del Volo(dopo la soppr.dei Fond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34000" y="1987560"/>
            <a:ext cx="1505160" cy="151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871E-5214-4241-8D62-A78C5BE572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SSICURAZIONE  GENERALE  OBBLIG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1305000"/>
            <a:ext cx="80200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SPECIALE LAVORATORI AUTONOMI = GG.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no iscritti alle GG.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oltivatori diretti e i mezzadri CD/CM -   legge1047/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artigiani                                             -   legge 463/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ommercianti                                        -   legge 613/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leggi suddette sono state riformate dalla legge 2 agosto 1990 - n.2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 lavoratori parasubordinati e i liberi professionisti, dal 1° aprile 1996 in base agli articoli da 25 a 32, legge 335/95  (Gestione separata delle GG.S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67840" y="1467000"/>
            <a:ext cx="1466640" cy="139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D4B9-18F8-4256-8C2A-CB57437271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2160" y="242640"/>
            <a:ext cx="8150400" cy="1339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Forme sostitutive dell’A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38400" y="2457360"/>
            <a:ext cx="86486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ndo di previdenza del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ler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Gestione IN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ndo di previdenza del personale del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mposte di Consum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Gestione IN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PDA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Fondo di previdenza per i Dirigenti di Aziende Industriali- fino al 31.12.2002 - attualmente presso l’INPS dall’1.1.2003 in base art.42, L.289/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PG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Fondo di previdenza dei giornalisti italiani “G.Amendol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NPALS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ndo di previdenza per i lavoratori dello spettac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15440" y="9334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5760" y="360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5AFF-F32A-4796-960A-AC1BCACDC3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9520" y="-360"/>
            <a:ext cx="8569080" cy="184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Fondi integrativi dell’A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3040" y="1409760"/>
            <a:ext cx="859140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ndi IN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n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attor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l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nasarc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i rappresentanti di com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tri fondi per dipendenti del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anche e Assicur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2362320"/>
            <a:ext cx="112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418440" y="1979640"/>
            <a:ext cx="19443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74A7-B8BE-4A23-96F2-072C4172DF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4600" y="-360"/>
            <a:ext cx="8645400" cy="1206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Forme esclusive dell’A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57160" y="1324080"/>
            <a:ext cx="849636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INPDA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he riunisce 4 cas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PD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assa pensioni Enti Locali (R.D.L. 680/19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P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Cassa pensioni sanitari (L.1035/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P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Cassa pensioni insegnanti di asilo e parificate (L.176/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PUG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assa pensioni ufficiali giudiziari (L.2312/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ambito dell’INPDAP è costituita la cassa dei trattamenti pensionistici dipendenti dello S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POS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dal 1° agosto 1994 sono iscritti i dipendenti dell’Ente Po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ndo speciale presso l’INPS per i dipendenti del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rrovie dell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Stat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art.43, L.488/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61360" y="493560"/>
            <a:ext cx="1373040" cy="137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AC3A-EF01-4748-ADCE-6C598A2EE9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9080" y="0"/>
            <a:ext cx="8645400" cy="15876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asse previdenziali Liberi Professionis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09800" y="1695600"/>
            <a:ext cx="85532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PA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ED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PA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STETRICHE – soppresso 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PA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TERIN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NPAF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RMAC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N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NP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VVOCATI E PROCU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NP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GEGNERI E ARCHIT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NP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OME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PEDIZIONIERI DOGA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NP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AGION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RLAMEN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56480" y="1351080"/>
            <a:ext cx="2173320" cy="21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3434-C831-42F0-9530-9EBCA1B91A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2T06:08:52Z</dcterms:created>
  <dc:creator>M. Bianchi</dc:creator>
  <dc:description/>
  <dc:language>en-US</dc:language>
  <cp:lastModifiedBy>.</cp:lastModifiedBy>
  <cp:lastPrinted>2004-06-25T08:36:16Z</cp:lastPrinted>
  <dcterms:modified xsi:type="dcterms:W3CDTF">2004-09-29T08:40:39Z</dcterms:modified>
  <cp:revision>330</cp:revision>
  <dc:subject/>
  <dc:title>LA CONTRIBUZIONE INPS</dc:title>
</cp:coreProperties>
</file>