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174288" cy="7239000"/>
  <p:notesSz cx="6858000" cy="9328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E0E6-270D-4035-A567-7306E4F77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864540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3200" y="4359240"/>
            <a:ext cx="864540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6CBB-2E09-429C-9C31-497140280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320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336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06EE-B990-4F69-A43F-A5B65952C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6400" y="209052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209052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3200" y="435924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86400" y="435924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435924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0A15-F689-4B09-90F0-50AB3D8B26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3200" y="2090520"/>
            <a:ext cx="8645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B745A-7124-47F3-BA89-CC91B986AB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864540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86A6-D347-4B7C-B6B9-1AB600B82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CFE2-7164-44F7-9EC7-8D396CF38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35D1-4F8C-49D1-9E3A-35540B487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3200" y="642600"/>
            <a:ext cx="8645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24FB-7681-44B0-B92E-6A477169F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320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8CBE-643F-43F1-90F4-16D33013E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336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C65B-4250-4A3D-8FE9-4D3A78DC9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3200" y="4359240"/>
            <a:ext cx="864540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D6BD-5957-41ED-8875-547960A26E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0" y="2090520"/>
            <a:ext cx="864540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6000"/>
          </a:bodyPr>
          <a:p>
            <a:pPr marL="357840" indent="-3578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8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3040" indent="-237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1480" indent="-2390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8840" indent="-2394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8840" indent="-2394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8840" indent="-2394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49640" y="6683400"/>
            <a:ext cx="2119320" cy="482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AC235B90-E5AB-405D-9FF1-A1832E294C4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677880" y="6595920"/>
            <a:ext cx="89866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73200" y="6651720"/>
            <a:ext cx="1364760" cy="589680"/>
            <a:chOff x="673200" y="6651720"/>
            <a:chExt cx="1364760" cy="589680"/>
          </a:xfrm>
        </p:grpSpPr>
        <p:sp>
          <p:nvSpPr>
            <p:cNvPr id="5" name=""/>
            <p:cNvSpPr/>
            <p:nvPr/>
          </p:nvSpPr>
          <p:spPr>
            <a:xfrm>
              <a:off x="1090080" y="6867360"/>
              <a:ext cx="9478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atronato IN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CG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39800" y="6738840"/>
              <a:ext cx="433800" cy="453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0" bIns="0" anchor="b" anchorCtr="1">
              <a:no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Garamond"/>
                </a:rPr>
                <a:t>C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3200" y="6651720"/>
              <a:ext cx="558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0" bIns="0" anchor="t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Garamond"/>
                </a:rPr>
                <a:t>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9800" y="7175520"/>
              <a:ext cx="432360" cy="17280"/>
            </a:xfrm>
            <a:custGeom>
              <a:avLst/>
              <a:gdLst/>
              <a:ahLst/>
              <a:rect l="l" t="t" r="r" b="b"/>
              <a:pathLst>
                <a:path w="250" h="12">
                  <a:moveTo>
                    <a:pt x="0" y="0"/>
                  </a:moveTo>
                  <a:lnTo>
                    <a:pt x="0" y="12"/>
                  </a:lnTo>
                  <a:lnTo>
                    <a:pt x="248" y="12"/>
                  </a:lnTo>
                  <a:lnTo>
                    <a:pt x="2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9800" y="6746760"/>
              <a:ext cx="432360" cy="17640"/>
            </a:xfrm>
            <a:custGeom>
              <a:avLst/>
              <a:gdLst/>
              <a:ahLst/>
              <a:rect l="l" t="t" r="r" b="b"/>
              <a:pathLst>
                <a:path w="250" h="12">
                  <a:moveTo>
                    <a:pt x="0" y="0"/>
                  </a:moveTo>
                  <a:lnTo>
                    <a:pt x="0" y="12"/>
                  </a:lnTo>
                  <a:lnTo>
                    <a:pt x="248" y="12"/>
                  </a:lnTo>
                  <a:lnTo>
                    <a:pt x="2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0" y="26172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egime di cumulo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rt.10 del Dlgs.503 e norme successive - regime retribu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695600"/>
            <a:ext cx="94676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Per verificare il regime di cumulo da applicare ad un trattamento pensionistico occorre tener pres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) il tipo di pensione: vecchiaia, anzianità, invalidità, superstit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) l’età del pensionato per il titolare di anzianità e d’invalidità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) il numero dei contributi al momento della decorrenza della pensione e quelli eventualmente successivi per pensione anzianità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) il tipo di reddito e di attività del pension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5) Attenzione! L’attività svolta all’estero è equiparata al lavoro svolto in Italia (L.407/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306A-0690-45ED-B520-125DEA3273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egime di cumulo - pensione di vecchiaia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rt.72, L.388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3080" y="2209680"/>
            <a:ext cx="9582120" cy="35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gime di cumulo -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ttu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al 1° gennaio del 2001(art.72, L.388/2000) la pensione di vecchiaia è interamente cumulabile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sia con la retribuzione da lavoro dipend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sia con il reddito da lavoro auton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489800" y="984240"/>
            <a:ext cx="1967040" cy="18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E55F-35A9-41E8-A858-24FD1A6405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egime di cumulo - pensione di vecchiaia -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rt. 10, Dlgs.503/1992 e art.11, L.537/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4440" y="1616040"/>
            <a:ext cx="921996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ima del 2001…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articolo 10 del Dlgs. 503/92 ha stabilito norme generali  - uguali per tutti gli ordinamenti e ha introdotto la rilevanza del reddito da lavoro autono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base all’articolo 11, c.9, legge 537/1993 - per i titolari di pensioni di vecchiaia con dec.entro il 31.12.1994 e per coloro che entro tale data avevano raggiunto il requisito - cumulo totale della pensione con il reddito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a lavoro autonom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mentre con la retribuzione da lavoro dipendente trattenuta = al 50% dell’eccedenza del trattamento minimo, fino a concorrenza del reddito stes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all’1.1.1995 la trattenuta sulla pensione  di vecchiaia era del 50% dell’eccedenza del trattamento minimo sia per retribuzione da lavoro dipendente che da reddito da lavoro autono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897760" y="299880"/>
            <a:ext cx="1275120" cy="12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C8AF-35EE-43D9-9396-3A36049AE0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6760" y="-360"/>
            <a:ext cx="86457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egime di cumulo - pensione di vecchiaia -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rt. 10, Dlgs.503/1992 e art.11, L.537/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000160"/>
            <a:ext cx="9105840" cy="41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roghe -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rt.10, commi 2 e 5 Dlgs.503/9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nsionati che lavorano a tempo determinato per non + di 50 giornate all’ann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nsionati con reddito annuo sia da attività dipendente che autonoma inferiore o pari al T.M. (al netto dei trattamenti di famiglia e dei contributi previdenziali e assistenzial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nsionati occupati in attività socialmente utili promosse da pubbliche istituzion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nsionati che lavorano come operai agricoli o come collaboratori domestic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nsionati che svolgono la funzione di giudici di pace (per queste indennità) - o occupati prima del 1.2 1991 come agenti non di ruolo presso le Comunità Europe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91600" y="585720"/>
            <a:ext cx="1274760" cy="12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2BA6-FD23-4247-B4AA-E36C4B0C0C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06320" y="-360"/>
            <a:ext cx="86457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egime di cumulo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ssegno ordinario d’invalidità - art.72, L.388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495440"/>
            <a:ext cx="908712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gime di cumulo -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t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 1° gennaio 2001 l’art.72, L.388/00 stabilis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40 anni di anzianità contributiva acquisita anche con supplementi / nessuna trattenuta - né con retribuzione né con reddito da lavoro auton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anzianità contributiv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feriore a 40 ann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Retribuzione da lavoro dip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ttenuta del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50%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ll’importo eccedente il trattamento mi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016760" y="1066680"/>
            <a:ext cx="2386080" cy="184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4477-028C-4F97-920C-1FC0B4DE8F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egime di cumulo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ssegno ordinario d’invalidità - art.72, L.388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3480" y="1981080"/>
            <a:ext cx="8400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zianità contributiv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feriore a 40 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dditi da lavoro auton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ttenuta del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30%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ll’importo superiore al trattamento mini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rattenuta che comunque non può essere superiore al 30% del reddito da lavoro autono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88080" y="1962000"/>
            <a:ext cx="1719360" cy="13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FD45-A8A3-4BCB-965A-65B91E05F5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egime di cumulo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ssegno ordinario d’invalidità - art.72, L.388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09800" y="1981080"/>
            <a:ext cx="8343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dditi da lavoro auton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ttenuta del 30% della quota eccedente il T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ttenuta che comunque non può superare il 30% del reddito da lavoro autono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cedura applicati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porto pens. - imp.T.M. = eccedenza; 30% sull’eccedenza 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porto reddito da lavoro autonomo: 30% =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importo minore tra A e B costituirà la tratten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197920" y="1579680"/>
            <a:ext cx="129996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093C-6A1F-4330-9E62-6A06884365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egime di cumulo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ssegno ordinario d’invalidità - art.72, L.388/2000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 norme preced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7600" y="2639880"/>
            <a:ext cx="8515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essuna trattenut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retribuzione o reddito d’importo annuo inferiore al T.M. , lavoro a termine per non oltre 50 giornate anno solare, e a coloro che lavorano come operai agricoli o lavoratori domest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+  articolo 1, commi 42 e 43, norme stabilite dalla legge 335/95: applicazione della tabella G e incompatibilità con rendita INAIL stessa ca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064360" y="2016000"/>
            <a:ext cx="1185840" cy="9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962B-FED7-437B-984B-215BE049EB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569080" cy="184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egime di cumulo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ssegno ordinario d’invalidità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10, Dlgs.503/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038320"/>
            <a:ext cx="9867960" cy="37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ima del 2001…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gime di cumulo per Aoi - precedente all’articolo 72, L.388/2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ll’1.1.1995 al 31.8.1995 uguale a quello stabilito per la pensione di vecchiaia (trattenuta del 50% dell’importo superiore al T.M.fino a concorrenza del reddito sia per lavoro autonomo che dipenden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l 1.9.1995 al 31.12.2000 uguale a quello per la pensione di vecchiaia  + norme della legge 335/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616960" y="701640"/>
            <a:ext cx="1555920" cy="12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9616-A2D4-4913-A6B5-4CA3C43E90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6800" y="-360"/>
            <a:ext cx="8702640" cy="1320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nsione d’invalidità - antecedente legge 222/84 -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ospensione per redditi da lavoro - art.8 L.638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581120"/>
            <a:ext cx="92775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rma v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l pensionato titolare di pensione d’invalidità ante legge 222/84 (decorrenza ante 1.8.84)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lavor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retribuzione o reddito pari o superiore a 3 volte l’importo annuo del T.M. gli viene sospesa completamente la pension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 ripristinata - a domanda -all’età pensionab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edi tab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sospensione non si applica ai ciechi assoluti o che abbiano un residuo visivo non superiore ad 1/20 in entrambi gli oc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874000" y="2390760"/>
            <a:ext cx="1224000" cy="174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AEC4-A4C1-4531-A011-8A02489B85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nsione d’invalidità - antecedente legge 222/84 -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ospensione per redditi da lavoro - art.8 L.638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106720"/>
            <a:ext cx="79819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dditi da valut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ddito da lavoro dipendente con esclusione del T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ddito da lavoro autonomo o professionale o d’impresa al lordo, ma la netto dei contributi previdenz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i lavoratori autonomi agricoli, il reddito imputato al titolare dell’azienda ai fini Irpef , viene diviso in relazione al lavoro svolto di ciascun componente attivo del nucleo familiare, con dichiarazione del titolare dell’az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645400" y="1898640"/>
            <a:ext cx="995400" cy="142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7E03-99CC-4C31-816D-A971295057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8600" y="-360"/>
            <a:ext cx="856908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egime di cumulo - norme basila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0280" y="1123920"/>
            <a:ext cx="8724600" cy="70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i fini dell’applicazione del divieto di cumulo -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pensioni e le retribuzioni si intendono al netto dei trattamenti di famiglia e...dalle retribuzion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devono essere detratti i contributi previdenziali ed assistenz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ino al 31.12.1994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il reddito da lavoro autonomo era considerat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influen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tutti i trattamenti pensionistici (l’art.10 del Dlgs.503/92 ne ha stabilito la rilevanza),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 le pensioni con decorrenz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ntro tale data sono interamente cumulabili con i redditi da lav.a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Al compimento dell’età pensionabile - i titolari di pensione di anzianità e di assegno d’invalidità seguono il regime di cumulo della pensione di vecchiaia (l’Aoi si trasforma in V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62480" y="2286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52C8-A29F-4FA7-B4A7-43FBACBAC0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38480" y="790560"/>
            <a:ext cx="5676840" cy="567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677B-3E71-4B13-AEE6-C245FA1149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5400" y="-360"/>
            <a:ext cx="86457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gime di cumulo - Pensione di anzianità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44, L.289/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95320" y="1276200"/>
            <a:ext cx="876312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gime di cumulo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t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Dal 1° gennaio 200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- i titolari di pensione d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zianità -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tutti i fondi o casse pensioni - posson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umula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otalmente le loro pensioni con i redditi da lavoro dipendente o autonomo………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ono stati raggiunti 40 anni di anzianità contributiva anche mediante supplementi (art.72, L.388/2000)   O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momento d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correnz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lla pensione hanno raggiunto - come minimo -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7 anni di contribuzione e 58 anni di età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anche per pensioni con decorrenza anteriore al 1°gennaio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ntro il 16 marzo 2003 versamento “una tantum” per acquisizione cumulo per coloro che al 1° dicembre 2002 erano già titolari di pensione di anzianità e prestavano attività al 1° novembre 20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64800" y="614520"/>
            <a:ext cx="1108080" cy="176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5C73-C78F-4CD6-8C09-5060B033F6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6880" y="0"/>
            <a:ext cx="8703000" cy="1487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gime di cumulo - Pensione di anzianità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44, L.289/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3040" y="1409760"/>
            <a:ext cx="857232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tta cumulabilità viene accordata anche a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ià pensiona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 anzianità al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°dicembre 200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- in regime di totale o parziale incumulabilità - qualora versin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ntro 3 mesi dall’inizi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ll’attività lavorativ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all’ente erogat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l 30%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ll’importo della loro pensione al gennaio 2003 - al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etto del T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- moltiplicato per la differenza tra la somma dei requisiti validi per l’accesso al cumulo (37+58=95) e la somma dei requisiti raggiunti al momento della decorrenza della propria pens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L’importo determinato deve essere maggiorato del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er coloro che accedono all’anzianità dall’1.1.2003 i requisiti di 37 anni di contribuzione e 58 anni di età devono sussistere alla data di decorrenza della pens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599320" y="957240"/>
            <a:ext cx="1312920" cy="20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15AC-6095-4551-86D2-CEA388B023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gime di cumulo - Pensione di anzianità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72, L.388/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4880" y="1809720"/>
            <a:ext cx="946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6720" y="1238400"/>
            <a:ext cx="878220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i pensionati di anzianità co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en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 40 anni di anzianit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ntributiva(con  supplementi), e per quelli che non avevano al momento della decorrenza della pension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58 anni di età e 37 anni d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ntribuzione e non si sono avvalsi della possibilità di acquistare il diritto di cumulo entro il 16 marzo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Rimangono le disposizioni stabilite dall’art.72 della legge 388/200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tal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cumulabilità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retribuzion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a lavoro dipenden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nche per la 13^ mensilità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nne 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perai agricoli; lavoratori domestici; agenti di organismo internazionale……………………..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correnza entro il 31.12.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265800" y="4224240"/>
            <a:ext cx="1163880" cy="10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8E36-AD85-42A9-B355-2939C25A88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2280" y="24264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gime di cumulo - Pensione di anzianità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72, L.388/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9000" y="1123920"/>
            <a:ext cx="838224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i suddetti pensionat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otale cumulabilità con reddito da lavoro autonomo ..se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correnza pensione entro il 31.12.19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 se hanno raggiunto il requisito contributivo entro il 31.12.199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nsione FPLD decorrenza dall’1.1.1995al 30.9.1996; o decorrenza pensione dicembre 1996 se 35 anni di contribuzione e 52 anni di età / o 36 anni di contributi entro il 30.9.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nsione GgSs decorrenza dall’1.1.1995 al 31.12.1996 se al 30.9.1996 - 55 anni di e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14760" y="34480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4D00-E563-442A-AC54-1E1050AD94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645400" cy="184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gime di cumulo - Pensione di anzianità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72, L.388/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6720" y="1523880"/>
            <a:ext cx="90108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umulo reddito auton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i suddetti pensionati  con requisito raggiunto successivamente il 31.12.199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ttenuta del 30% della quota eccedente il T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ttenuta che comunque non può superare il 30% del reddito da lavoro autono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cedura applicati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porto pensione - imp.T.M. = eccedenza; 30% sull’eccedenza 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porto reddito da lavoro autonomo: 30% =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importo minore tra A e B costituirà la tratten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24560" y="828720"/>
            <a:ext cx="1352880" cy="135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5D97-E805-4470-9928-1F02E080EB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645400" cy="184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ensione di anzianità e lavoro a part-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09800" y="2019240"/>
            <a:ext cx="82674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i raggiunge il requisito per accedere alla pensione di anzianità, ma non vuole lasciare l’azienda …..pu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sformando il lavoro da full-time in part-time di almeno 18 ore sett.- previa autorizzazione della Direzione prov. del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cepire una quota di pensione in misura inversamente proporzionale alla retribuzione e la somma dei due redditi non può superare l’ultima re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. Lavoratore con orario e retribuzione al 60% / pensione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ndizione: il datore di lavoro deve assumere personale per le ore di lavoro che vengono a manca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61360" y="1073160"/>
            <a:ext cx="1039680" cy="111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A6E25-2344-4B9B-B079-009852489A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7360" y="666360"/>
            <a:ext cx="8721720" cy="93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egime di cumulo - norme basila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080" y="2266920"/>
            <a:ext cx="95439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e attività che non comportano mai trattenute sulla pens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dennità percepite dagli amministratori locali (sindaco e assessore comunale; presidente e assessore provinciale; presidente e componente di esecutivo delle aziende territoriali,di consorzi fra enti locali e loro aziende (L.816/8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dennità percepite dai presidenti e dai membri dei consigli regionali e quelle dei parlamentari nazionali ed europei (L.662/96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58120" y="441360"/>
            <a:ext cx="1569960" cy="19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C8C0-8BA6-400F-8C64-F148EA101E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0800" y="-360"/>
            <a:ext cx="8588160" cy="16398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egime di cumulo - norme basila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4880" y="1878120"/>
            <a:ext cx="88963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e attività che non comportano mai trattenute sulla pens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dennità derivanti da attività nell’ambito di programmi d’inserimento degli anziani in attività socialmente utili promosse da Enti locali (Dlgs.503/9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dennità percepite per l’esercizio della funzione di giudice di pace (L.673/9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dennità percepite per l’esercizio della funzione di giudice tributario (L.342/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032760" y="34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58120" y="441360"/>
            <a:ext cx="1569960" cy="193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A9F6-9439-40B7-ABDA-60987D72F5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4480" y="0"/>
            <a:ext cx="8664480" cy="920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egime di cumulo - norme basila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523880"/>
            <a:ext cx="94489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i definiscon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dditi da lavoro autonomo - definizione del Codice Civi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dditi prodotti da CD/CM / quota del reddito agrario attribuibile al soggetto ai fini contributivi (al capofamiglia il 51%- al nucleo nel complesso il 49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dditi propri degli artigiani e dei commercianti / quota del reddito attribuibile al soggetto ai fini contributivi (al titolare il 51%- ai collaboratori nel complesso il 49%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dditi dei co-co-c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dennità per incarichi di presidente o membro di organi collegial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639280" y="304920"/>
            <a:ext cx="1171440" cy="16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27CE-2E05-41B7-9B1E-2645961313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egime di cumulo - norme basila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33480" y="1962000"/>
            <a:ext cx="8343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i definiscon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dditi da lavoro autonomo - definizione del Codice Civ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artecipazione agli utili derivanti da contratti di associazione in partecipazione per i casi di apporto prestazione di lavor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dditi d’impresa connessi ad attività di lavor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ensi percepiti per l’esercizio di arti e profession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dennità di carica per distaccati in base legge 300/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697960" y="422280"/>
            <a:ext cx="1474920" cy="212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61CF-6C7D-40BF-9F96-115F144C6A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3120" y="-628920"/>
            <a:ext cx="8912160" cy="2044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egime di cumulo - norme basila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390680"/>
            <a:ext cx="973476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odalità di trattenuta (art.21, L.153/69 e art.10, Dlgs.503/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avoro dipend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) Il titolare di pensione che si rioccupa deve dichiarare per iscritto al datore di lavoro la sua identità di pension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) Il datore di lavoro deve annotare sul libro matricola detta condizione e deve effettuare la trattenuta sulla retribuzione del lavoratore nella misura (che è giornaliera) indicata  nel certificato di pensione (O bis.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) Il datore di lavoro deve versare all’INPS la trattenuta con il modulo di denuncia del versamento contribu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75640" y="1994040"/>
            <a:ext cx="1049040" cy="9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ADDD-792B-4947-853C-C85C3784D2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06280" y="0"/>
            <a:ext cx="8397720" cy="14875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egime di cumulo - norme basila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181160"/>
            <a:ext cx="864864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odalità di trattenuta (art.21, L.153/69 e art.10, Dlgs.503/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nsione e redditi da lavoro part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tecedentemente alla Sentenza della C.Costituzionale 221 del 26/28 maggio 1994 - la trattenuta era intesa unicamente come giornaliera - determinando una disparità tra lavoratore a part-time orizzontale e quello a part-time vertic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uccessivamente al maggio 1994 per i lavoratori a part-time orizzontale la trattenuta deve essere proporzionata alle ore lavorate: Importo della trattenuta X 6 =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trattenuta settiman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ore dell’orario settimanale = K trattenuta oraria da moltiplicare per le ore effettu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790040" y="1514520"/>
            <a:ext cx="1430280" cy="12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DD51-93F6-4E5F-802B-182BF6D044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768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Regime di cumulo - norme basila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6720" y="895320"/>
            <a:ext cx="9163080" cy="72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odalità di trattenuta (art.10, Dlgs.503/92 e art. 1, L.662/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avoro auton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titolare di pensione che si rioccupa in una attività autonoma è tenuto a presentare all’ente erogatore della pensione il reddito presuntivo dell’anno in corso entro il termine previsto per l’Irp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Inps opererà la trattenuta in base al reddito presuntivo per conguagliarla successivamente alla dichiarazione definitiva dei redditi dell’anno precedente - da presentare all’INPS entro il termine previsto per l’Irpe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Per il pensionato che omette di produrre la dichiarazione entro i termini previsti, oltre alla multa da 3  a 15 milioni, la legge 662/96 , art.1, c.211 stabilisce una sanzione pari all’importo annuo della pensione percepita nell’anno in cui si riferisce la dichiarazione omes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704440" y="344520"/>
            <a:ext cx="1223640" cy="106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9473-3F4D-434B-80B8-3AFC538642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2T06:08:52Z</dcterms:created>
  <dc:creator>M. Bianchi</dc:creator>
  <dc:description/>
  <dc:language>en-US</dc:language>
  <cp:lastModifiedBy>.</cp:lastModifiedBy>
  <cp:lastPrinted>2004-06-25T08:36:16Z</cp:lastPrinted>
  <dcterms:modified xsi:type="dcterms:W3CDTF">2004-09-29T08:49:01Z</dcterms:modified>
  <cp:revision>330</cp:revision>
  <dc:subject/>
  <dc:title>LA CONTRIBUZIONE INPS</dc:title>
</cp:coreProperties>
</file>