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74288" cy="7239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6085-5684-4279-BFC2-23B29F1BF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6ED0-CA28-49C1-A139-C663D0753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C39CC-8BF2-4691-9ED7-9577170E5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4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32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4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7757-AF3F-4EA0-BA70-D355BD510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226A-A8BB-454F-943D-ECE5F7459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23AE-8196-4461-B89A-CF91ADC38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112-1F4A-4645-9EFD-3CF3DF860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DDE4-496F-4BC2-BB36-F35220335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3200" y="642600"/>
            <a:ext cx="8645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6527-4ABD-4081-BF6B-657C21B3C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BBA4-E177-45F0-AE08-E6D8ACD0A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C6C1-BB7B-4649-A91A-F1E8027C9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1792-6913-4B41-AF19-63E3AE584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8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040" indent="-237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49640" y="6683400"/>
            <a:ext cx="2119320" cy="482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25A664C0-2F48-4E00-857E-FC31619C1F6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77880" y="6595920"/>
            <a:ext cx="89866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3200" y="6651720"/>
            <a:ext cx="1364760" cy="589680"/>
            <a:chOff x="673200" y="6651720"/>
            <a:chExt cx="1364760" cy="589680"/>
          </a:xfrm>
        </p:grpSpPr>
        <p:sp>
          <p:nvSpPr>
            <p:cNvPr id="5" name=""/>
            <p:cNvSpPr/>
            <p:nvPr/>
          </p:nvSpPr>
          <p:spPr>
            <a:xfrm>
              <a:off x="1090080" y="6867360"/>
              <a:ext cx="947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atronato IN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G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800" y="6738840"/>
              <a:ext cx="433800" cy="453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b" anchorCtr="1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Garamond"/>
                </a:rPr>
                <a:t>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3200" y="6651720"/>
              <a:ext cx="558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aramond"/>
                </a:rPr>
                <a:t>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9800" y="7175520"/>
              <a:ext cx="432360" cy="172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800" y="6746760"/>
              <a:ext cx="432360" cy="1764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448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 FPL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760" y="933480"/>
            <a:ext cx="78674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 1.7.74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 R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stema  D.M.: ogni anno - entro il 31 marzo - il datore di lavoro doveva consegnare il riepilogo contributivo dell’anno precedente al lavor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9800" y="3400560"/>
            <a:ext cx="634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1160" y="3573360"/>
            <a:ext cx="53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Times New Roman"/>
              </a:rPr>
              <a:t>Codice lavoratore  = QDQ71RD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221000"/>
            <a:ext cx="6591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imes New Roman"/>
              </a:rPr>
              <a:t>Contraddistingue il conto assicurativo che raccoglie i versamenti effettuati dall’1/1/75 con il </a:t>
            </a:r>
            <a:r>
              <a:rPr b="1" lang="it-IT" sz="2400" spc="-1" strike="noStrike" u="sng">
                <a:solidFill>
                  <a:srgbClr val="808080"/>
                </a:solidFill>
                <a:uFillTx/>
                <a:latin typeface="Times New Roman"/>
              </a:rPr>
              <a:t>sistema meccan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64440" y="2230560"/>
            <a:ext cx="2255760" cy="281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3377-5AB4-4AE5-960E-14B79AAFEF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44600" y="0"/>
          <a:ext cx="8321760" cy="62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0"/>
                    <a:ext cx="832176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77C1-725C-4E45-97C9-2B13A009D5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0" y="261720"/>
            <a:ext cx="8645400" cy="1587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 FPLD - sistema CU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5760" y="1771560"/>
            <a:ext cx="84391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al 1.1.1999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on contributi de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998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gni anno entro il 31 marzo - mod. CUD (certificazione unica) iner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etribu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ritenute fisc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ontrib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. CUD sostituisce - unificandoli il Mod. O1 M (contribuzione) e il Mod.101(retribuz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l 1998 è ancora in uso il Mod.O1 sost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od.Sa del 7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3247920"/>
            <a:ext cx="184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137304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A561-7840-4174-8988-FC1AC5A73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887400" y="30240"/>
          <a:ext cx="8988480" cy="6734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30240"/>
                    <a:ext cx="8988480" cy="67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4CCF-E56C-4ECD-8649-90833DE3AA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001880" y="101520"/>
          <a:ext cx="8778600" cy="6577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101520"/>
                    <a:ext cx="877860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3913-BF94-4265-AB7F-2C246F7D6A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4000" y="-360"/>
            <a:ext cx="845496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’archivio “ARP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31436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ontribuzione accreditata è stata riportata negli archivi meccanizzati A.R.P.A. (Archivio Regionale Posizioni Assicurativ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57184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19480" y="4572000"/>
            <a:ext cx="65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PS avrebbe dovuto inviare ogni anno al lavoratore l’estratto conto assicurativo………ha invece iniziato ad inviarlo nel 2003 con la “famosa campagna E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05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archivi regionali sono tutti collegati tra loro / è possibile consultare da qualsiasi struttura INPS la posizione assicurativa degli assicu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07960" y="3846600"/>
            <a:ext cx="1373400" cy="137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E758-B63C-4993-9B0B-09F8309B33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3120" y="-285840"/>
            <a:ext cx="8835840" cy="1849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istema  D.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562040"/>
            <a:ext cx="9048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Ogni anno - a marzo - l’azienda doveva rilasciare al lavoratore i seguenti model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974 al 1977 - DM 10/L (trimestra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l 1978 - DM 10/L (annu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 1979 al 1997 - O1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l 1998 mod.O1/M sost. (o Sa del modello fiscale 7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56D8-61AC-43DE-9F8F-C90105763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38120" y="0"/>
          <a:ext cx="9489960" cy="7238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0"/>
                    <a:ext cx="948996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D305D-4C45-4A64-98CB-915290CAB4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192320" y="358920"/>
          <a:ext cx="8226360" cy="6162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2320" y="358920"/>
                    <a:ext cx="8226360" cy="61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F857-47E5-4A25-874C-46A4C45E01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077840" y="272880"/>
          <a:ext cx="8474040" cy="6348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272880"/>
                    <a:ext cx="8474040" cy="63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A499-AC57-4098-AF7C-ED82C879CB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54160" y="358920"/>
          <a:ext cx="8283600" cy="6205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358920"/>
                    <a:ext cx="8283600" cy="62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AC51-3F47-44AA-A3E8-EE61F0FDF2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35080" y="272880"/>
          <a:ext cx="8416800" cy="6305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272880"/>
                    <a:ext cx="8416800" cy="63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A153-693B-4EBE-8D82-6EE1104D14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6000" y="587520"/>
          <a:ext cx="8016840" cy="60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587520"/>
                    <a:ext cx="801684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350A-89B7-4BEB-B122-376CAF2EB0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06:08:52Z</dcterms:created>
  <dc:creator>M. Bianchi</dc:creator>
  <dc:description/>
  <dc:language>en-US</dc:language>
  <cp:lastModifiedBy>.</cp:lastModifiedBy>
  <cp:lastPrinted>2004-06-25T08:36:16Z</cp:lastPrinted>
  <dcterms:modified xsi:type="dcterms:W3CDTF">2004-09-29T08:41:47Z</dcterms:modified>
  <cp:revision>330</cp:revision>
  <dc:subject/>
  <dc:title>LA CONTRIBUZIONE INPS</dc:title>
</cp:coreProperties>
</file>