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174288" cy="7239000"/>
  <p:notesSz cx="6858000" cy="9328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DB94-1D48-4196-8C9E-D65D614A4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CBDC-FBFF-4025-AE87-5F07389B0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11AD-7763-4F0C-BD9E-64927C892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64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32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64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3F42-E255-4BAD-B91E-9C29659BED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7358-1102-4AF5-A29D-3CC66B7A3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CB8C-C0CF-494D-AACC-4F3B33106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A720-352E-49AB-9C5D-D2094668D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0647-3AB6-48E4-9515-FFF339B5B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3200" y="642600"/>
            <a:ext cx="8645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0BEC-1848-4543-A6ED-80F45171F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39E8-0346-44CC-8720-1DFAC8C36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C9A3-2FF6-41CC-87C1-35BCB25B54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D48E-9DD4-44AA-AF7F-BA17D8373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6000"/>
          </a:bodyPr>
          <a:p>
            <a:pPr marL="357840" indent="-3578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8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040" indent="-237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49640" y="6683400"/>
            <a:ext cx="2119320" cy="482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81B7E2C2-59F6-4C46-9C90-F699EA34198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677880" y="6595920"/>
            <a:ext cx="89866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3200" y="6651720"/>
            <a:ext cx="1364760" cy="589680"/>
            <a:chOff x="673200" y="6651720"/>
            <a:chExt cx="1364760" cy="589680"/>
          </a:xfrm>
        </p:grpSpPr>
        <p:sp>
          <p:nvSpPr>
            <p:cNvPr id="5" name=""/>
            <p:cNvSpPr/>
            <p:nvPr/>
          </p:nvSpPr>
          <p:spPr>
            <a:xfrm>
              <a:off x="1090080" y="6867360"/>
              <a:ext cx="947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atronato IN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G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800" y="6738840"/>
              <a:ext cx="433800" cy="453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b" anchorCtr="1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Garamond"/>
                </a:rPr>
                <a:t>C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3200" y="6651720"/>
              <a:ext cx="558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Garamond"/>
                </a:rPr>
                <a:t>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9800" y="7175520"/>
              <a:ext cx="432360" cy="1728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9800" y="6746760"/>
              <a:ext cx="432360" cy="1764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6320" y="26172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umulo o totalizzazione dei periodi assicur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3960" y="1447920"/>
            <a:ext cx="88390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rticolo 16 della legge 233/9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possibile totalizzare ai fini del diritto alla pensione periodi di lavoro da dipendente e da autono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odi di contribuzione nel FPLD e periodi nelle GgSs (artigiani - commercianti - CD/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l trattamento pensionistico sarà liquidato i 2 quo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a afferente al periodo di contribuzione FP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tra derivante dalla contribuzione Gg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enzione! Le pensioni così liquidate seguono la normativa di quelle liquidate nelle gestioni speciali... anche se il lavoratore ha lavorato come dipendente in maniera precipua e nell’ultimo peri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135920" y="3146400"/>
            <a:ext cx="2622600" cy="14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E967-564D-4CA6-8703-4F38485862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5400" y="24264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scatti - Dlgs.184/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57160" y="1066680"/>
            <a:ext cx="870588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rticol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nere del riscatto (comma 5)e r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caso di riscatto  calcolato nel sistema contributivo - il montante va ad integrare quello esistente al momento della domanda e la rivalutazione avrà effetto solo da quella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ndimento pertanto inferiore rispetto a quello riscattato nel retribu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regole di calcolo dei riscatti sia per il retributivo che per il contributivo sono estese e armonizzate in tutti i casi in cui nella previgente normativa si faceva riferimento all’art.13, L.1338/62 - es. omissioni contributive, riscatto per cause particolari di formazione, ec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693A-FA61-441F-B127-4A1A0EE53C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4480" y="-571680"/>
            <a:ext cx="8664480" cy="1849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I RISCAT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52560" y="781200"/>
            <a:ext cx="8305920" cy="73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VORATORI DIPENDENTI ED AUTONOMI (ANCHE CO.CO.CO) -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l 2001 il COSTO è deducile dai redditi IR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CORSO LEGALE DI LAUREA/con art.2 Dlgs.184/97-LAUREE brevi e titoli equiparati -congedi per formazione e 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LAVORO DIPENDENTE ALL’ESTERO / PAESI NON CONVENZION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LAVORO PRESTATO COME PARASUBORDINATO PRIMA DEL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.U. sui congedi parentali n.151/200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MT Extra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astensione facoltativa dal lavoro tra i tre e gli otto anni di v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del bamb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MT Extra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permessi per allat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MT Extra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periodi di assenza per malattia del bambino di  eta’ compre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333300"/>
                </a:solidFill>
                <a:latin typeface="Times New Roman"/>
              </a:rPr>
              <a:t>tra i tre e gli otto anni </a:t>
            </a:r>
            <a:r>
              <a:rPr b="1" i="1" lang="it-IT" sz="1000" spc="-1" strike="noStrike">
                <a:solidFill>
                  <a:srgbClr val="3333cc"/>
                </a:solidFill>
                <a:latin typeface="Times New Roman"/>
              </a:rPr>
              <a:t>SERVE AD INTEGRARE LA CONTRIBUZIONE FIGURATIVA (= 2 V.AS) PREVISTA PER QUESTI PERIO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610480" y="538164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110440" y="4684680"/>
            <a:ext cx="137952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44D3-5F5B-41F5-9AAE-B6E9254AC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12880" y="307800"/>
            <a:ext cx="62881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SECUZIONE VOLON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6120" y="1666800"/>
            <a:ext cx="200952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Lgs  184 / 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803920" y="3670200"/>
            <a:ext cx="241200" cy="138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7080" y="5197320"/>
            <a:ext cx="48776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TENSIONE ad Assicurati INPD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LAVORATORI  parasubordin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co-co-co, venditori porta a porta,liberi professionisti senza ca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49760" y="2387520"/>
            <a:ext cx="12708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9760" y="31780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vigore  dal  12.7.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1800" y="2600280"/>
            <a:ext cx="220356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8400-94D5-43AB-AC44-1E850700DB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98400" y="1955880"/>
            <a:ext cx="8560080" cy="3860640"/>
          </a:xfrm>
          <a:prstGeom prst="wedgeRectCallout">
            <a:avLst>
              <a:gd name="adj1" fmla="val -10458"/>
              <a:gd name="adj2" fmla="val -7619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95440" y="250920"/>
            <a:ext cx="525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SECUZIONE VOLON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QUIS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0760" y="2041560"/>
            <a:ext cx="7660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5 ANNI DI CTR. nell’arco della vita lavor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                                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3 ANNI  DI  CTR  nei 5 precedenti la domanda = 156 c.s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3960" y="2892600"/>
            <a:ext cx="636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gricoli = 279 ctr.gg. Uo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86  ctr.gg. Donne e raga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5  ctr.gg. Lavori temporanei inferio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6 mesi all’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800000"/>
                </a:solidFill>
                <a:latin typeface="Times New Roman"/>
              </a:rPr>
              <a:t>156 ctr. Sett. Per i collaboratori  domes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400" y="2684520"/>
            <a:ext cx="844560" cy="2749320"/>
          </a:xfrm>
          <a:custGeom>
            <a:avLst/>
            <a:gdLst/>
            <a:ahLst/>
            <a:rect l="l" t="t" r="r" b="b"/>
            <a:pathLst>
              <a:path w="524" h="1676">
                <a:moveTo>
                  <a:pt x="166" y="0"/>
                </a:moveTo>
                <a:cubicBezTo>
                  <a:pt x="118" y="56"/>
                  <a:pt x="68" y="110"/>
                  <a:pt x="22" y="168"/>
                </a:cubicBezTo>
                <a:cubicBezTo>
                  <a:pt x="15" y="177"/>
                  <a:pt x="7" y="188"/>
                  <a:pt x="6" y="200"/>
                </a:cubicBezTo>
                <a:cubicBezTo>
                  <a:pt x="0" y="329"/>
                  <a:pt x="22" y="452"/>
                  <a:pt x="102" y="552"/>
                </a:cubicBezTo>
                <a:cubicBezTo>
                  <a:pt x="113" y="596"/>
                  <a:pt x="112" y="604"/>
                  <a:pt x="150" y="632"/>
                </a:cubicBezTo>
                <a:cubicBezTo>
                  <a:pt x="172" y="743"/>
                  <a:pt x="136" y="593"/>
                  <a:pt x="190" y="712"/>
                </a:cubicBezTo>
                <a:cubicBezTo>
                  <a:pt x="216" y="770"/>
                  <a:pt x="186" y="779"/>
                  <a:pt x="246" y="824"/>
                </a:cubicBezTo>
                <a:cubicBezTo>
                  <a:pt x="256" y="875"/>
                  <a:pt x="263" y="913"/>
                  <a:pt x="286" y="960"/>
                </a:cubicBezTo>
                <a:cubicBezTo>
                  <a:pt x="297" y="1009"/>
                  <a:pt x="316" y="1043"/>
                  <a:pt x="326" y="1088"/>
                </a:cubicBezTo>
                <a:cubicBezTo>
                  <a:pt x="343" y="1163"/>
                  <a:pt x="347" y="1247"/>
                  <a:pt x="390" y="1312"/>
                </a:cubicBezTo>
                <a:cubicBezTo>
                  <a:pt x="401" y="1380"/>
                  <a:pt x="432" y="1439"/>
                  <a:pt x="454" y="1504"/>
                </a:cubicBezTo>
                <a:cubicBezTo>
                  <a:pt x="472" y="1559"/>
                  <a:pt x="450" y="1577"/>
                  <a:pt x="502" y="1616"/>
                </a:cubicBezTo>
                <a:cubicBezTo>
                  <a:pt x="510" y="1639"/>
                  <a:pt x="524" y="1676"/>
                  <a:pt x="486" y="1600"/>
                </a:cubicBezTo>
                <a:cubicBezTo>
                  <a:pt x="483" y="1594"/>
                  <a:pt x="474" y="1568"/>
                  <a:pt x="470" y="15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1669-C719-4A3E-BC53-67657C6750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98400" y="1574640"/>
            <a:ext cx="8560080" cy="4978440"/>
          </a:xfrm>
          <a:prstGeom prst="wedgeRectCallout">
            <a:avLst>
              <a:gd name="adj1" fmla="val -4972"/>
              <a:gd name="adj2" fmla="val -66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2200" y="250920"/>
            <a:ext cx="70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SECUZIONE VOLONTARIA -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EQUIS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9960" y="1689120"/>
            <a:ext cx="850032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 Black"/>
              </a:rPr>
              <a:t>1 anno di ctr. Nel quinquennio precedente la domanda per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990033"/>
                </a:solidFill>
                <a:uFillTx/>
                <a:latin typeface="Times New Roman"/>
              </a:rPr>
              <a:t>lavoratori  parasubordin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990033"/>
                </a:solidFill>
                <a:uFillTx/>
                <a:latin typeface="Times New Roman"/>
              </a:rPr>
              <a:t>lavoratori a tempo parzia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UTORIZZAZIONE solo in costanza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coprire le settimane scoperte :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PART-TIME VERTICALE (pt orizzontale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990033"/>
                </a:solidFill>
                <a:uFillTx/>
                <a:latin typeface="Times New Roman"/>
              </a:rPr>
              <a:t>lavoratori in attivita’ a tempo determinat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lang="it-IT" sz="2800" spc="-1" strike="noStrike" u="sng">
                <a:solidFill>
                  <a:srgbClr val="990033"/>
                </a:solidFill>
                <a:uFillTx/>
                <a:latin typeface="Times New Roman"/>
              </a:rPr>
              <a:t>discontinuo,sta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- per periodi successivi al 31.12.96 non coperti da contr.figu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-l’autorizzazione successiva al termine o sospensione del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39AA-5A3F-4051-B498-059BC2EB91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98400" y="2679840"/>
            <a:ext cx="8560080" cy="2908080"/>
          </a:xfrm>
          <a:prstGeom prst="wedgeRectCallout">
            <a:avLst>
              <a:gd name="adj1" fmla="val -4671"/>
              <a:gd name="adj2" fmla="val -4721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53840" y="5112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REQUIS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8400" y="1574640"/>
            <a:ext cx="8560080" cy="4978440"/>
          </a:xfrm>
          <a:prstGeom prst="wedgeRectCallout">
            <a:avLst>
              <a:gd name="adj1" fmla="val -4972"/>
              <a:gd name="adj2" fmla="val -66995"/>
            </a:avLst>
          </a:pr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4200" y="0"/>
            <a:ext cx="703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SECUZIONE VOLONTARIA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QUIS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720" y="1608120"/>
            <a:ext cx="859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 Black"/>
              </a:rPr>
              <a:t>  </a:t>
            </a:r>
            <a:r>
              <a:rPr b="1" lang="it-IT" sz="2800" spc="-1" strike="noStrike">
                <a:solidFill>
                  <a:srgbClr val="a50021"/>
                </a:solidFill>
                <a:latin typeface="Arial Black"/>
              </a:rPr>
              <a:t>PER IL REQUISITO CTR.VO   POSSI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a50021"/>
                </a:solidFill>
                <a:latin typeface="Arial Black"/>
              </a:rPr>
              <a:t>     </a:t>
            </a:r>
            <a:r>
              <a:rPr b="1" lang="it-IT" sz="2800" spc="-1" strike="noStrike">
                <a:solidFill>
                  <a:srgbClr val="a50021"/>
                </a:solidFill>
                <a:latin typeface="Arial Black"/>
              </a:rPr>
              <a:t>SOMMARE LE DIVERSE GEST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7640" y="2195640"/>
            <a:ext cx="7275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000000"/>
                </a:solidFill>
                <a:uFillTx/>
                <a:latin typeface="Arial Black"/>
              </a:rPr>
              <a:t>NO  ALLA  AUTORIZZAZIONE  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VOLGE ATTIVITA’  DIPENDENTE O AUTO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resa attività da co-p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’ TITOLARE  DI  PENSIONE  DIRE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2640" y="5549760"/>
            <a:ext cx="409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CCEZIONE  =   SI  AI  V.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-titolari di A.O.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-lavoratori all’estero (paesi UE e convenzionat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B7DB-CCE4-4F64-A4E9-0A073B2061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5680" y="0"/>
            <a:ext cx="9018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SECUZIONE VOLONTARIA -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T. U. CONGEDI PARENTALI - Dlgs.n151/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3280" y="1214280"/>
            <a:ext cx="836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 ai V.V. per i lavoratori che si avvalgon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astensione facoltativa dal lavoro tra i tre e gli otto anni di v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del bamb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permessi per allat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periodi di assenza per malattia del bambino di eta’ co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333300"/>
                </a:solidFill>
                <a:latin typeface="Times New Roman"/>
              </a:rPr>
              <a:t>tra i tre e gli otto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9240" y="5192640"/>
            <a:ext cx="82166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SERVE AD INTEGRARE LA CONTRIBU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FIGURATIVA (= 2 V.AS) PREVISTA PER QUESTI PERI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990720"/>
            <a:ext cx="102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423280" y="606600"/>
            <a:ext cx="1386000" cy="143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26D5-18DF-4264-B767-49F3F836CB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41400" y="374760"/>
            <a:ext cx="65516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SAMENTI VOLONTAR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692520" y="52380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to c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8200" y="1241280"/>
            <a:ext cx="9524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decorrenza 12.7.97   aliquota su retribuzione media settiman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gli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ultimi 12 mesi di lavoro (reddito degli ultimi 3 anni per gli autonomi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9960" y="2219400"/>
            <a:ext cx="9163440" cy="411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iquota de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7,57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gli autorizzati entro il 31.12.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iquota de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9,07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gli autorizzati  dal 1 gennaio 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l versamento deve essere effettuato tramite i bollettini di c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rrente inviati dall’INPS all’interess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il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2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trimestre dell’anno deve essere versato l’importo del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1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il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3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i verserà l’importo del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2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il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4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quello del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3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il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1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trimestre dell’anno successivo al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4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’anno prece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l versamento deve essere fatto entro il trimestre fissato / pena scadenza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71880" y="4626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5600" y="1359000"/>
            <a:ext cx="678168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12920" y="3774960"/>
            <a:ext cx="6879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0A9F-20DA-43BA-9AB6-6C0E5D8EFF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816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SECUZIONE VOLONTARIA  quanto co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4880" y="971640"/>
            <a:ext cx="866772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ontributi volontari versati fino al 1.7.72 sono utili a tutti gli effetti qualunque sia l’importo versa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8.7.72 al 31.12.78 sono utili se versati nella classe assegnata - altrimenti viene opera la proporzione ai fini del calcol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.1.79 al 31.12.83 sono utili se versati nella fascia assegnata altrimenti viene operata la proporzione ai fini sia del diritto alla prestazione che ai fini del calcol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l 1.1.84 l’art.7 della legge 638/83 (retribuzione minima settimanale) viene applicato anche per VV (x il 2004 € 164,87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voratori domestici - aliquo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autorizzati entro il 1995 si applica l’aliquota del 12,69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autorizzati dal 1° gennaio 1996 l’aliquota è del 14,19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948F-D685-4452-AED9-173F95BEFB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5320" y="0"/>
            <a:ext cx="7940520" cy="1449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Contribuzione concomit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362240"/>
            <a:ext cx="8781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NTRIBUZIONE LA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gurativi                  / 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Non si accreditano i contributi figur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samenti vol.        / 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La contribuzione volontaria viene rimbors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catti                     / 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on viene concesso il riscatto (tranne ad i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D/CM                   /  Si* - se l’attività dipendente è saltuaria ( meno di 26 settimane o 151 giornate di lavoro x anno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voro all’estero: cancellazione anno CD/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m/Art.              /  Criterio preval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er il periodo 1957/1961 è ammessa la doppia contribu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1720" y="0"/>
            <a:ext cx="1373400" cy="137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AECE-1E87-4CEB-A16E-CE1DE6E19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2560" y="1486080"/>
            <a:ext cx="758196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COLTA’ di cumulare periodi versati nelle varie gestioni al fine di conseguire il trattamento di vecchiaia o di Ina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tutte le gestioni obbligat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compreso quelle dei liberi professionis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chi non ha maturato il dirit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nsione in alcuna 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lo ai periodi non coinci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T Extra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che ai supers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iascuna Gestione determina la propria quota su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tribuzione complessiva e liquida la propria quo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 il sistema del pro-r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38400" y="361800"/>
            <a:ext cx="742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otalizzazione dei periodi di assicurazione art.71- L388/2000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48440" y="3409920"/>
            <a:ext cx="19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35920" y="3146400"/>
            <a:ext cx="2622600" cy="146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77E7-9944-4388-9830-296CA21269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228600"/>
            <a:ext cx="7201080" cy="173340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RICONGIU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0880" y="2327400"/>
            <a:ext cx="7912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congiunzione deriva dalla complessità del sistema pensionistico itali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Enti assicuratori o Casse previdenziali gestiscono separatamente i loro gettiti contributiv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congiunzione serve al lavoratore per unificare diversi spezzoni contributivi  in un’unica posizione assicurativa al fine di avere un solo trattamento pensionistico calcolato su un’unica anzia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0520" y="611280"/>
            <a:ext cx="1149120" cy="1235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632800" y="663480"/>
            <a:ext cx="1174680" cy="118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562960" y="4971960"/>
            <a:ext cx="136224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0A7E-3820-4769-B419-B9478EF2F3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rot="20193000">
            <a:off x="266760" y="894960"/>
            <a:ext cx="36385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ICONGI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22520" y="1946160"/>
            <a:ext cx="803592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HI LA CHIE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PENDENTE PRIVATO, PUBBLICO O AUTON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SUPERSTI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PURCHE’ I CONTRIBUTI NON ABBIANO DATO LUOGO A 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 periodi da ricongiungere - vengono ricongiunti interamente - non è possibile operare una sce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C06D-B2C5-449F-AC18-089566DEEC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28880" y="1809720"/>
            <a:ext cx="807696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Dall’Ente Pubblico - INPDAP all’INPS Legge 322/58 e art.1 - Legge 29/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ondizione: cessazione dal servizio senza diritto alla pensi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Onere: nessun costo per il lavora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Dall’INPS all’INPDAP Articolo 2 -Legge 29/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ondizio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- iscrizione in atto nella gestione in cui si chiede la ricongiun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- o 8 anni di versamento contributivo nella gestione stes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Onere: 50%della differenza tra la riserva matematica e il valore della contribuzione ricongiunta maggiorato del tasso annuo composto del 4,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Ricongiunzioni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800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66760"/>
            <a:ext cx="1943280" cy="142884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CC56-6025-4174-926F-5496A22F0B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4480" y="-267120"/>
            <a:ext cx="866448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800" spc="-1" strike="noStrike">
                <a:solidFill>
                  <a:srgbClr val="009900"/>
                </a:solidFill>
                <a:latin typeface="Times New Roman"/>
              </a:rPr>
              <a:t>Ricongiunzion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95320" y="1773360"/>
            <a:ext cx="794376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Dalle gestioni speciali dei lavoratori autonomi al FPLD art.1 - Legge 29/7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ndizione: iscrizione in atto nel fondo in cui si richiede la ricongiunzione e almeno 5 anni di contribuzione ininterrotta nel fondo stesso - successivamente alla cassazione dell’attività autono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nere: 50%della differenza tra la riserva matematica e il valore della contribuzione ricongiunta maggiorato del tasso annuo composto del 4,5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952560" cy="11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1A75-FC64-4074-B439-8A77BBD3C4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 rot="19795200">
            <a:off x="0" y="704880"/>
            <a:ext cx="36003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ICONGI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5600" y="58572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QUANTO C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90680" y="1924200"/>
            <a:ext cx="74865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osto della ricongiunzione nel sistema retributivo è determinato(secondo i criteri dell’art.13 L.1338/62) -  da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fferenz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 2 quote di pensione   /   la 1° calcolata con i soli contributi esistenti nella gestione in cui si chiede la ricongiunzione  / la 2^ comprensiva dei contributi ricongiu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ltiplicata pe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l coefficie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a riserva matematica (tabelle del D.M. 19 febbraio 1981) abbattuto del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l coefficiente varia a seconda della data di presentazione della domanda, dell’età del richiedente, dell’anzianità totale acquisita e del sesso del richie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B4E2-2451-4280-A609-F0E4DAA06C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Times New Roman"/>
              </a:rPr>
              <a:t>RICONGIUN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477800"/>
            <a:ext cx="8172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agamento dell’onere può essere effettuato in un’unica soluzione o a rate mensili (numero rate = alla metà dei mesi da ricongiunge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TRO  60  GIORNI  dalla comunicazione dell’on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caso di rateizzazione - versamento dell’importo corrispondente 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 ra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…………il mancato versamento si intende come rinuncia alla ricongiunzione (se si vuole ripetere la domanda - devono passare altri 10 anni o al momento del pensionam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2040" y="44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33400" y="343080"/>
            <a:ext cx="952560" cy="110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BE5F-A134-4E23-8CA2-013247AD44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rot="19795200">
            <a:off x="493200" y="979200"/>
            <a:ext cx="3600720" cy="384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ICONGI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2400" y="2384280"/>
            <a:ext cx="8715240" cy="3873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NA VO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NA SECONDA VOLTA SE DOPO LA PR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ICHIESTA puo’ far valere 10 anni di Ctr. di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5 di lavoro eff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ltri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l momento del pensionamento e solo pr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 gestione presso la quale era stata effettuata la precedente richi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1695600"/>
            <a:ext cx="62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ANDO  SI  PUO’  CHIED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F5DC-946A-4B43-A676-D712371E8C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3560" y="241200"/>
            <a:ext cx="8645400" cy="116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NTRIBUZIONE EST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96760" y="1523880"/>
            <a:ext cx="8609040" cy="4744800"/>
            <a:chOff x="896760" y="1523880"/>
            <a:chExt cx="8609040" cy="4744800"/>
          </a:xfrm>
        </p:grpSpPr>
        <p:sp>
          <p:nvSpPr>
            <p:cNvPr id="55" name=""/>
            <p:cNvSpPr/>
            <p:nvPr/>
          </p:nvSpPr>
          <p:spPr>
            <a:xfrm>
              <a:off x="896760" y="1523880"/>
              <a:ext cx="8609040" cy="47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noAutofit/>
            </a:bodyPr>
            <a:p>
              <a:pPr>
                <a:lnSpc>
                  <a:spcPct val="115000"/>
                </a:lnSpc>
                <a:spcBef>
                  <a:spcPts val="451"/>
                </a:spcBef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 PRESENZA DI CONTRIBUZIONE ES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451"/>
                </a:spcBef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Footlight MT Light"/>
                </a:rPr>
                <a:t>	</a:t>
              </a:r>
              <a:r>
                <a:rPr b="0" lang="it-IT" sz="2800" spc="-1" strike="noStrike">
                  <a:solidFill>
                    <a:srgbClr val="000000"/>
                  </a:solidFill>
                  <a:latin typeface="Footlight MT Light"/>
                </a:rPr>
                <a:t>è prevista</a:t>
              </a:r>
              <a:r>
                <a:rPr b="1" lang="it-IT" sz="2400" spc="-1" strike="noStrike">
                  <a:solidFill>
                    <a:srgbClr val="000000"/>
                  </a:solidFill>
                  <a:latin typeface="Footlight MT Light"/>
                </a:rPr>
                <a:t>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751"/>
                </a:spcBef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</a:t>
              </a:r>
              <a:r>
                <a:rPr b="1" lang="it-IT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it-IT" sz="2800" spc="-1" strike="noStrike">
                  <a:solidFill>
                    <a:srgbClr val="000000"/>
                  </a:solidFill>
                  <a:latin typeface="Footlight MT Light"/>
                </a:rPr>
                <a:t>TOTALIZZAZ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249"/>
                </a:spcBef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N TUTTI GLI STAT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CONVENZIONATI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 accordi bilater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spcBef>
                  <a:spcPts val="1950"/>
                </a:spcBef>
                <a:tabLst>
                  <a:tab algn="l" pos="0"/>
                  <a:tab algn="l" pos="417600"/>
                  <a:tab algn="l" pos="835200"/>
                  <a:tab algn="l" pos="1252440"/>
                  <a:tab algn="l" pos="1670040"/>
                  <a:tab algn="l" pos="2087640"/>
                  <a:tab algn="l" pos="2505240"/>
                  <a:tab algn="l" pos="2922480"/>
                  <a:tab algn="l" pos="3340080"/>
                  <a:tab algn="l" pos="3757680"/>
                  <a:tab algn="l" pos="4175280"/>
                  <a:tab algn="l" pos="4592520"/>
                  <a:tab algn="l" pos="5010120"/>
                  <a:tab algn="l" pos="5427720"/>
                  <a:tab algn="l" pos="5845320"/>
                  <a:tab algn="l" pos="6262560"/>
                  <a:tab algn="l" pos="6680160"/>
                  <a:tab algn="l" pos="7097760"/>
                  <a:tab algn="l" pos="7515360"/>
                  <a:tab algn="l" pos="7932600"/>
                  <a:tab algn="l" pos="83502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56480" y="2790720"/>
              <a:ext cx="2130120" cy="21286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6756480" y="3012840"/>
              <a:ext cx="1980720" cy="1581120"/>
              <a:chOff x="6756480" y="3012840"/>
              <a:chExt cx="1980720" cy="1581120"/>
            </a:xfrm>
          </p:grpSpPr>
          <p:sp>
            <p:nvSpPr>
              <p:cNvPr id="58" name=""/>
              <p:cNvSpPr/>
              <p:nvPr/>
            </p:nvSpPr>
            <p:spPr>
              <a:xfrm>
                <a:off x="7035480" y="3592440"/>
                <a:ext cx="1440" cy="3312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068960" y="363528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84880" y="3576240"/>
                <a:ext cx="72720" cy="6984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36" y="0"/>
                    </a:moveTo>
                    <a:lnTo>
                      <a:pt x="22" y="0"/>
                    </a:lnTo>
                    <a:lnTo>
                      <a:pt x="14" y="9"/>
                    </a:lnTo>
                    <a:lnTo>
                      <a:pt x="9" y="9"/>
                    </a:lnTo>
                    <a:lnTo>
                      <a:pt x="5" y="13"/>
                    </a:lnTo>
                    <a:lnTo>
                      <a:pt x="0" y="13"/>
                    </a:lnTo>
                    <a:lnTo>
                      <a:pt x="0" y="25"/>
                    </a:lnTo>
                    <a:lnTo>
                      <a:pt x="8" y="34"/>
                    </a:lnTo>
                    <a:lnTo>
                      <a:pt x="29" y="34"/>
                    </a:lnTo>
                    <a:lnTo>
                      <a:pt x="36" y="25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756480" y="3632040"/>
                <a:ext cx="642600" cy="836640"/>
              </a:xfrm>
              <a:custGeom>
                <a:avLst/>
                <a:gdLst/>
                <a:ahLst/>
                <a:rect l="l" t="t" r="r" b="b"/>
                <a:pathLst>
                  <a:path w="324" h="422">
                    <a:moveTo>
                      <a:pt x="76" y="0"/>
                    </a:moveTo>
                    <a:lnTo>
                      <a:pt x="71" y="11"/>
                    </a:lnTo>
                    <a:lnTo>
                      <a:pt x="45" y="33"/>
                    </a:lnTo>
                    <a:lnTo>
                      <a:pt x="40" y="53"/>
                    </a:lnTo>
                    <a:lnTo>
                      <a:pt x="21" y="68"/>
                    </a:lnTo>
                    <a:lnTo>
                      <a:pt x="8" y="96"/>
                    </a:lnTo>
                    <a:lnTo>
                      <a:pt x="8" y="114"/>
                    </a:lnTo>
                    <a:lnTo>
                      <a:pt x="0" y="144"/>
                    </a:lnTo>
                    <a:lnTo>
                      <a:pt x="11" y="157"/>
                    </a:lnTo>
                    <a:lnTo>
                      <a:pt x="40" y="195"/>
                    </a:lnTo>
                    <a:lnTo>
                      <a:pt x="48" y="190"/>
                    </a:lnTo>
                    <a:lnTo>
                      <a:pt x="99" y="190"/>
                    </a:lnTo>
                    <a:lnTo>
                      <a:pt x="123" y="199"/>
                    </a:lnTo>
                    <a:lnTo>
                      <a:pt x="121" y="229"/>
                    </a:lnTo>
                    <a:lnTo>
                      <a:pt x="138" y="268"/>
                    </a:lnTo>
                    <a:lnTo>
                      <a:pt x="137" y="279"/>
                    </a:lnTo>
                    <a:lnTo>
                      <a:pt x="144" y="291"/>
                    </a:lnTo>
                    <a:lnTo>
                      <a:pt x="133" y="319"/>
                    </a:lnTo>
                    <a:lnTo>
                      <a:pt x="146" y="354"/>
                    </a:lnTo>
                    <a:lnTo>
                      <a:pt x="153" y="382"/>
                    </a:lnTo>
                    <a:lnTo>
                      <a:pt x="162" y="399"/>
                    </a:lnTo>
                    <a:lnTo>
                      <a:pt x="171" y="421"/>
                    </a:lnTo>
                    <a:lnTo>
                      <a:pt x="188" y="418"/>
                    </a:lnTo>
                    <a:lnTo>
                      <a:pt x="216" y="402"/>
                    </a:lnTo>
                    <a:lnTo>
                      <a:pt x="229" y="382"/>
                    </a:lnTo>
                    <a:lnTo>
                      <a:pt x="228" y="369"/>
                    </a:lnTo>
                    <a:lnTo>
                      <a:pt x="245" y="359"/>
                    </a:lnTo>
                    <a:lnTo>
                      <a:pt x="242" y="340"/>
                    </a:lnTo>
                    <a:lnTo>
                      <a:pt x="267" y="310"/>
                    </a:lnTo>
                    <a:lnTo>
                      <a:pt x="271" y="285"/>
                    </a:lnTo>
                    <a:lnTo>
                      <a:pt x="264" y="277"/>
                    </a:lnTo>
                    <a:lnTo>
                      <a:pt x="267" y="267"/>
                    </a:lnTo>
                    <a:lnTo>
                      <a:pt x="261" y="258"/>
                    </a:lnTo>
                    <a:lnTo>
                      <a:pt x="280" y="234"/>
                    </a:lnTo>
                    <a:lnTo>
                      <a:pt x="280" y="222"/>
                    </a:lnTo>
                    <a:lnTo>
                      <a:pt x="306" y="202"/>
                    </a:lnTo>
                    <a:lnTo>
                      <a:pt x="323" y="148"/>
                    </a:lnTo>
                    <a:lnTo>
                      <a:pt x="299" y="162"/>
                    </a:lnTo>
                    <a:lnTo>
                      <a:pt x="278" y="156"/>
                    </a:lnTo>
                    <a:lnTo>
                      <a:pt x="281" y="143"/>
                    </a:lnTo>
                    <a:lnTo>
                      <a:pt x="260" y="129"/>
                    </a:lnTo>
                    <a:lnTo>
                      <a:pt x="250" y="94"/>
                    </a:lnTo>
                    <a:lnTo>
                      <a:pt x="230" y="66"/>
                    </a:lnTo>
                    <a:lnTo>
                      <a:pt x="230" y="47"/>
                    </a:lnTo>
                    <a:lnTo>
                      <a:pt x="219" y="46"/>
                    </a:lnTo>
                    <a:lnTo>
                      <a:pt x="212" y="49"/>
                    </a:lnTo>
                    <a:lnTo>
                      <a:pt x="182" y="38"/>
                    </a:lnTo>
                    <a:lnTo>
                      <a:pt x="174" y="46"/>
                    </a:lnTo>
                    <a:lnTo>
                      <a:pt x="167" y="56"/>
                    </a:lnTo>
                    <a:lnTo>
                      <a:pt x="151" y="38"/>
                    </a:lnTo>
                    <a:lnTo>
                      <a:pt x="135" y="33"/>
                    </a:lnTo>
                    <a:lnTo>
                      <a:pt x="134" y="10"/>
                    </a:lnTo>
                    <a:lnTo>
                      <a:pt x="111" y="14"/>
                    </a:lnTo>
                    <a:lnTo>
                      <a:pt x="96" y="9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37520" y="3839760"/>
                <a:ext cx="34560" cy="4140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7" y="0"/>
                    </a:moveTo>
                    <a:lnTo>
                      <a:pt x="9" y="5"/>
                    </a:lnTo>
                    <a:lnTo>
                      <a:pt x="7" y="10"/>
                    </a:lnTo>
                    <a:lnTo>
                      <a:pt x="7" y="14"/>
                    </a:lnTo>
                    <a:lnTo>
                      <a:pt x="16" y="17"/>
                    </a:lnTo>
                    <a:lnTo>
                      <a:pt x="16" y="20"/>
                    </a:lnTo>
                    <a:lnTo>
                      <a:pt x="9" y="17"/>
                    </a:lnTo>
                    <a:lnTo>
                      <a:pt x="3" y="20"/>
                    </a:lnTo>
                    <a:lnTo>
                      <a:pt x="0" y="17"/>
                    </a:lnTo>
                    <a:lnTo>
                      <a:pt x="3" y="14"/>
                    </a:lnTo>
                    <a:lnTo>
                      <a:pt x="0" y="10"/>
                    </a:ln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16560" y="4014720"/>
                <a:ext cx="96480" cy="139680"/>
              </a:xfrm>
              <a:custGeom>
                <a:avLst/>
                <a:gdLst/>
                <a:ahLst/>
                <a:rect l="l" t="t" r="r" b="b"/>
                <a:pathLst>
                  <a:path w="49" h="70">
                    <a:moveTo>
                      <a:pt x="0" y="34"/>
                    </a:moveTo>
                    <a:lnTo>
                      <a:pt x="17" y="34"/>
                    </a:lnTo>
                    <a:lnTo>
                      <a:pt x="37" y="0"/>
                    </a:lnTo>
                    <a:lnTo>
                      <a:pt x="48" y="20"/>
                    </a:lnTo>
                    <a:lnTo>
                      <a:pt x="39" y="69"/>
                    </a:lnTo>
                    <a:lnTo>
                      <a:pt x="3" y="57"/>
                    </a:lnTo>
                    <a:lnTo>
                      <a:pt x="0" y="3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308800" y="4068360"/>
                <a:ext cx="166320" cy="133560"/>
              </a:xfrm>
              <a:custGeom>
                <a:avLst/>
                <a:gdLst/>
                <a:ahLst/>
                <a:rect l="l" t="t" r="r" b="b"/>
                <a:pathLst>
                  <a:path w="84" h="67">
                    <a:moveTo>
                      <a:pt x="5" y="15"/>
                    </a:moveTo>
                    <a:lnTo>
                      <a:pt x="0" y="0"/>
                    </a:lnTo>
                    <a:lnTo>
                      <a:pt x="27" y="6"/>
                    </a:lnTo>
                    <a:lnTo>
                      <a:pt x="67" y="22"/>
                    </a:lnTo>
                    <a:lnTo>
                      <a:pt x="67" y="34"/>
                    </a:lnTo>
                    <a:lnTo>
                      <a:pt x="83" y="66"/>
                    </a:lnTo>
                    <a:lnTo>
                      <a:pt x="52" y="36"/>
                    </a:lnTo>
                    <a:lnTo>
                      <a:pt x="31" y="38"/>
                    </a:lnTo>
                    <a:lnTo>
                      <a:pt x="5" y="1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24880" y="4340160"/>
                <a:ext cx="112320" cy="144360"/>
              </a:xfrm>
              <a:custGeom>
                <a:avLst/>
                <a:gdLst/>
                <a:ahLst/>
                <a:rect l="l" t="t" r="r" b="b"/>
                <a:pathLst>
                  <a:path w="57" h="73">
                    <a:moveTo>
                      <a:pt x="34" y="0"/>
                    </a:moveTo>
                    <a:lnTo>
                      <a:pt x="56" y="21"/>
                    </a:lnTo>
                    <a:lnTo>
                      <a:pt x="11" y="72"/>
                    </a:lnTo>
                    <a:lnTo>
                      <a:pt x="0" y="60"/>
                    </a:lnTo>
                    <a:lnTo>
                      <a:pt x="32" y="28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954840" y="3362040"/>
                <a:ext cx="56520" cy="9540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28" y="36"/>
                    </a:moveTo>
                    <a:lnTo>
                      <a:pt x="20" y="31"/>
                    </a:lnTo>
                    <a:lnTo>
                      <a:pt x="20" y="10"/>
                    </a:lnTo>
                    <a:lnTo>
                      <a:pt x="24" y="5"/>
                    </a:lnTo>
                    <a:lnTo>
                      <a:pt x="17" y="5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10" y="6"/>
                    </a:lnTo>
                    <a:lnTo>
                      <a:pt x="10" y="19"/>
                    </a:lnTo>
                    <a:lnTo>
                      <a:pt x="13" y="22"/>
                    </a:lnTo>
                    <a:lnTo>
                      <a:pt x="13" y="28"/>
                    </a:lnTo>
                    <a:lnTo>
                      <a:pt x="11" y="28"/>
                    </a:lnTo>
                    <a:lnTo>
                      <a:pt x="6" y="33"/>
                    </a:lnTo>
                    <a:lnTo>
                      <a:pt x="6" y="38"/>
                    </a:lnTo>
                    <a:lnTo>
                      <a:pt x="0" y="47"/>
                    </a:lnTo>
                    <a:lnTo>
                      <a:pt x="21" y="47"/>
                    </a:lnTo>
                    <a:lnTo>
                      <a:pt x="28" y="36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937200" y="339372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5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9" y="16"/>
                    </a:lnTo>
                    <a:lnTo>
                      <a:pt x="13" y="11"/>
                    </a:lnTo>
                    <a:lnTo>
                      <a:pt x="13" y="5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892920" y="3338280"/>
                <a:ext cx="364680" cy="307800"/>
              </a:xfrm>
              <a:custGeom>
                <a:avLst/>
                <a:gdLst/>
                <a:ahLst/>
                <a:rect l="l" t="t" r="r" b="b"/>
                <a:pathLst>
                  <a:path w="184" h="155">
                    <a:moveTo>
                      <a:pt x="120" y="0"/>
                    </a:moveTo>
                    <a:lnTo>
                      <a:pt x="120" y="10"/>
                    </a:lnTo>
                    <a:lnTo>
                      <a:pt x="124" y="14"/>
                    </a:lnTo>
                    <a:lnTo>
                      <a:pt x="144" y="14"/>
                    </a:lnTo>
                    <a:lnTo>
                      <a:pt x="144" y="20"/>
                    </a:lnTo>
                    <a:lnTo>
                      <a:pt x="129" y="20"/>
                    </a:lnTo>
                    <a:lnTo>
                      <a:pt x="129" y="37"/>
                    </a:lnTo>
                    <a:lnTo>
                      <a:pt x="123" y="29"/>
                    </a:lnTo>
                    <a:lnTo>
                      <a:pt x="123" y="40"/>
                    </a:lnTo>
                    <a:lnTo>
                      <a:pt x="114" y="50"/>
                    </a:lnTo>
                    <a:lnTo>
                      <a:pt x="109" y="44"/>
                    </a:lnTo>
                    <a:lnTo>
                      <a:pt x="100" y="51"/>
                    </a:lnTo>
                    <a:lnTo>
                      <a:pt x="99" y="49"/>
                    </a:lnTo>
                    <a:lnTo>
                      <a:pt x="88" y="49"/>
                    </a:lnTo>
                    <a:lnTo>
                      <a:pt x="94" y="42"/>
                    </a:lnTo>
                    <a:lnTo>
                      <a:pt x="94" y="39"/>
                    </a:lnTo>
                    <a:lnTo>
                      <a:pt x="88" y="34"/>
                    </a:lnTo>
                    <a:lnTo>
                      <a:pt x="88" y="26"/>
                    </a:lnTo>
                    <a:lnTo>
                      <a:pt x="81" y="34"/>
                    </a:lnTo>
                    <a:lnTo>
                      <a:pt x="81" y="49"/>
                    </a:lnTo>
                    <a:lnTo>
                      <a:pt x="73" y="49"/>
                    </a:lnTo>
                    <a:lnTo>
                      <a:pt x="62" y="60"/>
                    </a:lnTo>
                    <a:lnTo>
                      <a:pt x="58" y="60"/>
                    </a:lnTo>
                    <a:lnTo>
                      <a:pt x="52" y="67"/>
                    </a:lnTo>
                    <a:lnTo>
                      <a:pt x="30" y="67"/>
                    </a:lnTo>
                    <a:lnTo>
                      <a:pt x="38" y="77"/>
                    </a:lnTo>
                    <a:lnTo>
                      <a:pt x="38" y="93"/>
                    </a:lnTo>
                    <a:lnTo>
                      <a:pt x="30" y="102"/>
                    </a:lnTo>
                    <a:lnTo>
                      <a:pt x="22" y="93"/>
                    </a:lnTo>
                    <a:lnTo>
                      <a:pt x="5" y="93"/>
                    </a:lnTo>
                    <a:lnTo>
                      <a:pt x="5" y="104"/>
                    </a:lnTo>
                    <a:lnTo>
                      <a:pt x="0" y="111"/>
                    </a:lnTo>
                    <a:lnTo>
                      <a:pt x="0" y="126"/>
                    </a:lnTo>
                    <a:lnTo>
                      <a:pt x="10" y="138"/>
                    </a:lnTo>
                    <a:lnTo>
                      <a:pt x="26" y="138"/>
                    </a:lnTo>
                    <a:lnTo>
                      <a:pt x="50" y="109"/>
                    </a:lnTo>
                    <a:lnTo>
                      <a:pt x="72" y="109"/>
                    </a:lnTo>
                    <a:lnTo>
                      <a:pt x="75" y="103"/>
                    </a:lnTo>
                    <a:lnTo>
                      <a:pt x="80" y="109"/>
                    </a:lnTo>
                    <a:lnTo>
                      <a:pt x="79" y="115"/>
                    </a:lnTo>
                    <a:lnTo>
                      <a:pt x="99" y="135"/>
                    </a:lnTo>
                    <a:lnTo>
                      <a:pt x="99" y="143"/>
                    </a:lnTo>
                    <a:lnTo>
                      <a:pt x="104" y="140"/>
                    </a:lnTo>
                    <a:lnTo>
                      <a:pt x="101" y="135"/>
                    </a:lnTo>
                    <a:lnTo>
                      <a:pt x="104" y="132"/>
                    </a:lnTo>
                    <a:lnTo>
                      <a:pt x="107" y="135"/>
                    </a:lnTo>
                    <a:lnTo>
                      <a:pt x="109" y="134"/>
                    </a:lnTo>
                    <a:lnTo>
                      <a:pt x="88" y="108"/>
                    </a:lnTo>
                    <a:lnTo>
                      <a:pt x="88" y="99"/>
                    </a:lnTo>
                    <a:lnTo>
                      <a:pt x="94" y="99"/>
                    </a:lnTo>
                    <a:lnTo>
                      <a:pt x="94" y="104"/>
                    </a:lnTo>
                    <a:lnTo>
                      <a:pt x="114" y="127"/>
                    </a:lnTo>
                    <a:lnTo>
                      <a:pt x="114" y="134"/>
                    </a:lnTo>
                    <a:lnTo>
                      <a:pt x="123" y="144"/>
                    </a:lnTo>
                    <a:lnTo>
                      <a:pt x="121" y="146"/>
                    </a:lnTo>
                    <a:lnTo>
                      <a:pt x="127" y="154"/>
                    </a:lnTo>
                    <a:lnTo>
                      <a:pt x="137" y="143"/>
                    </a:lnTo>
                    <a:lnTo>
                      <a:pt x="131" y="136"/>
                    </a:lnTo>
                    <a:lnTo>
                      <a:pt x="137" y="130"/>
                    </a:lnTo>
                    <a:lnTo>
                      <a:pt x="144" y="130"/>
                    </a:lnTo>
                    <a:lnTo>
                      <a:pt x="148" y="126"/>
                    </a:lnTo>
                    <a:lnTo>
                      <a:pt x="153" y="126"/>
                    </a:lnTo>
                    <a:lnTo>
                      <a:pt x="147" y="117"/>
                    </a:lnTo>
                    <a:lnTo>
                      <a:pt x="150" y="113"/>
                    </a:lnTo>
                    <a:lnTo>
                      <a:pt x="150" y="98"/>
                    </a:lnTo>
                    <a:lnTo>
                      <a:pt x="157" y="90"/>
                    </a:lnTo>
                    <a:lnTo>
                      <a:pt x="160" y="93"/>
                    </a:lnTo>
                    <a:lnTo>
                      <a:pt x="166" y="93"/>
                    </a:lnTo>
                    <a:lnTo>
                      <a:pt x="163" y="97"/>
                    </a:lnTo>
                    <a:lnTo>
                      <a:pt x="169" y="103"/>
                    </a:lnTo>
                    <a:lnTo>
                      <a:pt x="172" y="98"/>
                    </a:lnTo>
                    <a:lnTo>
                      <a:pt x="177" y="98"/>
                    </a:lnTo>
                    <a:lnTo>
                      <a:pt x="177" y="95"/>
                    </a:lnTo>
                    <a:lnTo>
                      <a:pt x="175" y="95"/>
                    </a:lnTo>
                    <a:lnTo>
                      <a:pt x="171" y="93"/>
                    </a:lnTo>
                    <a:lnTo>
                      <a:pt x="180" y="81"/>
                    </a:lnTo>
                    <a:lnTo>
                      <a:pt x="180" y="98"/>
                    </a:lnTo>
                    <a:lnTo>
                      <a:pt x="183" y="98"/>
                    </a:lnTo>
                    <a:lnTo>
                      <a:pt x="183" y="0"/>
                    </a:lnTo>
                    <a:lnTo>
                      <a:pt x="120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48440" y="3012840"/>
                <a:ext cx="1549080" cy="1095480"/>
              </a:xfrm>
              <a:custGeom>
                <a:avLst/>
                <a:gdLst/>
                <a:ahLst/>
                <a:rect l="l" t="t" r="r" b="b"/>
                <a:pathLst>
                  <a:path w="781" h="552">
                    <a:moveTo>
                      <a:pt x="0" y="162"/>
                    </a:moveTo>
                    <a:lnTo>
                      <a:pt x="22" y="145"/>
                    </a:lnTo>
                    <a:lnTo>
                      <a:pt x="44" y="112"/>
                    </a:lnTo>
                    <a:lnTo>
                      <a:pt x="71" y="96"/>
                    </a:lnTo>
                    <a:lnTo>
                      <a:pt x="98" y="115"/>
                    </a:lnTo>
                    <a:lnTo>
                      <a:pt x="101" y="130"/>
                    </a:lnTo>
                    <a:lnTo>
                      <a:pt x="95" y="130"/>
                    </a:lnTo>
                    <a:lnTo>
                      <a:pt x="84" y="128"/>
                    </a:lnTo>
                    <a:lnTo>
                      <a:pt x="98" y="145"/>
                    </a:lnTo>
                    <a:lnTo>
                      <a:pt x="155" y="123"/>
                    </a:lnTo>
                    <a:lnTo>
                      <a:pt x="147" y="107"/>
                    </a:lnTo>
                    <a:lnTo>
                      <a:pt x="172" y="79"/>
                    </a:lnTo>
                    <a:lnTo>
                      <a:pt x="188" y="79"/>
                    </a:lnTo>
                    <a:lnTo>
                      <a:pt x="172" y="89"/>
                    </a:lnTo>
                    <a:lnTo>
                      <a:pt x="160" y="109"/>
                    </a:lnTo>
                    <a:lnTo>
                      <a:pt x="160" y="123"/>
                    </a:lnTo>
                    <a:lnTo>
                      <a:pt x="183" y="138"/>
                    </a:lnTo>
                    <a:lnTo>
                      <a:pt x="216" y="95"/>
                    </a:lnTo>
                    <a:lnTo>
                      <a:pt x="330" y="45"/>
                    </a:lnTo>
                    <a:lnTo>
                      <a:pt x="330" y="16"/>
                    </a:lnTo>
                    <a:lnTo>
                      <a:pt x="382" y="5"/>
                    </a:lnTo>
                    <a:lnTo>
                      <a:pt x="412" y="20"/>
                    </a:lnTo>
                    <a:lnTo>
                      <a:pt x="481" y="0"/>
                    </a:lnTo>
                    <a:lnTo>
                      <a:pt x="503" y="10"/>
                    </a:lnTo>
                    <a:lnTo>
                      <a:pt x="549" y="61"/>
                    </a:lnTo>
                    <a:lnTo>
                      <a:pt x="602" y="51"/>
                    </a:lnTo>
                    <a:lnTo>
                      <a:pt x="635" y="69"/>
                    </a:lnTo>
                    <a:lnTo>
                      <a:pt x="718" y="65"/>
                    </a:lnTo>
                    <a:lnTo>
                      <a:pt x="781" y="84"/>
                    </a:lnTo>
                    <a:lnTo>
                      <a:pt x="775" y="112"/>
                    </a:lnTo>
                    <a:lnTo>
                      <a:pt x="722" y="130"/>
                    </a:lnTo>
                    <a:lnTo>
                      <a:pt x="731" y="148"/>
                    </a:lnTo>
                    <a:lnTo>
                      <a:pt x="708" y="158"/>
                    </a:lnTo>
                    <a:lnTo>
                      <a:pt x="707" y="194"/>
                    </a:lnTo>
                    <a:lnTo>
                      <a:pt x="686" y="218"/>
                    </a:lnTo>
                    <a:lnTo>
                      <a:pt x="678" y="196"/>
                    </a:lnTo>
                    <a:lnTo>
                      <a:pt x="689" y="175"/>
                    </a:lnTo>
                    <a:lnTo>
                      <a:pt x="687" y="132"/>
                    </a:lnTo>
                    <a:lnTo>
                      <a:pt x="666" y="154"/>
                    </a:lnTo>
                    <a:lnTo>
                      <a:pt x="650" y="166"/>
                    </a:lnTo>
                    <a:lnTo>
                      <a:pt x="634" y="147"/>
                    </a:lnTo>
                    <a:lnTo>
                      <a:pt x="623" y="196"/>
                    </a:lnTo>
                    <a:lnTo>
                      <a:pt x="635" y="196"/>
                    </a:lnTo>
                    <a:lnTo>
                      <a:pt x="632" y="228"/>
                    </a:lnTo>
                    <a:lnTo>
                      <a:pt x="618" y="263"/>
                    </a:lnTo>
                    <a:lnTo>
                      <a:pt x="600" y="276"/>
                    </a:lnTo>
                    <a:lnTo>
                      <a:pt x="615" y="299"/>
                    </a:lnTo>
                    <a:lnTo>
                      <a:pt x="605" y="315"/>
                    </a:lnTo>
                    <a:lnTo>
                      <a:pt x="602" y="301"/>
                    </a:lnTo>
                    <a:lnTo>
                      <a:pt x="602" y="296"/>
                    </a:lnTo>
                    <a:lnTo>
                      <a:pt x="590" y="288"/>
                    </a:lnTo>
                    <a:lnTo>
                      <a:pt x="572" y="299"/>
                    </a:lnTo>
                    <a:lnTo>
                      <a:pt x="588" y="337"/>
                    </a:lnTo>
                    <a:lnTo>
                      <a:pt x="594" y="356"/>
                    </a:lnTo>
                    <a:lnTo>
                      <a:pt x="574" y="408"/>
                    </a:lnTo>
                    <a:lnTo>
                      <a:pt x="539" y="423"/>
                    </a:lnTo>
                    <a:lnTo>
                      <a:pt x="509" y="420"/>
                    </a:lnTo>
                    <a:lnTo>
                      <a:pt x="524" y="442"/>
                    </a:lnTo>
                    <a:lnTo>
                      <a:pt x="525" y="472"/>
                    </a:lnTo>
                    <a:lnTo>
                      <a:pt x="504" y="507"/>
                    </a:lnTo>
                    <a:lnTo>
                      <a:pt x="480" y="488"/>
                    </a:lnTo>
                    <a:lnTo>
                      <a:pt x="477" y="508"/>
                    </a:lnTo>
                    <a:lnTo>
                      <a:pt x="495" y="526"/>
                    </a:lnTo>
                    <a:lnTo>
                      <a:pt x="510" y="552"/>
                    </a:lnTo>
                    <a:lnTo>
                      <a:pt x="485" y="536"/>
                    </a:lnTo>
                    <a:lnTo>
                      <a:pt x="455" y="449"/>
                    </a:lnTo>
                    <a:lnTo>
                      <a:pt x="418" y="426"/>
                    </a:lnTo>
                    <a:lnTo>
                      <a:pt x="391" y="428"/>
                    </a:lnTo>
                    <a:lnTo>
                      <a:pt x="356" y="477"/>
                    </a:lnTo>
                    <a:lnTo>
                      <a:pt x="361" y="495"/>
                    </a:lnTo>
                    <a:lnTo>
                      <a:pt x="349" y="530"/>
                    </a:lnTo>
                    <a:lnTo>
                      <a:pt x="338" y="530"/>
                    </a:lnTo>
                    <a:lnTo>
                      <a:pt x="298" y="457"/>
                    </a:lnTo>
                    <a:lnTo>
                      <a:pt x="298" y="425"/>
                    </a:lnTo>
                    <a:lnTo>
                      <a:pt x="290" y="437"/>
                    </a:lnTo>
                    <a:lnTo>
                      <a:pt x="267" y="436"/>
                    </a:lnTo>
                    <a:lnTo>
                      <a:pt x="276" y="416"/>
                    </a:lnTo>
                    <a:lnTo>
                      <a:pt x="241" y="391"/>
                    </a:lnTo>
                    <a:lnTo>
                      <a:pt x="197" y="391"/>
                    </a:lnTo>
                    <a:lnTo>
                      <a:pt x="160" y="366"/>
                    </a:lnTo>
                    <a:lnTo>
                      <a:pt x="157" y="391"/>
                    </a:lnTo>
                    <a:lnTo>
                      <a:pt x="188" y="414"/>
                    </a:lnTo>
                    <a:lnTo>
                      <a:pt x="199" y="414"/>
                    </a:lnTo>
                    <a:lnTo>
                      <a:pt x="167" y="445"/>
                    </a:lnTo>
                    <a:lnTo>
                      <a:pt x="136" y="452"/>
                    </a:lnTo>
                    <a:lnTo>
                      <a:pt x="136" y="434"/>
                    </a:lnTo>
                    <a:lnTo>
                      <a:pt x="91" y="372"/>
                    </a:lnTo>
                    <a:lnTo>
                      <a:pt x="85" y="355"/>
                    </a:lnTo>
                    <a:lnTo>
                      <a:pt x="109" y="335"/>
                    </a:lnTo>
                    <a:lnTo>
                      <a:pt x="106" y="310"/>
                    </a:lnTo>
                    <a:lnTo>
                      <a:pt x="106" y="282"/>
                    </a:lnTo>
                    <a:lnTo>
                      <a:pt x="119" y="276"/>
                    </a:lnTo>
                    <a:lnTo>
                      <a:pt x="106" y="263"/>
                    </a:lnTo>
                    <a:lnTo>
                      <a:pt x="44" y="164"/>
                    </a:lnTo>
                    <a:lnTo>
                      <a:pt x="43" y="162"/>
                    </a:lnTo>
                    <a:lnTo>
                      <a:pt x="61" y="138"/>
                    </a:lnTo>
                    <a:lnTo>
                      <a:pt x="60" y="130"/>
                    </a:lnTo>
                    <a:lnTo>
                      <a:pt x="39" y="150"/>
                    </a:lnTo>
                    <a:lnTo>
                      <a:pt x="32" y="162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69200" y="3460680"/>
                <a:ext cx="134640" cy="225360"/>
              </a:xfrm>
              <a:custGeom>
                <a:avLst/>
                <a:gdLst/>
                <a:ahLst/>
                <a:rect l="l" t="t" r="r" b="b"/>
                <a:pathLst>
                  <a:path w="68" h="113">
                    <a:moveTo>
                      <a:pt x="45" y="0"/>
                    </a:moveTo>
                    <a:lnTo>
                      <a:pt x="45" y="14"/>
                    </a:lnTo>
                    <a:lnTo>
                      <a:pt x="39" y="23"/>
                    </a:lnTo>
                    <a:lnTo>
                      <a:pt x="41" y="38"/>
                    </a:lnTo>
                    <a:lnTo>
                      <a:pt x="33" y="58"/>
                    </a:lnTo>
                    <a:lnTo>
                      <a:pt x="22" y="77"/>
                    </a:lnTo>
                    <a:lnTo>
                      <a:pt x="5" y="89"/>
                    </a:lnTo>
                    <a:lnTo>
                      <a:pt x="0" y="110"/>
                    </a:lnTo>
                    <a:lnTo>
                      <a:pt x="7" y="112"/>
                    </a:lnTo>
                    <a:lnTo>
                      <a:pt x="7" y="92"/>
                    </a:lnTo>
                    <a:lnTo>
                      <a:pt x="31" y="91"/>
                    </a:lnTo>
                    <a:lnTo>
                      <a:pt x="49" y="78"/>
                    </a:lnTo>
                    <a:lnTo>
                      <a:pt x="49" y="51"/>
                    </a:lnTo>
                    <a:lnTo>
                      <a:pt x="55" y="41"/>
                    </a:lnTo>
                    <a:lnTo>
                      <a:pt x="46" y="24"/>
                    </a:lnTo>
                    <a:lnTo>
                      <a:pt x="59" y="19"/>
                    </a:lnTo>
                    <a:lnTo>
                      <a:pt x="67" y="5"/>
                    </a:lnTo>
                    <a:lnTo>
                      <a:pt x="49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65920" y="4059000"/>
                <a:ext cx="33120" cy="5076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8" y="0"/>
                    </a:moveTo>
                    <a:lnTo>
                      <a:pt x="0" y="11"/>
                    </a:lnTo>
                    <a:lnTo>
                      <a:pt x="5" y="25"/>
                    </a:lnTo>
                    <a:lnTo>
                      <a:pt x="16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967520" y="4111560"/>
                <a:ext cx="313920" cy="134640"/>
              </a:xfrm>
              <a:custGeom>
                <a:avLst/>
                <a:gdLst/>
                <a:ahLst/>
                <a:rect l="l" t="t" r="r" b="b"/>
                <a:pathLst>
                  <a:path w="158" h="68">
                    <a:moveTo>
                      <a:pt x="0" y="0"/>
                    </a:moveTo>
                    <a:lnTo>
                      <a:pt x="23" y="5"/>
                    </a:lnTo>
                    <a:lnTo>
                      <a:pt x="58" y="29"/>
                    </a:lnTo>
                    <a:lnTo>
                      <a:pt x="53" y="43"/>
                    </a:lnTo>
                    <a:lnTo>
                      <a:pt x="82" y="55"/>
                    </a:lnTo>
                    <a:lnTo>
                      <a:pt x="157" y="55"/>
                    </a:lnTo>
                    <a:lnTo>
                      <a:pt x="75" y="67"/>
                    </a:lnTo>
                    <a:lnTo>
                      <a:pt x="53" y="43"/>
                    </a:lnTo>
                    <a:lnTo>
                      <a:pt x="32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18440" y="4222440"/>
                <a:ext cx="334440" cy="316080"/>
              </a:xfrm>
              <a:custGeom>
                <a:avLst/>
                <a:gdLst/>
                <a:ahLst/>
                <a:rect l="l" t="t" r="r" b="b"/>
                <a:pathLst>
                  <a:path w="169" h="159">
                    <a:moveTo>
                      <a:pt x="140" y="154"/>
                    </a:moveTo>
                    <a:lnTo>
                      <a:pt x="135" y="155"/>
                    </a:lnTo>
                    <a:lnTo>
                      <a:pt x="132" y="158"/>
                    </a:lnTo>
                    <a:lnTo>
                      <a:pt x="127" y="152"/>
                    </a:lnTo>
                    <a:lnTo>
                      <a:pt x="112" y="145"/>
                    </a:lnTo>
                    <a:lnTo>
                      <a:pt x="110" y="134"/>
                    </a:lnTo>
                    <a:lnTo>
                      <a:pt x="105" y="130"/>
                    </a:lnTo>
                    <a:lnTo>
                      <a:pt x="92" y="130"/>
                    </a:lnTo>
                    <a:lnTo>
                      <a:pt x="92" y="122"/>
                    </a:lnTo>
                    <a:lnTo>
                      <a:pt x="88" y="119"/>
                    </a:lnTo>
                    <a:lnTo>
                      <a:pt x="87" y="112"/>
                    </a:lnTo>
                    <a:lnTo>
                      <a:pt x="78" y="111"/>
                    </a:lnTo>
                    <a:lnTo>
                      <a:pt x="70" y="109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44" y="118"/>
                    </a:lnTo>
                    <a:lnTo>
                      <a:pt x="44" y="121"/>
                    </a:lnTo>
                    <a:lnTo>
                      <a:pt x="28" y="121"/>
                    </a:lnTo>
                    <a:lnTo>
                      <a:pt x="20" y="126"/>
                    </a:lnTo>
                    <a:lnTo>
                      <a:pt x="10" y="121"/>
                    </a:lnTo>
                    <a:lnTo>
                      <a:pt x="10" y="119"/>
                    </a:lnTo>
                    <a:lnTo>
                      <a:pt x="10" y="109"/>
                    </a:lnTo>
                    <a:lnTo>
                      <a:pt x="7" y="99"/>
                    </a:lnTo>
                    <a:lnTo>
                      <a:pt x="3" y="91"/>
                    </a:lnTo>
                    <a:lnTo>
                      <a:pt x="5" y="84"/>
                    </a:lnTo>
                    <a:lnTo>
                      <a:pt x="2" y="81"/>
                    </a:lnTo>
                    <a:lnTo>
                      <a:pt x="0" y="66"/>
                    </a:lnTo>
                    <a:lnTo>
                      <a:pt x="2" y="56"/>
                    </a:lnTo>
                    <a:lnTo>
                      <a:pt x="11" y="48"/>
                    </a:lnTo>
                    <a:lnTo>
                      <a:pt x="31" y="43"/>
                    </a:lnTo>
                    <a:lnTo>
                      <a:pt x="36" y="36"/>
                    </a:lnTo>
                    <a:lnTo>
                      <a:pt x="34" y="29"/>
                    </a:lnTo>
                    <a:lnTo>
                      <a:pt x="39" y="27"/>
                    </a:lnTo>
                    <a:lnTo>
                      <a:pt x="40" y="30"/>
                    </a:lnTo>
                    <a:lnTo>
                      <a:pt x="42" y="25"/>
                    </a:lnTo>
                    <a:lnTo>
                      <a:pt x="55" y="15"/>
                    </a:lnTo>
                    <a:lnTo>
                      <a:pt x="62" y="20"/>
                    </a:lnTo>
                    <a:lnTo>
                      <a:pt x="70" y="17"/>
                    </a:lnTo>
                    <a:lnTo>
                      <a:pt x="72" y="9"/>
                    </a:lnTo>
                    <a:lnTo>
                      <a:pt x="80" y="7"/>
                    </a:lnTo>
                    <a:lnTo>
                      <a:pt x="78" y="1"/>
                    </a:lnTo>
                    <a:lnTo>
                      <a:pt x="89" y="5"/>
                    </a:lnTo>
                    <a:lnTo>
                      <a:pt x="98" y="3"/>
                    </a:lnTo>
                    <a:lnTo>
                      <a:pt x="103" y="24"/>
                    </a:lnTo>
                    <a:lnTo>
                      <a:pt x="110" y="30"/>
                    </a:lnTo>
                    <a:lnTo>
                      <a:pt x="116" y="30"/>
                    </a:lnTo>
                    <a:lnTo>
                      <a:pt x="119" y="17"/>
                    </a:lnTo>
                    <a:lnTo>
                      <a:pt x="117" y="11"/>
                    </a:lnTo>
                    <a:lnTo>
                      <a:pt x="119" y="1"/>
                    </a:lnTo>
                    <a:lnTo>
                      <a:pt x="122" y="0"/>
                    </a:lnTo>
                    <a:lnTo>
                      <a:pt x="127" y="12"/>
                    </a:lnTo>
                    <a:lnTo>
                      <a:pt x="132" y="15"/>
                    </a:lnTo>
                    <a:lnTo>
                      <a:pt x="135" y="27"/>
                    </a:lnTo>
                    <a:lnTo>
                      <a:pt x="140" y="43"/>
                    </a:lnTo>
                    <a:lnTo>
                      <a:pt x="147" y="47"/>
                    </a:lnTo>
                    <a:lnTo>
                      <a:pt x="156" y="59"/>
                    </a:lnTo>
                    <a:lnTo>
                      <a:pt x="157" y="65"/>
                    </a:lnTo>
                    <a:lnTo>
                      <a:pt x="165" y="72"/>
                    </a:lnTo>
                    <a:lnTo>
                      <a:pt x="168" y="85"/>
                    </a:lnTo>
                    <a:lnTo>
                      <a:pt x="168" y="95"/>
                    </a:lnTo>
                    <a:lnTo>
                      <a:pt x="165" y="111"/>
                    </a:lnTo>
                    <a:lnTo>
                      <a:pt x="157" y="121"/>
                    </a:lnTo>
                    <a:lnTo>
                      <a:pt x="155" y="134"/>
                    </a:lnTo>
                    <a:lnTo>
                      <a:pt x="155" y="145"/>
                    </a:lnTo>
                    <a:lnTo>
                      <a:pt x="147" y="147"/>
                    </a:lnTo>
                    <a:lnTo>
                      <a:pt x="140" y="154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486640" y="4554360"/>
                <a:ext cx="33120" cy="396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8" y="16"/>
                    </a:moveTo>
                    <a:lnTo>
                      <a:pt x="2" y="13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16" y="8"/>
                    </a:lnTo>
                    <a:lnTo>
                      <a:pt x="14" y="10"/>
                    </a:lnTo>
                    <a:lnTo>
                      <a:pt x="12" y="13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313400" y="4195440"/>
                <a:ext cx="37800" cy="150840"/>
              </a:xfrm>
              <a:custGeom>
                <a:avLst/>
                <a:gdLst/>
                <a:ahLst/>
                <a:rect l="l" t="t" r="r" b="b"/>
                <a:pathLst>
                  <a:path w="19" h="76">
                    <a:moveTo>
                      <a:pt x="2" y="26"/>
                    </a:moveTo>
                    <a:lnTo>
                      <a:pt x="9" y="20"/>
                    </a:lnTo>
                    <a:lnTo>
                      <a:pt x="14" y="0"/>
                    </a:lnTo>
                    <a:lnTo>
                      <a:pt x="18" y="30"/>
                    </a:lnTo>
                    <a:lnTo>
                      <a:pt x="12" y="67"/>
                    </a:lnTo>
                    <a:lnTo>
                      <a:pt x="0" y="75"/>
                    </a:lnTo>
                    <a:lnTo>
                      <a:pt x="0" y="57"/>
                    </a:lnTo>
                    <a:lnTo>
                      <a:pt x="3" y="45"/>
                    </a:lnTo>
                    <a:lnTo>
                      <a:pt x="2" y="26"/>
                    </a:lnTo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7143840" y="3352680"/>
              <a:ext cx="964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FFC5-C132-4B9D-835C-FE212E148A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81400" y="324000"/>
            <a:ext cx="5619600" cy="14475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a rendita vitaliz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3, L.1338/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9000" y="1905120"/>
            <a:ext cx="86680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endita vitalizia è un recupero della contribuzione omessa prescritta: l’applicazione della norma può essere richiesta dal datore di lavoro - dal lavoratore o dai suoi superst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I contributi riscattati sono collocati temporalmente nel periodo in cui avrebbero dovuto essere ver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a domanda deve essere corredata da documentazione certa dell’epoca (lettere di assunzione, buste paga, estratti di libri pa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71560" y="436680"/>
            <a:ext cx="1379520" cy="148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0AEB-38AF-475E-B468-DBDE4F4DEB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952200"/>
            <a:ext cx="8797680" cy="539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a rendita vitalizia - regime retributivo</a:t>
            </a:r>
            <a:br>
              <a:rPr sz="36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13, L.1338/6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305080"/>
            <a:ext cx="87631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determinare l'onere della rendita vitalizia per i destinatari del regime retributivo(18 anni di contr.al 31.12.95), occor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il differenziale tra il trattamento pensionistico comprensivo del periodo che si vuole riscattare e quello senza detto peri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tificato detto differenziale annuale, bisognerà moltiplicare tale cifra per i coefficienti delle tabelle approvate con decreto ministeriale 19 febbraio 19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86040" y="1333440"/>
            <a:ext cx="125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95240" y="798480"/>
            <a:ext cx="1379520" cy="148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1086-A818-4DBD-92B5-37C81AA654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5400" y="-360"/>
            <a:ext cx="87789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scatti - Dlgs.184/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8560" y="1295280"/>
            <a:ext cx="885852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rticol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nere del riscatto (commi 3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onere del riscatto viene determinato in riferimento al sistema di calcolo con il quale l’interessato andrà in pensione (anzianità contributiva al 31.12.1995) - in correlazione alla collocazione temporale del periodo da riscatt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Assicurato con 18 anni di contribuzione al 31.12.1995 e periodo da riscattare collocato ante o dopo il 1996  / trova applicazione l’art.13 della legge 1338/62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utilizzo delle tabelle del DM 19.2.1981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ovevano essere modificate entro 1 anno dalla data di entrata in vigore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5124600"/>
            <a:ext cx="685800" cy="685800"/>
          </a:xfrm>
          <a:prstGeom prst="flowChartMerg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DFBD-0E39-4C8B-A067-3C259EA7CA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scatti - Dlgs.184/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600" y="209520"/>
            <a:ext cx="9620280" cy="76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rticol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nere del riscatto (commi 3e4)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Assicurato con anzianità inferiore a 18 anni al 31.12.95 e periodo da riscattare collocato anteriormente al 1996 - con il quale raggiunge i 18 anni- il criterio da seguire per la determinazione dell’onere è quello espresso al punto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Se lo stesso assicurato(con periodo da riscatta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te 199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- non raggiunge i 18 anni e si colloca nel sistema misto identica procedura…..la riserva matematica andrà calcolata sul differenziale della parte da calcolare col retributiv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-bis)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ssicurato dopo il 1995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iodo da riscattar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te 1996 si applica l’art.13, L.1338/62 /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ndendo a riferimento le retribuzioni antecedenti alla domanda..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…..la riserva matematica andrà calcolata sul differenziale della parte da calcolare col retributiv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EBB9-4AAE-437B-BA2D-B4BA750FA0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448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scatti - Dlgs.184/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38080"/>
            <a:ext cx="88776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rticol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nere del riscatto (commi 3 e 4) - Periodi a caval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) Assicurato con anzianità contributiva meno di 18 anni al 31.12.1995 e periodo da riscattare ante e dopo il 31.12.1995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con periodo ante 1996 raggiunge i 18 anni tutto il periodo andrà riscattato con le norme dell’art.13, L.1338/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con periodo ante 1996 non raggiunge i 18 anni e..rimane nel misto / l’onere del periodo a cavaliere andrà determinato secondo i due sistemi di calco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) periodo entro il 31.12.1995 - art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) periodo dall’1.1.1996 - aliquota di versamento rapportata ai 12 mesi precedenti la domanda X il periodo da riscat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nere: A +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7D4F-D78E-4E7B-96F6-8222A57137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870264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scatti - Dlgs.184/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939960"/>
            <a:ext cx="99442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rticol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nere del riscatto (comma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) Assicurato con meno di 18 anni ma periodo da riscattare collocato temporalmente dopo il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icurato dal 1.1.96 ……procedura completamente di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ccorre fare riferimento all’aliquota di finanziamento del fondo in cui l’interessato chiede il riscatto (al momento della domanda) e rapportarla alla retribuzione degli ultimi 12 mesi…… detto importo X (annuo) deve essere moltiplicato per gli anni (e/o mesi) da riscatta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5240" y="3390840"/>
            <a:ext cx="486000" cy="1214640"/>
          </a:xfrm>
          <a:prstGeom prst="upDownArrow">
            <a:avLst>
              <a:gd name="adj1" fmla="val 50000"/>
              <a:gd name="adj2" fmla="val 497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5202-BD0D-46B8-8E88-BB7E8E66CB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2T06:08:52Z</dcterms:created>
  <dc:creator>M. Bianchi</dc:creator>
  <dc:description/>
  <dc:language>en-US</dc:language>
  <cp:lastModifiedBy>.</cp:lastModifiedBy>
  <cp:lastPrinted>2004-06-25T08:36:16Z</cp:lastPrinted>
  <dcterms:modified xsi:type="dcterms:W3CDTF">2004-09-29T08:47:31Z</dcterms:modified>
  <cp:revision>330</cp:revision>
  <dc:subject/>
  <dc:title>LA CONTRIBUZIONE INPS</dc:title>
</cp:coreProperties>
</file>