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7F32-5F96-480B-BE2E-7ABF12B622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 paesi che hanno presentato domanda di adesione all’UE sono Turchia, Croazia e Macedonia</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ccordo e convenzione Schengen. Aderiscono i paesi UE (esclusi Cipro, Irlanda, Regno Unito, Bulgaria, Romania), Islanda e Norvegia. Regno Unito e Irlanda partecipano solo parzialmente, in quanto hanno mantenuto i controlli alle frontiere. Regno Unito e Irlanda partecipano al SIS (Sistema Informativo Schengen)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Scopo della Convenzione Schengen è quello di eliminare progressivamente i controlli alle frontiere comuni e introdurre un regime di libera circolazione per gli Stati firmatari, degli altri stati membri della Comunità o di Paesi Terzi. L’acquis di Schengen è integrato nel quadro giuridico ed istituzionale dell’UE in virtù di un protocollo allegato al Trattato di Amsterdam</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SEE Spazio Economico Europeo.  Ha lo scopo di creare un mercato unico che copra non solo i paesi della Comunità Europea, ma anche quelli dell’Area Europea di Libero Scambio (AELS) Dello spazio SEE, fanno parte tutti i paesi UE, più islanda, norvegia, liechtestein.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La Svizzera non ne fa parte.</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 REGOLAMENTI COMUNITARI.  La protezione sociale si realizza nell’area comunitaria dell’Unione Europea, con l’applicazione dei Regolamenti comunitari.  La normativa comunitaria di sicurezza sociale è immediatamente e direttamente applicabile sul territorio dei Paesi che fanno parte dell’UE.  La stessa normativa si applica ai 3 Paesi che, pur non essendo membri dell’UE, hanno aderito alla SEE (Islanda, Norvegia, Liechtenstein). Dal 1.6.02 questa normativa è applicata anche alla Confederazione Svizzera grazie ad un accordo stipulato con la C.E.</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681AE-0745-459D-9DCD-7B8B9CA16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5A8C7-C944-42A9-BD6A-CAB251AB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3C56D-E20B-4379-B89F-A7AB68F09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DDC4C-253E-47F0-8EA2-E606E218E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7985B-E05E-4689-8FF6-C47EB7CA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F633C-56DB-4B3D-BAD7-7357F669C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E9C1-9C87-46C7-976C-9DF790945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CDD5D-ECD6-45BE-9BAE-6DB4F92C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E279-3F47-4024-9880-570C47A7F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CD4D-4868-46FA-8B95-B41C0C94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CFBD2-60D0-4649-8C07-9053BF6F4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4C28-9AF6-4EF2-BBAA-6D8564CBB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0C82-A2A6-495C-A910-E3D66AA5D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mmigrazione.regione.toscana.it/nirres/nirres.php?URN=urn:nir:stato:decreto.legislativo:1998-07-25;286%7Eart4bis" TargetMode="External"/><Relationship Id="rId2" Type="http://schemas.openxmlformats.org/officeDocument/2006/relationships/hyperlink" Target="http://www.immigrazione.regione.toscana.it/nirres/nirres.php?URN=urn:nir:stato:decreto.legislativo:1998-07-25;286%7Eart4bis" TargetMode="External"/><Relationship Id="rId3" Type="http://schemas.openxmlformats.org/officeDocument/2006/relationships/hyperlink" Target="http://www.immigrazione.regione.toscana.it/nirres/nirres.php?URN=urn:nir:stato:decreto.legislativo:1998-07-25;286%7Eart4bis" TargetMode="External"/><Relationship Id="rId4" Type="http://schemas.openxmlformats.org/officeDocument/2006/relationships/hyperlink" Target="http://www.immigrazione.regione.toscana.it/lenya/paesi/live/contenuti/norme/DPR-179-2011_it.html?datafine=20111121"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s://accordointegrazione.dlci.interno.it/"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uropass.cedefop.europa.eu/LanguageSelfAssessmentGrid/it" TargetMode="External"/><Relationship Id="rId2" Type="http://schemas.openxmlformats.org/officeDocument/2006/relationships/hyperlink" Target="http://www.interno.it/mininterno/site/it/sezioni/sala_stampa/speciali/carta_dei_valori/index.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BA79-8FF6-45FB-97FC-9653A557F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86BF-D3F5-4FCB-92CB-00F0684BD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Immagine2"/>
          <p:cNvPicPr/>
          <p:nvPr/>
        </p:nvPicPr>
        <p:blipFill>
          <a:blip r:embed="rId1"/>
          <a:stretch/>
        </p:blipFill>
        <p:spPr>
          <a:xfrm>
            <a:off x="0" y="0"/>
            <a:ext cx="9144000" cy="6858000"/>
          </a:xfrm>
          <a:prstGeom prst="rect">
            <a:avLst/>
          </a:prstGeom>
          <a:ln w="0">
            <a:noFill/>
          </a:ln>
        </p:spPr>
      </p:pic>
      <p:sp>
        <p:nvSpPr>
          <p:cNvPr id="51" name="Text Box 5"/>
          <p:cNvSpPr/>
          <p:nvPr/>
        </p:nvSpPr>
        <p:spPr>
          <a:xfrm>
            <a:off x="755640" y="2781360"/>
            <a:ext cx="770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erminator Two"/>
              </a:rPr>
              <a:t>ACCORDO DI INTEGRAZION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Text Box 7"/>
          <p:cNvSpPr/>
          <p:nvPr/>
        </p:nvSpPr>
        <p:spPr>
          <a:xfrm>
            <a:off x="4284720" y="6165720"/>
            <a:ext cx="48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ura dell’INCA REGIONE LAZIO 26.06.2012</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830788-D668-4C22-A8C0-A437078FC7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GNI DELLO STA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4000"/>
          </a:bodyPr>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curare il </a:t>
            </a:r>
            <a:r>
              <a:rPr b="1" lang="en-US" sz="2600" spc="-1" strike="noStrike">
                <a:solidFill>
                  <a:srgbClr val="0066cc"/>
                </a:solidFill>
                <a:latin typeface="Arial"/>
              </a:rPr>
              <a:t>godimento dei diritti fondamentali e la pari dignità</a:t>
            </a:r>
            <a:r>
              <a:rPr b="0" lang="en-US" sz="2600" spc="-1" strike="noStrike">
                <a:solidFill>
                  <a:srgbClr val="000000"/>
                </a:solidFill>
                <a:latin typeface="Arial"/>
              </a:rPr>
              <a:t> sociale delle persone senza distinzione di sesso, di razza, di lingua, di religione, di opinioni politiche e di condizioni personali e sociali, prevenendo ogni manifestazione di razzismo e di discriminazione;</a:t>
            </a:r>
            <a:endParaRPr b="0" lang="en-US" sz="2600" spc="-1" strike="noStrike">
              <a:solidFill>
                <a:srgbClr val="000000"/>
              </a:solidFill>
              <a:latin typeface="Arial"/>
            </a:endParaRPr>
          </a:p>
          <a:p>
            <a:pPr marL="322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volare l’accesso alle informazioni che aiutano i cittadini stranieri a comprendere i </a:t>
            </a:r>
            <a:r>
              <a:rPr b="1" lang="en-US" sz="2600" spc="-1" strike="noStrike">
                <a:solidFill>
                  <a:srgbClr val="0066cc"/>
                </a:solidFill>
                <a:latin typeface="Arial"/>
              </a:rPr>
              <a:t>principali contenuti della Costituzione italiana e dell’ordinamento generale dello Stato</a:t>
            </a:r>
            <a:r>
              <a:rPr b="0" lang="en-US" sz="2600" spc="-1" strike="noStrike">
                <a:solidFill>
                  <a:srgbClr val="0066cc"/>
                </a:solidFill>
                <a:latin typeface="Arial"/>
              </a:rPr>
              <a:t>;</a:t>
            </a:r>
            <a:endParaRPr b="0" lang="en-US" sz="2600" spc="-1" strike="noStrike">
              <a:solidFill>
                <a:srgbClr val="000000"/>
              </a:solidFill>
              <a:latin typeface="Arial"/>
            </a:endParaRPr>
          </a:p>
          <a:p>
            <a:pPr marL="322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re il </a:t>
            </a:r>
            <a:r>
              <a:rPr b="1" lang="en-US" sz="2600" spc="-1" strike="noStrike">
                <a:solidFill>
                  <a:srgbClr val="0066cc"/>
                </a:solidFill>
                <a:latin typeface="Arial"/>
              </a:rPr>
              <a:t>processo di integrazione</a:t>
            </a:r>
            <a:r>
              <a:rPr b="0" lang="en-US" sz="2600" spc="-1" strike="noStrike">
                <a:solidFill>
                  <a:srgbClr val="000000"/>
                </a:solidFill>
                <a:latin typeface="Arial"/>
              </a:rPr>
              <a:t> dell’interessato attraverso l’assunzione di ogni idonea iniziativa, in raccordo con le Regioni, gli Enti locali e l’Associazionismo no profit;</a:t>
            </a:r>
            <a:endParaRPr b="0" lang="en-US" sz="2600" spc="-1" strike="noStrike">
              <a:solidFill>
                <a:srgbClr val="000000"/>
              </a:solidFill>
              <a:latin typeface="Arial"/>
            </a:endParaRPr>
          </a:p>
          <a:p>
            <a:pPr marL="322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EF50FE2-9ABD-4279-8089-306F15DE3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sicurare all’interessato, </a:t>
            </a:r>
            <a:r>
              <a:rPr b="1" lang="en-US" sz="2500" spc="-1" strike="noStrike">
                <a:solidFill>
                  <a:srgbClr val="0066cc"/>
                </a:solidFill>
                <a:latin typeface="Arial"/>
              </a:rPr>
              <a:t>entro 3 mesi dalla stipula dell'accordo</a:t>
            </a:r>
            <a:r>
              <a:rPr b="0" lang="en-US" sz="2500" spc="-1" strike="noStrike">
                <a:solidFill>
                  <a:srgbClr val="000000"/>
                </a:solidFill>
                <a:latin typeface="Arial"/>
              </a:rPr>
              <a:t>, la partecipazione gratuita ad un </a:t>
            </a:r>
            <a:r>
              <a:rPr b="1" lang="en-US" sz="2500" spc="-1" strike="noStrike">
                <a:solidFill>
                  <a:srgbClr val="0066cc"/>
                </a:solidFill>
                <a:latin typeface="Arial"/>
              </a:rPr>
              <a:t>corso di formazione civica e di informazione sulla vita in Italia</a:t>
            </a:r>
            <a:r>
              <a:rPr b="1" lang="en-US" sz="2500" spc="-1" strike="noStrike">
                <a:solidFill>
                  <a:srgbClr val="000000"/>
                </a:solidFill>
                <a:latin typeface="Arial"/>
              </a:rPr>
              <a:t>.</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rantire in raccordo con le Regioni e gli Enti locali </a:t>
            </a:r>
            <a:r>
              <a:rPr b="1" lang="en-US" sz="2500" spc="-1" strike="noStrike">
                <a:solidFill>
                  <a:srgbClr val="0066cc"/>
                </a:solidFill>
                <a:latin typeface="Arial"/>
              </a:rPr>
              <a:t>il controllo del rispetto delle norme a tutela del lavoro dipendente; </a:t>
            </a:r>
            <a:r>
              <a:rPr b="1" lang="en-US" sz="2500" spc="-1" strike="noStrike" u="sng">
                <a:solidFill>
                  <a:srgbClr val="0066cc"/>
                </a:solidFill>
                <a:uFillTx/>
                <a:latin typeface="Arial"/>
              </a:rPr>
              <a:t>il pieno accesso ai servizi sanitari</a:t>
            </a:r>
            <a:r>
              <a:rPr b="1" lang="en-US" sz="2500" spc="-1" strike="noStrike">
                <a:solidFill>
                  <a:srgbClr val="0066cc"/>
                </a:solidFill>
                <a:latin typeface="Arial"/>
              </a:rPr>
              <a:t> e a quelli relativi alla frequenza della scuola dell’obblig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a come si concilia questo impegno nei casi di stranieri che entrano per studio, motivi religiosi o per ricongiungimento familiare in quanto genitori ultra 65enni ?</a:t>
            </a:r>
            <a:endParaRPr b="0" lang="en-US" sz="2500" spc="-1" strike="noStrike">
              <a:solidFill>
                <a:srgbClr val="000000"/>
              </a:solidFill>
              <a:latin typeface="Arial"/>
            </a:endParaRPr>
          </a:p>
        </p:txBody>
      </p:sp>
      <p:sp>
        <p:nvSpPr>
          <p:cNvPr id="72" name=""/>
          <p:cNvSpPr/>
          <p:nvPr/>
        </p:nvSpPr>
        <p:spPr>
          <a:xfrm>
            <a:off x="4029120" y="3246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201AE7-23AA-4E75-BDED-11BACAE6C8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5992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CORSO DI FORMAZIONE CIVICA</a:t>
            </a:r>
            <a:endParaRPr b="0" lang="en-US" sz="4000" spc="-1" strike="noStrike">
              <a:solidFill>
                <a:srgbClr val="000000"/>
              </a:solidFill>
              <a:latin typeface="Arial"/>
            </a:endParaRPr>
          </a:p>
        </p:txBody>
      </p:sp>
      <p:sp>
        <p:nvSpPr>
          <p:cNvPr id="74" name="PlaceHolder 2"/>
          <p:cNvSpPr>
            <a:spLocks noGrp="1"/>
          </p:cNvSpPr>
          <p:nvPr>
            <p:ph/>
          </p:nvPr>
        </p:nvSpPr>
        <p:spPr>
          <a:xfrm>
            <a:off x="457200" y="836640"/>
            <a:ext cx="8229600" cy="568800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rso ha una </a:t>
            </a:r>
            <a:r>
              <a:rPr b="1" lang="en-US" sz="2000" spc="-1" strike="noStrike">
                <a:solidFill>
                  <a:srgbClr val="000000"/>
                </a:solidFill>
                <a:latin typeface="Arial"/>
              </a:rPr>
              <a:t>durata non inferiore</a:t>
            </a:r>
            <a:r>
              <a:rPr b="0" lang="en-US" sz="2000" spc="-1" strike="noStrike">
                <a:solidFill>
                  <a:srgbClr val="000000"/>
                </a:solidFill>
                <a:latin typeface="Arial"/>
              </a:rPr>
              <a:t> </a:t>
            </a:r>
            <a:r>
              <a:rPr b="1" lang="en-US" sz="2000" spc="-1" strike="noStrike">
                <a:solidFill>
                  <a:srgbClr val="000000"/>
                </a:solidFill>
                <a:latin typeface="Arial"/>
              </a:rPr>
              <a:t>a cinque e non superiore a dieci ore</a:t>
            </a:r>
            <a:r>
              <a:rPr b="0" lang="en-US" sz="2000" spc="-1" strike="noStrike">
                <a:solidFill>
                  <a:srgbClr val="000000"/>
                </a:solidFill>
                <a:latin typeface="Arial"/>
              </a:rPr>
              <a:t> e prevede l'utilizzo di materiali e sussidi tradotti nella lingua indicata dallo straniero o se ciò non è possibile, inglese, francese, spagnola, araba, cinese, albanese, russa o filippina, secondo la preferenza dell'interessato. </a:t>
            </a:r>
            <a:r>
              <a:rPr b="1" lang="en-US" sz="2000" spc="-1" strike="noStrike">
                <a:solidFill>
                  <a:srgbClr val="000000"/>
                </a:solidFill>
                <a:latin typeface="Arial"/>
              </a:rPr>
              <a:t>Oggett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i fondamentali della Costituzione della Repubblica e dell'organizzazione e funzionamento delle istituzioni pubbliche in Italia e la conoscenza della vita civile in Italia, con particolare riferimento ai settori della sanità, della scuola, dei servizi sociali, del lavoro e agli obblighi fiscali.</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itti e doveri degli stranieri in Italia, facoltà e obblighi inerenti al soggiorno, diritti e doveri reciproci dei coniugi e doveri dei genitori verso i figli secondo l'ordinamento giuridico italiano, anche con riferimento all'obbligo di istruzion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i iniziative a sostegno del processo di integrazione degli stranieri a cui egli può accedere nel territorio della provincia di residenza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tiva di riferimento in materia di salute e sicurezza sul lavoro.</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4C4378-20F9-40AC-AA88-60B8A0501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URATA DELL’ACCORDO</a:t>
            </a:r>
            <a:endParaRPr b="0" lang="en-US" sz="4400" spc="-1" strike="noStrike">
              <a:solidFill>
                <a:srgbClr val="000000"/>
              </a:solidFill>
              <a:latin typeface="Arial"/>
            </a:endParaRPr>
          </a:p>
        </p:txBody>
      </p:sp>
      <p:sp>
        <p:nvSpPr>
          <p:cNvPr id="7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ue anni prorogabile di un altro anno</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aranno sottoposti a verifica dopo 2 anni anche coloro che ottengono un permesso di un anno </a:t>
            </a:r>
            <a:r>
              <a:rPr b="1" lang="en-US" sz="2500" spc="-1" strike="noStrike">
                <a:solidFill>
                  <a:srgbClr val="000000"/>
                </a:solidFill>
                <a:latin typeface="Arial"/>
              </a:rPr>
              <a:t>(es. per studio)</a:t>
            </a:r>
            <a:r>
              <a:rPr b="0" lang="en-US" sz="2500" spc="-1" strike="noStrike">
                <a:solidFill>
                  <a:srgbClr val="000000"/>
                </a:solidFill>
                <a:latin typeface="Arial"/>
              </a:rPr>
              <a:t> ma allo scadere del primo anno saranno decurtati i 15 dei 16 crediti iniziali qualora lo straniero sia risultato assente alla sessione formativa.</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ccordo decade di diritto se il Questore dispone il rifiuto del rilascio, la revoca o il diniego di rinnovo del permesso di soggiorno, per carenza dei requisiti di</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legge.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9587C350-397A-4B26-932B-7E2FB86C2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GGETTI ESENTATI</a:t>
            </a: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iero affetto da patologie o da disabilità tali da limitare gravemente l'autosufficienza o da determinare gravi difficoltà di apprendimento linguistico e culturale, attestati mediante una certificazione rilasciata  - ovviamente - </a:t>
            </a:r>
            <a:r>
              <a:rPr b="1" lang="en-US" sz="2400" spc="-1" strike="noStrike">
                <a:solidFill>
                  <a:srgbClr val="000000"/>
                </a:solidFill>
                <a:latin typeface="Arial"/>
              </a:rPr>
              <a:t>in un momento successivo all’ingresso</a:t>
            </a:r>
            <a:r>
              <a:rPr b="0" lang="en-US" sz="2400" spc="-1" strike="noStrike">
                <a:solidFill>
                  <a:srgbClr val="000000"/>
                </a:solidFill>
                <a:latin typeface="Arial"/>
              </a:rPr>
              <a:t> da una struttura sanitaria pubblica o da un medico convenzionato con il Servizio sanitario nazionale.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i non accompagnati, affidati  o sottoposti a tutel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time della tratta di persone, di violenza o di grave sfruttamen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i quali l'accordo è sostituito dal completamento d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tto di integrazione sociale e civile previs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103218-3D49-4FAD-B94E-C5B0FE041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OGGETTI INESPELLIBILI</a:t>
            </a:r>
            <a:br>
              <a:rPr sz="4000"/>
            </a:br>
            <a:r>
              <a:rPr b="0" lang="it-IT" sz="2400" spc="-1" strike="noStrike">
                <a:solidFill>
                  <a:srgbClr val="000000"/>
                </a:solidFill>
                <a:latin typeface="Arial"/>
              </a:rPr>
              <a:t>(art. 4 bis  del T.U introdotto dal pacchetto sicurezza)</a:t>
            </a:r>
            <a:br>
              <a:rPr sz="2400"/>
            </a:br>
            <a:endParaRPr b="0" lang="en-US" sz="2400" spc="-1" strike="noStrike">
              <a:solidFill>
                <a:srgbClr val="000000"/>
              </a:solidFill>
              <a:latin typeface="Arial"/>
            </a:endParaRPr>
          </a:p>
        </p:txBody>
      </p:sp>
      <p:sp>
        <p:nvSpPr>
          <p:cNvPr id="8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Pur essendo tenuti a sottoscrivere l’accordo</a:t>
            </a:r>
            <a:r>
              <a:rPr b="0" lang="en-US" sz="2200" spc="-1" strike="noStrike">
                <a:solidFill>
                  <a:srgbClr val="000000"/>
                </a:solidFill>
                <a:latin typeface="Arial"/>
              </a:rPr>
              <a:t>, non possono comunque essere espulsi  ove perdano tutti i crediti i titolari di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esso per richiesta asilo politico</a:t>
            </a:r>
            <a:r>
              <a:rPr b="0" lang="en-US" sz="2200" spc="-1" strike="noStrike">
                <a:solidFill>
                  <a:srgbClr val="000000"/>
                </a:solidFill>
                <a:latin typeface="Arial"/>
              </a:rPr>
              <a:t>: il richiedente asilo ha un permesso di 3 mesi rinnovabile sino alla decisione della Commissione quindi non  sottoscrive l’accord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esso per asilo politico </a:t>
            </a:r>
            <a:r>
              <a:rPr b="0" lang="en-US" sz="2200" spc="-1" strike="noStrike">
                <a:solidFill>
                  <a:srgbClr val="000000"/>
                </a:solidFill>
                <a:latin typeface="Arial"/>
              </a:rPr>
              <a:t>(5 anni di durata)</a:t>
            </a:r>
            <a:r>
              <a:rPr b="1" lang="en-US" sz="2200" spc="-1" strike="noStrike">
                <a:solidFill>
                  <a:srgbClr val="000000"/>
                </a:solidFill>
                <a:latin typeface="Arial"/>
              </a:rPr>
              <a:t> </a:t>
            </a:r>
            <a:r>
              <a:rPr b="0" lang="en-US" sz="2200" spc="-1" strike="noStrike">
                <a:solidFill>
                  <a:srgbClr val="000000"/>
                </a:solidFill>
                <a:latin typeface="Arial"/>
              </a:rPr>
              <a:t>: non sottoscrive l’accordo  al momento del riconoscimento dello status di rifugiato in quanto non trattasi più di primo ingress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esso per protezione sussidiaria </a:t>
            </a:r>
            <a:r>
              <a:rPr b="0" lang="en-US" sz="2200" spc="-1" strike="noStrike">
                <a:solidFill>
                  <a:srgbClr val="000000"/>
                </a:solidFill>
                <a:latin typeface="Arial"/>
              </a:rPr>
              <a:t>(3 anni)</a:t>
            </a:r>
            <a:r>
              <a:rPr b="1" lang="en-US" sz="2200" spc="-1" strike="noStrike">
                <a:solidFill>
                  <a:srgbClr val="000000"/>
                </a:solidFill>
                <a:latin typeface="Arial"/>
              </a:rPr>
              <a:t>  o per  motivi umanitari </a:t>
            </a:r>
            <a:r>
              <a:rPr b="0" lang="en-US" sz="2200" spc="-1" strike="noStrike">
                <a:solidFill>
                  <a:srgbClr val="000000"/>
                </a:solidFill>
                <a:latin typeface="Arial"/>
              </a:rPr>
              <a:t>(1 anno): intervenendo  a seguito della decisione della Commissione, non sottoscrive l’accordo in quanto non trattasi di primo ingress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A4EF0A9-32D2-407B-A96A-E510AB1160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esso per motivi familiari: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itori, coniuge e figli minori ricongiunti</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 stessi richiedenti il ricongiungimento nel caso abbiano fatto la domanda nei due anni dal loro ingresso</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o che sono in possesso di un titolo diverso  (ad es. lavoro subordinato) ma che avevano fatto ingresso  per ricongiungimento familiar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ermesso CE  SLP</a:t>
            </a:r>
            <a:r>
              <a:rPr b="0" lang="en-US" sz="2400" spc="-1" strike="noStrike">
                <a:solidFill>
                  <a:srgbClr val="000000"/>
                </a:solidFill>
                <a:latin typeface="Arial"/>
              </a:rPr>
              <a:t>: trattasi dei titolari di permesso rilasciato da altro Paese UE oppure  degli stranieri ricongiunti con titolare di carta di soggiorno che dovrebbe avere al suo ingresso analogo titolo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a di soggiorno quale familiare  straniero di cittadino  della U.E</a:t>
            </a:r>
            <a:r>
              <a:rPr b="0" lang="en-US" sz="2400" spc="-1" strike="noStrike">
                <a:solidFill>
                  <a:srgbClr val="000000"/>
                </a:solidFill>
                <a:latin typeface="Arial"/>
              </a:rPr>
              <a:t>.: ad essi non si applica il TU e quindi l’accordo di integrazion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79B8FDC-04CF-4E12-8460-D7BF8CE277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254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395280" y="475920"/>
            <a:ext cx="8229600" cy="5607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inori di anni 18</a:t>
            </a:r>
            <a:r>
              <a:rPr b="0" lang="it-IT" sz="2800" spc="-1" strike="noStrike">
                <a:solidFill>
                  <a:srgbClr val="000000"/>
                </a:solidFill>
                <a:latin typeface="Arial"/>
              </a:rPr>
              <a:t>  inespellibili in base all’art.19 del TU anche se il DPR 179/2011 prevede che debbano sottoscrivere l’accor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ranieri conviventi con parenti entro il 2° grado</a:t>
            </a:r>
            <a:r>
              <a:rPr b="0" lang="it-IT" sz="2800" spc="-1" strike="noStrike">
                <a:solidFill>
                  <a:srgbClr val="000000"/>
                </a:solidFill>
                <a:latin typeface="Arial"/>
              </a:rPr>
              <a:t>  italiani o con il coniuge di cittadinanza ita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onne in gravidanza</a:t>
            </a:r>
            <a:r>
              <a:rPr b="0" lang="it-IT" sz="2800" spc="-1" strike="noStrike">
                <a:solidFill>
                  <a:srgbClr val="000000"/>
                </a:solidFill>
                <a:latin typeface="Arial"/>
              </a:rPr>
              <a:t> o nei 6 mesi successivi alla nascita del figlio ed il </a:t>
            </a:r>
            <a:r>
              <a:rPr b="1" lang="it-IT" sz="2800" spc="-1" strike="noStrike">
                <a:solidFill>
                  <a:srgbClr val="000000"/>
                </a:solidFill>
                <a:latin typeface="Arial"/>
              </a:rPr>
              <a:t>genitore naturale</a:t>
            </a:r>
            <a:r>
              <a:rPr b="0" lang="it-IT" sz="2800" spc="-1" strike="noStrike">
                <a:solidFill>
                  <a:srgbClr val="000000"/>
                </a:solidFill>
                <a:latin typeface="Arial"/>
              </a:rPr>
              <a:t> trattandosi di permessi inferiore ad un ann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726B9B-F7B0-4CD0-903A-ED5856C003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 cosa prevede la norma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ddove ricorra uno dei casi di divieto di espulsione se i crediti saranno pari o inferiori a zero alla scadenza del biennio,  di tale inadempimento </a:t>
            </a:r>
            <a:r>
              <a:rPr b="1" lang="en-US" sz="2800" spc="-1" strike="noStrike">
                <a:solidFill>
                  <a:srgbClr val="000000"/>
                </a:solidFill>
                <a:latin typeface="Arial"/>
              </a:rPr>
              <a:t>tiene conto il Prefetto per l’adozione  di provvedimenti discrezional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brerebbe trattarsi di un possibile rigetto del rinnovo  del permesso che tuttavia non trova riscontro  normativo.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D009E4-D3DB-4C6D-A891-1DFD28746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RANIERI ESPELLIBILI QUALORA  VADANO A ZERO O MENO DI ZERO CREDITI</a:t>
            </a:r>
            <a:endParaRPr b="0" lang="en-US" sz="2800" spc="-1" strike="noStrike">
              <a:solidFill>
                <a:srgbClr val="000000"/>
              </a:solidFill>
              <a:latin typeface="Arial"/>
            </a:endParaRPr>
          </a:p>
        </p:txBody>
      </p:sp>
      <p:sp>
        <p:nvSpPr>
          <p:cNvPr id="87"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Richiedenti:</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voro subordinato (compreso ex art.27) purchè abbiano un permesso  di durata annual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voro autonomo</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tivi religiosi</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tudio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tesa cittadinanza</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Residenza elettiva</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issione, ricerca scientifica, ecc se con permesso superiore all’anno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A66AB6C-FB3B-4404-92BE-1AE53E50EC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Segnaposto contenuto 1"/>
          <p:cNvSpPr/>
          <p:nvPr/>
        </p:nvSpPr>
        <p:spPr>
          <a:xfrm>
            <a:off x="250920" y="2133720"/>
            <a:ext cx="8229600" cy="3324240"/>
          </a:xfrm>
          <a:prstGeom prst="rect">
            <a:avLst/>
          </a:prstGeom>
          <a:noFill/>
          <a:ln w="0">
            <a:noFill/>
          </a:ln>
        </p:spPr>
        <p:style>
          <a:lnRef idx="0"/>
          <a:fillRef idx="0"/>
          <a:effectRef idx="0"/>
          <a:fontRef idx="minor"/>
        </p:style>
        <p:txBody>
          <a:bodyPr lIns="90000" rIns="90000" tIns="46800" bIns="46800" anchor="t">
            <a:normAutofit fontScale="90000"/>
          </a:bodyPr>
          <a:p>
            <a:pPr marL="245520" indent="-245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L' Accordo di integrazione, previsto dal Testo Unico per l'Immigrazione (</a:t>
            </a:r>
            <a:r>
              <a:rPr b="0" lang="it-IT" sz="3200" spc="-1" strike="noStrike" u="sng">
                <a:solidFill>
                  <a:srgbClr val="0066cc"/>
                </a:solidFill>
                <a:uFillTx/>
                <a:latin typeface="Arial"/>
                <a:hlinkClick r:id="rId1"/>
              </a:rPr>
              <a:t>articolo 4 bis del </a:t>
            </a:r>
            <a:r>
              <a:rPr b="0" lang="it-IT" sz="3200" spc="-1" strike="noStrike" u="sng">
                <a:solidFill>
                  <a:srgbClr val="0066cc"/>
                </a:solidFill>
                <a:uFillTx/>
                <a:latin typeface="Arial"/>
                <a:hlinkClick r:id="rId2"/>
              </a:rPr>
              <a:t>D.Lgs.</a:t>
            </a:r>
            <a:r>
              <a:rPr b="0" lang="it-IT" sz="3200" spc="-1" strike="noStrike" u="sng">
                <a:solidFill>
                  <a:srgbClr val="0066cc"/>
                </a:solidFill>
                <a:uFillTx/>
                <a:latin typeface="Arial"/>
                <a:hlinkClick r:id="rId3"/>
              </a:rPr>
              <a:t> n. 286 del 25 luglio 1998</a:t>
            </a:r>
            <a:r>
              <a:rPr b="0" lang="it-IT" sz="3200" spc="-1" strike="noStrike">
                <a:solidFill>
                  <a:srgbClr val="000000"/>
                </a:solidFill>
                <a:latin typeface="Arial"/>
              </a:rPr>
              <a:t>, introdotto dalla legge  n.94 del 15 luglio 2009 cd pacchetto di sicurezza), è disciplinato dal Regolamento (</a:t>
            </a:r>
            <a:r>
              <a:rPr b="0" lang="it-IT" sz="3200" spc="-1" strike="noStrike" u="sng">
                <a:solidFill>
                  <a:srgbClr val="0066cc"/>
                </a:solidFill>
                <a:uFillTx/>
                <a:latin typeface="Arial"/>
                <a:hlinkClick r:id="rId4"/>
              </a:rPr>
              <a:t>DPR n. 179 del 14 settembre 2011</a:t>
            </a:r>
            <a:r>
              <a:rPr b="0" lang="it-IT" sz="3200" spc="-1" strike="noStrike">
                <a:solidFill>
                  <a:srgbClr val="000000"/>
                </a:solidFill>
                <a:latin typeface="Arial"/>
              </a:rPr>
              <a:t>).</a:t>
            </a:r>
            <a:br>
              <a:rPr sz="3200"/>
            </a:br>
            <a:endParaRPr b="0" lang="en-US" sz="3200" spc="-1" strike="noStrike">
              <a:solidFill>
                <a:srgbClr val="000000"/>
              </a:solidFill>
              <a:latin typeface="Arial"/>
            </a:endParaRPr>
          </a:p>
          <a:p>
            <a:pPr marL="245520" indent="-245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5520" indent="-245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826920" y="115920"/>
            <a:ext cx="7696440" cy="1700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CORDO DI INTEGRAZIONE</a:t>
            </a:r>
            <a:br>
              <a:rPr sz="4000"/>
            </a:br>
            <a:r>
              <a:rPr b="1" lang="it-IT" sz="4000" spc="-1" strike="noStrike">
                <a:solidFill>
                  <a:srgbClr val="000000"/>
                </a:solidFill>
                <a:latin typeface="Arial"/>
              </a:rPr>
              <a:t>ovvero il cd permesso a punti</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31D2C6B-8983-4E8D-99B6-D7559BB035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E SI ACQUISTANO I CREDITI</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rediti di partenza sono 16</a:t>
            </a:r>
            <a:r>
              <a:rPr b="0" lang="en-US" sz="2400" spc="-1" strike="noStrike">
                <a:solidFill>
                  <a:srgbClr val="000000"/>
                </a:solidFill>
                <a:latin typeface="Arial"/>
              </a:rPr>
              <a:t>, attribuiti all’atto della sottoscrizione dell’accordo e corrispondenti al </a:t>
            </a:r>
            <a:r>
              <a:rPr b="1" lang="en-US" sz="2400" spc="-1" strike="noStrike">
                <a:solidFill>
                  <a:srgbClr val="000000"/>
                </a:solidFill>
                <a:latin typeface="Arial"/>
              </a:rPr>
              <a:t>livello A1</a:t>
            </a:r>
            <a:r>
              <a:rPr b="0" lang="en-US" sz="2400" spc="-1" strike="noStrike">
                <a:solidFill>
                  <a:srgbClr val="000000"/>
                </a:solidFill>
                <a:latin typeface="Arial"/>
              </a:rPr>
              <a:t> della conoscenza della lingua italiana parlata (10 crediti) ed al livello sufficiente della cultura civica e della vita civile in Italia (6 crediti)</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Stato assicura  allo straniero  la partecipazione  ad una sessione gratuita di formazione per la conoscenza della cultura civica e della vita civile in Italia, la cui mancata partecipazione  determina la </a:t>
            </a:r>
            <a:r>
              <a:rPr b="1" lang="en-US" sz="2400" spc="-1" strike="noStrike">
                <a:solidFill>
                  <a:srgbClr val="000000"/>
                </a:solidFill>
                <a:latin typeface="Arial"/>
              </a:rPr>
              <a:t>perdita dei 15 su 16</a:t>
            </a:r>
            <a:r>
              <a:rPr b="0" lang="en-US" sz="2400" spc="-1" strike="noStrike">
                <a:solidFill>
                  <a:srgbClr val="000000"/>
                </a:solidFill>
                <a:latin typeface="Arial"/>
              </a:rPr>
              <a:t> crediti assegnati inizialment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ti crediti dovranno essere confermati  al momento della verifica dell’accordo </a:t>
            </a:r>
            <a:r>
              <a:rPr b="1" lang="en-US" sz="2400" spc="-1" strike="noStrike">
                <a:solidFill>
                  <a:srgbClr val="000000"/>
                </a:solidFill>
                <a:latin typeface="Arial"/>
              </a:rPr>
              <a:t>dopo 2 anni</a:t>
            </a:r>
            <a:r>
              <a:rPr b="0" lang="en-US" sz="2400" spc="-1" strike="noStrike">
                <a:solidFill>
                  <a:srgbClr val="000000"/>
                </a:solidFill>
                <a:latin typeface="Arial"/>
              </a:rPr>
              <a:t>, con la conseguenza che possono essere decurtati o aumentati</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2369DE-F855-4FF3-92CB-ECE93AB6EB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nno sottoposti a verifica dopo 2 anni anche coloro che ottengono un </a:t>
            </a:r>
            <a:r>
              <a:rPr b="1" lang="en-US" sz="2400" spc="-1" strike="noStrike">
                <a:solidFill>
                  <a:srgbClr val="000000"/>
                </a:solidFill>
                <a:latin typeface="Arial"/>
              </a:rPr>
              <a:t>permesso di un anno</a:t>
            </a:r>
            <a:r>
              <a:rPr b="0" lang="en-US" sz="2400" spc="-1" strike="noStrike">
                <a:solidFill>
                  <a:srgbClr val="000000"/>
                </a:solidFill>
                <a:latin typeface="Arial"/>
              </a:rPr>
              <a:t> (es. per studio) ma allo scadere del primo anno saranno decurtati i 15 dei 16 crediti iniziali qualora lo straniero sia risultato assente alla sessione formativa</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straniero comunque  potrà </a:t>
            </a:r>
            <a:r>
              <a:rPr b="1" lang="en-US" sz="2400" spc="-1" strike="noStrike">
                <a:solidFill>
                  <a:srgbClr val="000000"/>
                </a:solidFill>
                <a:latin typeface="Arial"/>
              </a:rPr>
              <a:t>sempre </a:t>
            </a:r>
            <a:r>
              <a:rPr b="0" lang="en-US" sz="2400" spc="-1" strike="noStrike">
                <a:solidFill>
                  <a:srgbClr val="000000"/>
                </a:solidFill>
                <a:latin typeface="Arial"/>
              </a:rPr>
              <a:t>recuperare i crediti  superando l’apposito test di conoscenza della lingua e della cultura civica italiana fatto dal SUI in base all’art.6 c.1 del DPR 179/2011,  seguendo la medesima procedura già in uso per il test di lingua per i richiedenti il permesso CE per SLP ma che avrà un contenuto diverso essendo riferito  anche alla cultura civica, con conseguente aggiornamento dell’Accordo Quadro  in precedenza stipulato per il test di italiano per i richiedenti la ex carta di soggiorno.</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5F3BC26-6733-43B8-8E22-6CF6F78668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RICONOSCIMENTO DI ULTERIORI CREDITI</a:t>
            </a: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l. B del Regolamen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si di lingu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si di educazione civic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orsi di istruzione di vario gen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ività economico-imprenditoria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lta del medico di b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ività di volontari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pula di contratto di affitto regol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orificenz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 ved. schede a parte ove  i crediti relativi ad alcune voci (*)  non sono tra di loro cumulabili se non per la differenz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530A6E-8027-4820-8A77-8D2E5F8BF0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CURTAZIONE DEI CREDTI</a:t>
            </a:r>
            <a:endParaRPr b="0" lang="en-US" sz="4000" spc="-1" strike="noStrike">
              <a:solidFill>
                <a:srgbClr val="000000"/>
              </a:solidFill>
              <a:latin typeface="Arial"/>
            </a:endParaRPr>
          </a:p>
        </p:txBody>
      </p:sp>
      <p:sp>
        <p:nvSpPr>
          <p:cNvPr id="94" name="PlaceHolder 2"/>
          <p:cNvSpPr>
            <a:spLocks noGrp="1"/>
          </p:cNvSpPr>
          <p:nvPr>
            <p:ph/>
          </p:nvPr>
        </p:nvSpPr>
        <p:spPr>
          <a:xfrm>
            <a:off x="468360" y="836280"/>
            <a:ext cx="8229600" cy="495756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All. C del Regolamento:</a:t>
            </a:r>
            <a:endParaRPr b="0" lang="en-US" sz="2400" spc="-1" strike="noStrike">
              <a:solidFill>
                <a:srgbClr val="000000"/>
              </a:solidFill>
              <a:latin typeface="Arial"/>
            </a:endParaRPr>
          </a:p>
          <a:p>
            <a:pPr marL="298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danne penali, </a:t>
            </a:r>
            <a:r>
              <a:rPr b="1" lang="it-IT" sz="2400" spc="-1" strike="noStrike">
                <a:solidFill>
                  <a:srgbClr val="000000"/>
                </a:solidFill>
                <a:latin typeface="Arial"/>
              </a:rPr>
              <a:t>anche con sentenza non definitiva</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rrogazione di sanzioni pecuniarie definitive in relazione a gravi illeciti amministrativi o tributari</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licazione anche non definitiva di misure di sicurezza personali (es.: Iibertà vigilata, divieto di frequentare osterie e pubblici spacci di bevande alcoliche; divieto di soggiorno in uno o più comuni o in una o più provincie)  </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mmontare dei crediti persi è proporzionale alla gravità</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gli illeciti penali,amministrativi o tributari e degli</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adempimenti commessi (ved. schede a parte)</a:t>
            </a:r>
            <a:endParaRPr b="0" lang="en-US" sz="24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B.La mancata partecipazione al corso di formazione civica e di informazione sulla vita in Italia dà luogo alla perdita di 15 dei 16 crediti assegnati al momento della sottoscrizione dell’accord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6C9045D-402D-4661-A19F-479584ECA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IFICA DELL’ACCORDO</a:t>
            </a:r>
            <a:endParaRPr b="0" lang="en-US" sz="4400" spc="-1" strike="noStrike">
              <a:solidFill>
                <a:srgbClr val="000000"/>
              </a:solidFill>
              <a:latin typeface="Arial"/>
            </a:endParaRPr>
          </a:p>
        </p:txBody>
      </p:sp>
      <p:sp>
        <p:nvSpPr>
          <p:cNvPr id="9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mese prima della scadenza del biennio</a:t>
            </a:r>
            <a:r>
              <a:rPr b="0" lang="en-US" sz="2200" spc="-1" strike="noStrike">
                <a:solidFill>
                  <a:srgbClr val="000000"/>
                </a:solidFill>
                <a:latin typeface="Arial"/>
              </a:rPr>
              <a:t> lo Sportello Unico per l'Immigrazione </a:t>
            </a:r>
            <a:r>
              <a:rPr b="1" lang="en-US" sz="2200" spc="-1" strike="noStrike">
                <a:solidFill>
                  <a:srgbClr val="000000"/>
                </a:solidFill>
                <a:latin typeface="Arial"/>
              </a:rPr>
              <a:t>invita lo straniero a presentare la documentazione</a:t>
            </a:r>
            <a:r>
              <a:rPr b="0" lang="en-US" sz="2200" spc="-1" strike="noStrike">
                <a:solidFill>
                  <a:srgbClr val="000000"/>
                </a:solidFill>
                <a:latin typeface="Arial"/>
              </a:rPr>
              <a:t> necessaria ad ottenere il riconoscimento dei crediti e la certificazione relativa all'adempimento dell'obbligo di </a:t>
            </a:r>
            <a:r>
              <a:rPr b="1" lang="en-US" sz="2200" spc="-1" strike="noStrike">
                <a:solidFill>
                  <a:srgbClr val="000000"/>
                </a:solidFill>
                <a:latin typeface="Arial"/>
              </a:rPr>
              <a:t>istruzione dei figli minori</a:t>
            </a:r>
            <a:r>
              <a:rPr b="0" lang="en-US" sz="2200" spc="-1" strike="noStrike">
                <a:solidFill>
                  <a:srgbClr val="000000"/>
                </a:solidFill>
                <a:latin typeface="Arial"/>
              </a:rPr>
              <a:t> o, in assenza, la prova  di essersi adoperato per garantirne l'adempimento. </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ica della situazione possibile in qualunque momento da parte dell’interessato ovvero tramite Patronato</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cadenza dovrà tenere conto delle sospensioni e proroghe concesse </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ssenza di idonea documentazione per l'accertamento del proprio livello di conoscenza della lingua italiana, della cultura civica e della vita civile in Italia lo straniero </a:t>
            </a:r>
            <a:r>
              <a:rPr b="1" lang="en-US" sz="2200" spc="-1" strike="noStrike">
                <a:solidFill>
                  <a:srgbClr val="000000"/>
                </a:solidFill>
                <a:latin typeface="Arial"/>
              </a:rPr>
              <a:t>può sempre chiedere</a:t>
            </a:r>
            <a:r>
              <a:rPr b="0" lang="en-US" sz="2200" spc="-1" strike="noStrike">
                <a:solidFill>
                  <a:srgbClr val="000000"/>
                </a:solidFill>
                <a:latin typeface="Arial"/>
              </a:rPr>
              <a:t> di svolgere gratuitamente l’apposito test a cura del SUI.</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DC21352-ACB0-489D-9B08-0CCF35E1B2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 crediti assegnati al momento della sottoscrizione dell'accordo vengono confermati nel caso in cui </a:t>
            </a:r>
            <a:r>
              <a:rPr b="1" lang="en-US" sz="2300" spc="-1" strike="noStrike">
                <a:solidFill>
                  <a:srgbClr val="000000"/>
                </a:solidFill>
                <a:latin typeface="Arial"/>
              </a:rPr>
              <a:t>sia accertato il livello A1</a:t>
            </a:r>
            <a:r>
              <a:rPr b="0" lang="en-US" sz="2300" spc="-1" strike="noStrike">
                <a:solidFill>
                  <a:srgbClr val="000000"/>
                </a:solidFill>
                <a:latin typeface="Arial"/>
              </a:rPr>
              <a:t> di conoscenza della lingua italiana parlata ed il livello sufficiente di conoscenza della cultura civica e della vita civile in Italia; in caso contrario i crediti vengono diminuiti.</a:t>
            </a:r>
            <a:endParaRPr b="0" lang="en-US" sz="2300" spc="-1" strike="noStrike">
              <a:solidFill>
                <a:srgbClr val="000000"/>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9040" indent="-3290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 durante la verifica viene accertato un livello di conoscenza superiore rispetto a quello minimo previsto, si provvede al riconoscimento dei crediti aggiuntivi rispetto a quelli attribuiti inizialmente.</a:t>
            </a:r>
            <a:endParaRPr b="0" lang="en-US" sz="2300" spc="-1" strike="noStrike">
              <a:solidFill>
                <a:srgbClr val="000000"/>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9040" indent="-3290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inadempimento dell’obbligo scolastico da parte dei figli minori comporta la risoluzione </a:t>
            </a:r>
            <a:r>
              <a:rPr b="1" lang="en-US" sz="2300" spc="-1" strike="noStrike" u="sng">
                <a:solidFill>
                  <a:srgbClr val="000000"/>
                </a:solidFill>
                <a:uFillTx/>
                <a:latin typeface="Arial"/>
              </a:rPr>
              <a:t>in capo ai genitori</a:t>
            </a:r>
            <a:r>
              <a:rPr b="1" lang="en-US" sz="2300" spc="-1" strike="noStrike">
                <a:solidFill>
                  <a:srgbClr val="000000"/>
                </a:solidFill>
                <a:latin typeface="Arial"/>
              </a:rPr>
              <a:t> dell’accordo</a:t>
            </a:r>
            <a:r>
              <a:rPr b="0" lang="en-US" sz="2300" spc="-1" strike="noStrike">
                <a:solidFill>
                  <a:srgbClr val="000000"/>
                </a:solidFill>
                <a:latin typeface="Arial"/>
              </a:rPr>
              <a:t>, salva la dimostrazione (?) di essersi effettivamente adoperati  per garantirne l'adempimento  L’ingiustificato inadempimento determina la perdita integrale di </a:t>
            </a:r>
            <a:r>
              <a:rPr b="1" lang="en-US" sz="2300" spc="-1" strike="noStrike">
                <a:solidFill>
                  <a:srgbClr val="000000"/>
                </a:solidFill>
                <a:latin typeface="Arial"/>
              </a:rPr>
              <a:t>tutti</a:t>
            </a:r>
            <a:r>
              <a:rPr b="0" lang="en-US" sz="2300" spc="-1" strike="noStrike">
                <a:solidFill>
                  <a:srgbClr val="000000"/>
                </a:solidFill>
                <a:latin typeface="Arial"/>
              </a:rPr>
              <a:t> i crediti (sia quelli iniziali che quelli acquisiti successivamente), la risoluzione dell’accordo e quindi la revoca o il rifiuto del permesso e l’espulsione. </a:t>
            </a:r>
            <a:endParaRPr b="0" lang="en-US" sz="2300" spc="-1" strike="noStrike">
              <a:solidFill>
                <a:srgbClr val="000000"/>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863D32FD-8100-4745-8C42-85250003E8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ITO DELLA VERIFICA</a:t>
            </a:r>
            <a:endParaRPr b="0" lang="en-US" sz="3600" spc="-1" strike="noStrike">
              <a:solidFill>
                <a:srgbClr val="000000"/>
              </a:solidFill>
              <a:latin typeface="Arial"/>
            </a:endParaRPr>
          </a:p>
        </p:txBody>
      </p:sp>
      <p:sp>
        <p:nvSpPr>
          <p:cNvPr id="99"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457200" indent="-45720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 il numero dei crediti finali è </a:t>
            </a:r>
            <a:r>
              <a:rPr b="1" lang="it-IT" sz="2600" spc="-1" strike="noStrike">
                <a:solidFill>
                  <a:srgbClr val="000000"/>
                </a:solidFill>
                <a:latin typeface="Arial"/>
              </a:rPr>
              <a:t>pari o superiore a 30</a:t>
            </a:r>
            <a:r>
              <a:rPr b="0" lang="it-IT" sz="2600" spc="-1" strike="noStrike">
                <a:solidFill>
                  <a:srgbClr val="000000"/>
                </a:solidFill>
                <a:latin typeface="Arial"/>
              </a:rPr>
              <a:t> l'accordo si considera rispettato, </a:t>
            </a:r>
            <a:r>
              <a:rPr b="1" lang="it-IT" sz="2600" spc="-1" strike="noStrike">
                <a:solidFill>
                  <a:srgbClr val="000000"/>
                </a:solidFill>
                <a:latin typeface="Arial"/>
              </a:rPr>
              <a:t>purchè siano stati conseguiti il livello A2 della conoscenza della lingua italiana</a:t>
            </a:r>
            <a:r>
              <a:rPr b="0" lang="it-IT" sz="2600" spc="-1" strike="noStrike">
                <a:solidFill>
                  <a:srgbClr val="000000"/>
                </a:solidFill>
                <a:latin typeface="Arial"/>
              </a:rPr>
              <a:t> parlata e la sufficiente conoscenza della cultura civica e della vita civile in Italia </a:t>
            </a:r>
            <a:r>
              <a:rPr b="1" lang="it-IT" sz="2600" spc="-1" strike="noStrike">
                <a:solidFill>
                  <a:srgbClr val="000000"/>
                </a:solidFill>
                <a:latin typeface="Arial"/>
              </a:rPr>
              <a:t>(estinzione dell’accordo per adempimento)</a:t>
            </a:r>
            <a:endParaRPr b="0" lang="en-US" sz="2600" spc="-1" strike="noStrike">
              <a:solidFill>
                <a:srgbClr val="000000"/>
              </a:solidFill>
              <a:latin typeface="Arial"/>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 il numero dei crediti finali è </a:t>
            </a:r>
            <a:r>
              <a:rPr b="1" lang="it-IT" sz="2600" spc="-1" strike="noStrike">
                <a:solidFill>
                  <a:srgbClr val="000000"/>
                </a:solidFill>
                <a:latin typeface="Arial"/>
              </a:rPr>
              <a:t>tra 1 e 29</a:t>
            </a:r>
            <a:r>
              <a:rPr b="0" lang="it-IT" sz="2600" spc="-1" strike="noStrike">
                <a:solidFill>
                  <a:srgbClr val="000000"/>
                </a:solidFill>
                <a:latin typeface="Arial"/>
              </a:rPr>
              <a:t> oppure non sono stati conseguiti il livello  A2  per l’italiano parlato  o  una conoscenza sufficiente della cultura civica e della vita civile in Italia l'accordo </a:t>
            </a:r>
            <a:r>
              <a:rPr b="1" lang="it-IT" sz="2600" spc="-1" strike="noStrike">
                <a:solidFill>
                  <a:srgbClr val="000000"/>
                </a:solidFill>
                <a:latin typeface="Arial"/>
              </a:rPr>
              <a:t>è prorogato per un anno alle stesse condizioni </a:t>
            </a:r>
            <a:endParaRPr b="0" lang="en-US" sz="2600" spc="-1" strike="noStrike">
              <a:solidFill>
                <a:srgbClr val="000000"/>
              </a:solidFill>
              <a:latin typeface="Arial"/>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7B3FE39-4487-420A-8553-B19ECF8E4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83000"/>
          </a:bodyPr>
          <a:p>
            <a:pPr marL="284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se il numero dei crediti finali è </a:t>
            </a:r>
            <a:r>
              <a:rPr b="1" lang="en-US" sz="2200" spc="-1" strike="noStrike">
                <a:solidFill>
                  <a:srgbClr val="000000"/>
                </a:solidFill>
                <a:latin typeface="Arial"/>
              </a:rPr>
              <a:t>pari o inferiore a 0</a:t>
            </a:r>
            <a:r>
              <a:rPr b="0" lang="en-US" sz="2200" spc="-1" strike="noStrike">
                <a:solidFill>
                  <a:srgbClr val="000000"/>
                </a:solidFill>
                <a:latin typeface="Arial"/>
              </a:rPr>
              <a:t> il </a:t>
            </a:r>
            <a:r>
              <a:rPr b="1" lang="en-US" sz="2200" spc="-1" strike="noStrike">
                <a:solidFill>
                  <a:srgbClr val="000000"/>
                </a:solidFill>
                <a:latin typeface="Arial"/>
              </a:rPr>
              <a:t>permesso di soggiorno è revocato</a:t>
            </a:r>
            <a:r>
              <a:rPr b="0" lang="en-US" sz="2200" spc="-1" strike="noStrike">
                <a:solidFill>
                  <a:srgbClr val="000000"/>
                </a:solidFill>
                <a:latin typeface="Arial"/>
              </a:rPr>
              <a:t> </a:t>
            </a:r>
            <a:r>
              <a:rPr b="1" lang="en-US" sz="2200" spc="-1" strike="noStrike">
                <a:solidFill>
                  <a:srgbClr val="000000"/>
                </a:solidFill>
                <a:latin typeface="Arial"/>
              </a:rPr>
              <a:t>o viene rifiutato il rinnovo</a:t>
            </a:r>
            <a:r>
              <a:rPr b="0" lang="en-US" sz="2200" spc="-1" strike="noStrike">
                <a:solidFill>
                  <a:srgbClr val="000000"/>
                </a:solidFill>
                <a:latin typeface="Arial"/>
              </a:rPr>
              <a:t> e viene adottato il provvedimento amministrativo di espulsione </a:t>
            </a:r>
            <a:r>
              <a:rPr b="1" lang="en-US" sz="2200" spc="-1" strike="noStrike">
                <a:solidFill>
                  <a:srgbClr val="000000"/>
                </a:solidFill>
                <a:latin typeface="Arial"/>
              </a:rPr>
              <a:t>(risoluzione dell’accordo per inadempimento)</a:t>
            </a:r>
            <a:endParaRPr b="0" lang="en-US" sz="2200" spc="-1" strike="noStrike">
              <a:solidFill>
                <a:srgbClr val="000000"/>
              </a:solidFill>
              <a:latin typeface="Arial"/>
            </a:endParaRPr>
          </a:p>
          <a:p>
            <a:pPr marL="284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 l’interessato non può essere espulso, l’inadempimento dell’accordo è preso in considerazione esclusivamente ai fini delle future decisioni discrezionali in materia di immigrazione (v. considerazioni sopra già svolte)</a:t>
            </a: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Nel caso di proroga di cui al punto 2, la verifica verrà fatta in riferimento all’intero triennio non ulteriormente prorogabile  e potrà portare all’espulsione dell’interessato qualora il n. dei crediti finali  sia pari o inferiore a zero </a:t>
            </a:r>
            <a:r>
              <a:rPr b="1" lang="en-US" sz="2200" spc="-1" strike="noStrike">
                <a:solidFill>
                  <a:srgbClr val="000000"/>
                </a:solidFill>
                <a:latin typeface="Arial"/>
              </a:rPr>
              <a:t>(risoluzione dell’accordo per inadempimento parziale, </a:t>
            </a:r>
            <a:r>
              <a:rPr b="0" lang="en-US" sz="2200" spc="-1" strike="noStrike">
                <a:solidFill>
                  <a:srgbClr val="000000"/>
                </a:solidFill>
                <a:latin typeface="Arial"/>
              </a:rPr>
              <a:t>di cui l’autorità competente terrà conto per l’adozione dei provvedimenti discrezionali in materia di immigrazione senza però chiarire su quali basi dovrebbero operare.)</a:t>
            </a: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C6E3C601-76EC-470E-8986-73C680033B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SPENSIONE O PROROGA</a:t>
            </a:r>
            <a:endParaRPr b="0" lang="en-US" sz="4400" spc="-1" strike="noStrike">
              <a:solidFill>
                <a:srgbClr val="00000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cordo può essere sospeso o prorogato, a domanda, per il tempo in cui sussista una </a:t>
            </a:r>
            <a:r>
              <a:rPr b="1" lang="en-US" sz="2400" spc="-1" strike="noStrike">
                <a:solidFill>
                  <a:srgbClr val="000000"/>
                </a:solidFill>
                <a:latin typeface="Arial"/>
              </a:rPr>
              <a:t>causa di forza maggiore o un legittimo impedimento</a:t>
            </a:r>
            <a:r>
              <a:rPr b="0" lang="en-US" sz="2400" spc="-1" strike="noStrike">
                <a:solidFill>
                  <a:srgbClr val="000000"/>
                </a:solidFill>
                <a:latin typeface="Arial"/>
              </a:rPr>
              <a:t> al rispetto dell'accordo, attesta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averso idonea documentazione, derivante da gravi motivi di salute o di famiglia, da motivi di lavoro, dalla frequenza di corsi o tirocini di formazione, aggiornamento o orientamento professionale oppure da motivi di studio all'ester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gravi motivi di salute sono attestati attraverso la presentazione di una certificazione rilasciata da una struttura sanitaria pubblica o da un medico convenzionato con il Servizio sanitario naziona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F3BA49D-ECDC-4C8C-A131-A56EC5A8E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ora da defin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à di presentazione delle istanze  di sospensione o prorog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à di accettazione/dinie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gni caso consigliamo di conservare con cura ogni documentazione idone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AE82B97-779C-44E1-A2E4-9C0C0D45BB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 COSA 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cordo comporta per lo straniero l'impegno a sottoscrivere specifici obiettivi di integrazione, da conseguire nel periodo di validità del permesso di soggiorno ed è articolato mediante un </a:t>
            </a:r>
            <a:r>
              <a:rPr b="1" lang="en-US" sz="3200" spc="-1" strike="noStrike" u="sng">
                <a:solidFill>
                  <a:srgbClr val="000000"/>
                </a:solidFill>
                <a:uFillTx/>
                <a:latin typeface="Arial"/>
              </a:rPr>
              <a:t>sistema a punti di crediti e di debiti</a:t>
            </a:r>
            <a:r>
              <a:rPr b="0" lang="en-US" sz="3200" spc="-1" strike="noStrike">
                <a:solidFill>
                  <a:srgbClr val="000000"/>
                </a:solidFill>
                <a:latin typeface="Arial"/>
              </a:rPr>
              <a:t> legati al comportamento degli immigrati in base ai parametri stabiliti dalla leg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70F9C5-EF2C-499A-BD3C-EACF73C8F2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it-IT" sz="3400" spc="-1" strike="noStrike">
                <a:solidFill>
                  <a:srgbClr val="000000"/>
                </a:solidFill>
                <a:latin typeface="Arial"/>
              </a:rPr>
              <a:t>ANAGRAFE DEGLI INTESTARI DEGLI ACCORDI DI INTEGRAZ.</a:t>
            </a:r>
            <a:r>
              <a:rPr b="0" lang="it-IT"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468360" y="1268280"/>
            <a:ext cx="8229600" cy="5289840"/>
          </a:xfrm>
          <a:prstGeom prst="rect">
            <a:avLst/>
          </a:prstGeom>
          <a:noFill/>
          <a:ln w="0">
            <a:noFill/>
          </a:ln>
        </p:spPr>
        <p:txBody>
          <a:bodyPr lIns="90000" rIns="90000" tIns="46800" bIns="46800" anchor="t">
            <a:normAutofit fontScale="99000"/>
          </a:bodyPr>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È stato predisposto un </a:t>
            </a:r>
            <a:r>
              <a:rPr b="1" lang="en-US" sz="2500" spc="-1" strike="noStrike">
                <a:solidFill>
                  <a:srgbClr val="000000"/>
                </a:solidFill>
                <a:latin typeface="Arial"/>
              </a:rPr>
              <a:t>apposito sistema informatico</a:t>
            </a: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izzato dalla Prefettura (e dalla Questura)  che</a:t>
            </a: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stirà:</a:t>
            </a:r>
            <a:endParaRPr b="0" lang="en-US" sz="2500" spc="-1" strike="noStrike">
              <a:solidFill>
                <a:srgbClr val="000000"/>
              </a:solidFill>
              <a:latin typeface="Arial"/>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genda delle prenotazioni per la frequenza al corso di formazione civica</a:t>
            </a:r>
            <a:endParaRPr b="0" lang="en-US" sz="2500" spc="-1" strike="noStrike">
              <a:solidFill>
                <a:srgbClr val="000000"/>
              </a:solidFill>
              <a:latin typeface="Arial"/>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registrazione dei crediti maturati</a:t>
            </a:r>
            <a:endParaRPr b="0" lang="en-US" sz="2500" spc="-1" strike="noStrike">
              <a:solidFill>
                <a:srgbClr val="000000"/>
              </a:solidFill>
              <a:latin typeface="Arial"/>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 funzioni di sospensione-proroga  e decadenza, nonché la verifica dei crediti</a:t>
            </a:r>
            <a:endParaRPr b="0" lang="en-US" sz="2500" spc="-1" strike="noStrike">
              <a:solidFill>
                <a:srgbClr val="000000"/>
              </a:solidFill>
              <a:latin typeface="Arial"/>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composizione del nucleo familiare</a:t>
            </a:r>
            <a:endParaRPr b="0" lang="en-US" sz="2500" spc="-1" strike="noStrike">
              <a:solidFill>
                <a:srgbClr val="000000"/>
              </a:solidFill>
              <a:latin typeface="Arial"/>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consentire all’immigrato di verificare tempo per tempo la propria posizione è stato previsto un </a:t>
            </a:r>
            <a:r>
              <a:rPr b="1" lang="en-US" sz="2500" spc="-1" strike="noStrike">
                <a:solidFill>
                  <a:srgbClr val="000000"/>
                </a:solidFill>
                <a:latin typeface="Arial"/>
              </a:rPr>
              <a:t>portale di accesso a consultazione diretta</a:t>
            </a:r>
            <a:r>
              <a:rPr b="0" lang="en-US" sz="2500" spc="-1" strike="noStrike">
                <a:solidFill>
                  <a:srgbClr val="000000"/>
                </a:solidFill>
                <a:latin typeface="Arial"/>
              </a:rPr>
              <a:t> per verificare l</a:t>
            </a:r>
            <a:r>
              <a:rPr b="0" lang="en-US" sz="2400" spc="-1" strike="noStrike">
                <a:solidFill>
                  <a:srgbClr val="000000"/>
                </a:solidFill>
                <a:latin typeface="Arial"/>
              </a:rPr>
              <a:t>e date di convocazione per lo svolgimento del test ed i crediti maturati</a:t>
            </a:r>
            <a:endParaRPr b="0" lang="en-US" sz="2400" spc="-1" strike="noStrike">
              <a:solidFill>
                <a:srgbClr val="000000"/>
              </a:solidFill>
              <a:latin typeface="Arial"/>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682FE537-7299-4CE5-BFA1-7289A8606D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ER PROCEDURALE</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straniero si reca presso il SUI/Questura  dove </a:t>
            </a:r>
            <a:r>
              <a:rPr b="1" lang="en-US" sz="2400" spc="-1" strike="noStrike">
                <a:solidFill>
                  <a:srgbClr val="000000"/>
                </a:solidFill>
                <a:latin typeface="Arial"/>
              </a:rPr>
              <a:t>l’operatore provveder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elaborare e stampare il mod.209 e l’accordo di integrazione nella lingua prescelta dall’interessa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sare con lettera nella medesima lingua l’appuntamento per la sessione di informazione sulla vita civile in Ital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re la composizione del nucleo familiare secondo le indicazioni dello strani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gnare con lettera nella medesima lingua  le credenziali provvisorie necessarie per verificare lo stato dell’accordo (se non acquisite in precedenza) del tip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3AC68D-D1FF-40F1-94AD-79F63C91B1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360" y="333360"/>
            <a:ext cx="8229600" cy="61833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es. MARIAESTHER. GUEVARA ACHA.17344</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Password  9BCB4BCC.17344</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uccessivamente lo stranier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collegherà  al sito </a:t>
            </a:r>
            <a:r>
              <a:rPr b="0" lang="it-IT" sz="2400" spc="-1" strike="noStrike" u="sng">
                <a:solidFill>
                  <a:srgbClr val="0066cc"/>
                </a:solidFill>
                <a:uFillTx/>
                <a:latin typeface="Arial"/>
                <a:hlinkClick r:id="rId1"/>
              </a:rPr>
              <a:t>https://accordointegrazione.dlci.interno.i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metterà dette credenziali nel sistema  che gli richiederà l’indicazione di un indirizzo email  valido e di una password (almeno 8 caratteri anche speciali di almeno uno numeric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perazione genera l’invio di una email all’indirizz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dicato; il destinatario dovrà  </a:t>
            </a:r>
            <a:r>
              <a:rPr b="1" lang="it-IT" sz="2400" spc="-1" strike="noStrike">
                <a:solidFill>
                  <a:srgbClr val="000000"/>
                </a:solidFill>
                <a:latin typeface="Arial"/>
              </a:rPr>
              <a:t>confermare</a:t>
            </a:r>
            <a:r>
              <a:rPr b="0" lang="it-IT" sz="2400" spc="-1" strike="noStrike">
                <a:solidFill>
                  <a:srgbClr val="000000"/>
                </a:solidFill>
                <a:latin typeface="Arial"/>
              </a:rPr>
              <a:t> la registrazion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 questo punto per gli ingressi successivi l’utente potrà accedere al portale “nulla osta”  con l’indirizzo email  e la password prescelti.</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885F7F3-40EB-47CC-9D72-8ACD8E39A4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5280" y="404280"/>
            <a:ext cx="8229600" cy="521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straniero può quind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onsultare</a:t>
            </a:r>
            <a:r>
              <a:rPr b="0" lang="en-US" sz="2400" spc="-1" strike="noStrike">
                <a:solidFill>
                  <a:srgbClr val="000000"/>
                </a:solidFill>
                <a:latin typeface="Arial"/>
              </a:rPr>
              <a:t> i propri dati anagrafici e la situazio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giornata dei cred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ggiornare</a:t>
            </a:r>
            <a:r>
              <a:rPr b="0" lang="en-US" sz="2400" spc="-1" strike="noStrike">
                <a:solidFill>
                  <a:srgbClr val="000000"/>
                </a:solidFill>
                <a:latin typeface="Arial"/>
              </a:rPr>
              <a:t> i dati relativi ai recapiti per le comunicazio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hiedere la sospensione o la proroga dell’accordo di integrazione</a:t>
            </a:r>
            <a:r>
              <a:rPr b="0" lang="en-US" sz="2400" spc="-1" strike="noStrike">
                <a:solidFill>
                  <a:srgbClr val="000000"/>
                </a:solidFill>
                <a:latin typeface="Arial"/>
              </a:rPr>
              <a:t> inviando al SUI idonea documentazi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gravi motivi di salute o di famigl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i di lavor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za a corsi o tirocini di formazi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i di studio all’est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ni modifica risulterà visibile  con modalità informa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336B213-128F-4AAB-8416-C90E2D28F8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ULO CNF</a:t>
            </a:r>
            <a:endParaRPr b="0" lang="en-US" sz="4000" spc="-1" strike="noStrike">
              <a:solidFill>
                <a:srgbClr val="000000"/>
              </a:solidFill>
              <a:latin typeface="Arial"/>
            </a:endParaRPr>
          </a:p>
        </p:txBody>
      </p:sp>
      <p:sp>
        <p:nvSpPr>
          <p:cNvPr id="111" name="PlaceHolder 2"/>
          <p:cNvSpPr>
            <a:spLocks noGrp="1"/>
          </p:cNvSpPr>
          <p:nvPr>
            <p:ph/>
          </p:nvPr>
        </p:nvSpPr>
        <p:spPr>
          <a:xfrm>
            <a:off x="468360" y="1052280"/>
            <a:ext cx="8229600" cy="50734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 lo straniero potrebbe  anche aver effettuato d’iniziativa la procedura di registrazione al portale  cd ALI </a:t>
            </a:r>
            <a:r>
              <a:rPr b="1" lang="en-US" sz="2400" spc="-1" strike="noStrike">
                <a:solidFill>
                  <a:srgbClr val="000000"/>
                </a:solidFill>
                <a:latin typeface="Arial"/>
              </a:rPr>
              <a:t>prima</a:t>
            </a:r>
            <a:r>
              <a:rPr b="0" lang="en-US" sz="2400" spc="-1" strike="noStrike">
                <a:solidFill>
                  <a:srgbClr val="000000"/>
                </a:solidFill>
                <a:latin typeface="Arial"/>
              </a:rPr>
              <a:t> della firma dell’accordo di integrazione, mediante la compilazione del mod. CNF utilizzando l’identificativo della domanda di lavoro/ricongiungimento familiare (il cui modulo sembra riguardare la sola fattispecie lavoro).</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e </a:t>
            </a:r>
            <a:r>
              <a:rPr b="1" lang="en-US" sz="2400" spc="-1" strike="noStrike">
                <a:solidFill>
                  <a:srgbClr val="000000"/>
                </a:solidFill>
                <a:latin typeface="Arial"/>
              </a:rPr>
              <a:t>preferibile </a:t>
            </a:r>
            <a:r>
              <a:rPr b="0" lang="en-US" sz="2400" spc="-1" strike="noStrike">
                <a:solidFill>
                  <a:srgbClr val="000000"/>
                </a:solidFill>
                <a:latin typeface="Arial"/>
              </a:rPr>
              <a:t>che lo straniero comunichi i dati del proprio nucleo familiare direttamente all’operatore in fase di firma del’accordo.</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a anagrafica familiare si deve tenere conto delle recenti circolari sui nomi di Filippini ed Egizia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0F95E5-C366-4DF4-911C-CAE6CF5D9A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A DOBBIAMO FARE</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re preventivamente lo straniero dei nuovi oneri a suo ca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re il corretto funzionamento della macchina amministrativa predisposta, con riferimento 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ttoscrizione degli accordi di integrazion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enziali di accesso</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C9A5FF-EA20-494E-BB56-1E1D173934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SA ABBIAMO GIA’ NOTATO</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ongiungimenti di più familiari che entrano in Italia in un numero di persone inferiore rispetto al previs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S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volta non rilascia il kit (che quindi dobbiamo fare no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fa sottoscrivere l’accordo di integrazione, per il quale quindi dovrà provvedere la Questura al momento della convocazione per le impronte e che fornirà direttamente l’appuntamento per la sessione formativa  sulla cultura civica e la vita civi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AC8EC6-38A5-4D4B-8AFC-C88AFC1767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CESSO DEI PATRONATI</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Ministero  sta provvedendo  ad implementare  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stema informatico al fine di consentire agl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ori di accedere con le credenzial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ualmente in uso per visualizzare per ogn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i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 stato dell’accordo di integra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ttuare  le variazioni di recapito dello stranie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A4A880-D30B-491F-BEF0-C6B6331A49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Arial"/>
              </a:rPr>
              <a:t>QUANDO PARTIRA’ LA VERIFICA DEGLI ACCORDI</a:t>
            </a:r>
            <a:br>
              <a:rPr sz="4000"/>
            </a:br>
            <a:r>
              <a:rPr b="0" lang="it-IT" sz="4000" spc="-1" strike="noStrike">
                <a:solidFill>
                  <a:srgbClr val="000000"/>
                </a:solidFill>
                <a:latin typeface="Arial"/>
              </a:rPr>
              <a:t> </a:t>
            </a:r>
            <a:r>
              <a:rPr b="0" lang="it-IT" sz="2400" spc="-1" strike="noStrike">
                <a:solidFill>
                  <a:srgbClr val="000000"/>
                </a:solidFill>
                <a:latin typeface="Arial"/>
              </a:rPr>
              <a:t>(</a:t>
            </a:r>
            <a:r>
              <a:rPr b="0" lang="it-IT" sz="2800" spc="-1" strike="noStrike">
                <a:solidFill>
                  <a:srgbClr val="000000"/>
                </a:solidFill>
                <a:latin typeface="Arial"/>
              </a:rPr>
              <a:t>circolare Cancellieri-Riccardi del 2.3.2012</a:t>
            </a:r>
            <a:r>
              <a:rPr b="0" lang="it-IT" sz="2400" spc="-1" strike="noStrike">
                <a:solidFill>
                  <a:srgbClr val="000000"/>
                </a:solidFill>
                <a:latin typeface="Arial"/>
              </a:rPr>
              <a:t>)</a:t>
            </a: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 201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assenza di idonea attestazione della lingua italiana e di cultura civica verranno organizzati  gratuitamente dal SUI appositi tests con le medesime procedure per i richiedenti il permesso CE per SL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rranno effettuati accertamenti  presso il casellario giudiziale ed il casellario dei carichi pendenti nonché presso le Autorità competenti per gli illeciti amministrativi e tributari,  </a:t>
            </a:r>
            <a:r>
              <a:rPr b="1" lang="it-IT" sz="2400" spc="-1" strike="noStrike">
                <a:solidFill>
                  <a:srgbClr val="000000"/>
                </a:solidFill>
                <a:latin typeface="Arial"/>
              </a:rPr>
              <a:t>tenendo conto anche dei sopravvenuti eventuali esiti favorevoli all’interessa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2B85F2-016A-40F5-A18A-4E13E45F2B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UI per ragioni di semplificazione e di economicità </a:t>
            </a:r>
            <a:r>
              <a:rPr b="1" lang="it-IT" sz="2400" spc="-1" strike="noStrike">
                <a:solidFill>
                  <a:srgbClr val="000000"/>
                </a:solidFill>
                <a:latin typeface="Arial"/>
              </a:rPr>
              <a:t>non procederà ad effettuare verifiche</a:t>
            </a:r>
            <a:r>
              <a:rPr b="0" lang="it-IT" sz="2400" spc="-1" strike="noStrike">
                <a:solidFill>
                  <a:srgbClr val="000000"/>
                </a:solidFill>
                <a:latin typeface="Arial"/>
              </a:rPr>
              <a:t> nei confronti di coloro che, al momento della verifica, risultino titolari di permesso di soggiorno non suscettibili di espulsione </a:t>
            </a:r>
            <a:r>
              <a:rPr b="1" lang="it-IT" sz="2400" spc="-1" strike="noStrike">
                <a:solidFill>
                  <a:srgbClr val="000000"/>
                </a:solidFill>
                <a:latin typeface="Arial"/>
              </a:rPr>
              <a:t>(titolari di permesso per asilo e richiedenti asilo, protezione sussidiaria, motivi umanitari, motivi familiari, permesso Ce Slp, carta di soggiorno di familiare UE, ecc.)  ovvero abbiano esercitato il diritto al ricongiungimen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rranno adottati quei correttivi che possano rendere effettiva l’integrazione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836470D-A35C-4B5B-8D6F-37932A4A36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I DEVE SOTTOSCRIVERE L'ACCORDO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3200" spc="-1" strike="noStrike">
                <a:solidFill>
                  <a:srgbClr val="000000"/>
                </a:solidFill>
                <a:latin typeface="Arial"/>
              </a:rPr>
              <a:t>I cittadini stranieri di </a:t>
            </a:r>
            <a:r>
              <a:rPr b="1" lang="en-US" sz="3200" spc="-1" strike="noStrike">
                <a:solidFill>
                  <a:srgbClr val="000000"/>
                </a:solidFill>
                <a:latin typeface="Arial"/>
              </a:rPr>
              <a:t>età superiore ai 16 anni</a:t>
            </a:r>
            <a:r>
              <a:rPr b="0" lang="en-US" sz="3200" spc="-1" strike="noStrike">
                <a:solidFill>
                  <a:srgbClr val="000000"/>
                </a:solidFill>
                <a:latin typeface="Arial"/>
              </a:rPr>
              <a:t> che fanno ingresso per la prima volta nel territorio nazionale dopo l'entrata in vigore del Regolamento (il </a:t>
            </a:r>
            <a:r>
              <a:rPr b="1" lang="en-US" sz="3200" spc="-1" strike="noStrike">
                <a:solidFill>
                  <a:srgbClr val="000000"/>
                </a:solidFill>
                <a:latin typeface="Arial"/>
              </a:rPr>
              <a:t>10 marzo 2012</a:t>
            </a:r>
            <a:r>
              <a:rPr b="0" lang="en-US" sz="3200" spc="-1" strike="noStrike">
                <a:solidFill>
                  <a:srgbClr val="000000"/>
                </a:solidFill>
                <a:latin typeface="Arial"/>
              </a:rPr>
              <a:t>) e presentano domanda di rilascio del permesso di soggiorno di </a:t>
            </a:r>
            <a:r>
              <a:rPr b="1" lang="en-US" sz="3200" spc="-1" strike="noStrike">
                <a:solidFill>
                  <a:srgbClr val="000000"/>
                </a:solidFill>
                <a:latin typeface="Arial"/>
              </a:rPr>
              <a:t>durata non inferiore a un anno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B5A3DC-35F5-4079-B25A-78211A060A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E FARE PER RAGGIUNGERE I 30 CREDITI</a:t>
            </a:r>
            <a:endParaRPr b="0" lang="en-US" sz="2800" spc="-1" strike="noStrike">
              <a:solidFill>
                <a:srgbClr val="000000"/>
              </a:solidFill>
              <a:latin typeface="Arial"/>
            </a:endParaRPr>
          </a:p>
        </p:txBody>
      </p:sp>
      <p:sp>
        <p:nvSpPr>
          <p:cNvPr id="12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l momento della sottoscrizione dell’accordo lo straniero ha  un </a:t>
            </a:r>
            <a:r>
              <a:rPr b="1" lang="it-IT" sz="2200" spc="-1" strike="noStrike">
                <a:solidFill>
                  <a:srgbClr val="000000"/>
                </a:solidFill>
                <a:latin typeface="Arial"/>
              </a:rPr>
              <a:t>bonus di</a:t>
            </a:r>
            <a:r>
              <a:rPr b="0" lang="it-IT" sz="2200" spc="-1" strike="noStrike">
                <a:solidFill>
                  <a:srgbClr val="000000"/>
                </a:solidFill>
                <a:latin typeface="Arial"/>
              </a:rPr>
              <a:t> </a:t>
            </a:r>
            <a:r>
              <a:rPr b="1" lang="it-IT" sz="2200" spc="-1" strike="noStrike">
                <a:solidFill>
                  <a:srgbClr val="000000"/>
                </a:solidFill>
                <a:latin typeface="Arial"/>
              </a:rPr>
              <a:t>16 crediti</a:t>
            </a:r>
            <a:r>
              <a:rPr b="0" lang="it-IT" sz="2200" spc="-1" strike="noStrike">
                <a:solidFill>
                  <a:srgbClr val="000000"/>
                </a:solidFill>
                <a:latin typeface="Arial"/>
              </a:rPr>
              <a:t> corrispondenti  al livello A1 della lingua italiana (10 crediti)  ed al livello sufficiente di conoscenza della cultura civica e della vita civile in Italia(6 crediti). </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interessato deve seguire la relativa sessione  formativa  di vita civica  fatta dal SUI </a:t>
            </a:r>
            <a:r>
              <a:rPr b="1" lang="it-IT" sz="2200" spc="-1" strike="noStrike">
                <a:solidFill>
                  <a:srgbClr val="000000"/>
                </a:solidFill>
                <a:latin typeface="Arial"/>
              </a:rPr>
              <a:t>per non perdere 15 su 16 crediti</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l momento della verifica dell’accordo  deve presentare  documentazione attestante il </a:t>
            </a:r>
            <a:r>
              <a:rPr b="1" lang="it-IT" sz="2200" spc="-1" strike="noStrike">
                <a:solidFill>
                  <a:srgbClr val="000000"/>
                </a:solidFill>
                <a:latin typeface="Arial"/>
              </a:rPr>
              <a:t>livello A2</a:t>
            </a:r>
            <a:r>
              <a:rPr b="0" lang="it-IT" sz="2200" spc="-1" strike="noStrike">
                <a:solidFill>
                  <a:srgbClr val="000000"/>
                </a:solidFill>
                <a:latin typeface="Arial"/>
              </a:rPr>
              <a:t> della lingua italiana parlata o chiedere di partecipare al test relativo raggiungendo così con la differenza di punteggio del livello A2 rispetto l’A1 complessivamente </a:t>
            </a:r>
            <a:r>
              <a:rPr b="1" lang="it-IT" sz="2200" spc="-1" strike="noStrike">
                <a:solidFill>
                  <a:srgbClr val="000000"/>
                </a:solidFill>
                <a:latin typeface="Arial"/>
              </a:rPr>
              <a:t>26 punti</a:t>
            </a:r>
            <a:r>
              <a:rPr b="0" lang="it-IT" sz="2200" spc="-1" strike="noStrike">
                <a:solidFill>
                  <a:srgbClr val="000000"/>
                </a:solidFill>
                <a:latin typeface="Arial"/>
              </a:rPr>
              <a:t>  (10 + 10 per la lingua italiana + 6 per la cultura civica avendo partecipato alla sessione formativa inizial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ispettare  le norme più facilmente attributive di crediti quali la scelta del medico di base </a:t>
            </a:r>
            <a:r>
              <a:rPr b="1" lang="it-IT" sz="2200" spc="-1" strike="noStrike">
                <a:solidFill>
                  <a:srgbClr val="000000"/>
                </a:solidFill>
                <a:latin typeface="Arial"/>
              </a:rPr>
              <a:t>(+ 4 crediti</a:t>
            </a:r>
            <a:r>
              <a:rPr b="0" lang="it-IT" sz="2200" spc="-1" strike="noStrike">
                <a:solidFill>
                  <a:srgbClr val="000000"/>
                </a:solidFill>
                <a:latin typeface="Arial"/>
              </a:rPr>
              <a:t>), stipula di contratto di affitto regolare </a:t>
            </a:r>
            <a:r>
              <a:rPr b="1" lang="it-IT" sz="2200" spc="-1" strike="noStrike">
                <a:solidFill>
                  <a:srgbClr val="000000"/>
                </a:solidFill>
                <a:latin typeface="Arial"/>
              </a:rPr>
              <a:t>(+ 6 crediti</a:t>
            </a:r>
            <a:r>
              <a:rPr b="0" lang="it-IT" sz="2200" spc="-1" strike="noStrike">
                <a:solidFill>
                  <a:srgbClr val="000000"/>
                </a:solidFill>
                <a:latin typeface="Arial"/>
              </a:rPr>
              <a:t>), ovvero eventuali percorsi di istruzione o corsi  di integrazione linguistica e sociale ovvero conseguimento di diplomi o titoli di studio  o professionali</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FCCFD27-BA57-4A93-99A0-8510BB8D3D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LLABORAZIONE  INTERISTITUZIONALE</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t.10 del DPR 179/2011 prevede forme d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zione tra il SUI  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truttura territoriale dell’Ufficio Regionale Scolast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entri provinciali per l’istruzione  degli adult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altre istituzioni scolastiche statali operanti a livello provinci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à, ec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particolare riferimento alle sessioni d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zione civica   ed ai test linguistic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7DC62C-49AF-4C37-A6A9-238F2F0B2E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t.11 del DPR 179/2011 attribuisce ai Consigli Territoriali per l’Immigrazione, in raccordo con la Consulta per i problemi degli stranieri immigrati, una serie di interventi per iniziative a sostegno del processo di integrazione attivabili sul territo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ale contesto verrà firmato a breve un protocollo che vedrà coinvolta anche l’INCA, che ha dato la sua disponibilità per lo svolgimento e la sua partecipazione in materia di corsi di formazione presso alcuni territor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25A5E87-F454-4B56-8730-492A2518BDBC}"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VVIO DELLA PROCEDURA 10.3.2012</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ata di invio tramite kit per chi presentava la richiesta direttamente in Questura per studio, motivi religiosi,, ecc. era la data di riferimento per l’applicazione della nuova normativ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i casi di competenza del SUI gli eventuali rinvii ad appuntamenti  per la definizione della pratica ed il rilascio del mod.209 non potevano assumere rilevanza  se l’interessato si fosse recato al SUI o avesse richiesto la prenotazione dell’appuntamento in via telematica  prima del 10 marz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0D75A9-E880-4132-8B01-EB39518498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CASI  DUBBI DI PRIMO INGRESSO</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a coloro che fanno ingresso per la prima volta in Italia la circolare dell’INCA Nazionale ritiene che </a:t>
            </a:r>
            <a:r>
              <a:rPr b="1" lang="it-IT" sz="2400" spc="-1" strike="noStrike">
                <a:solidFill>
                  <a:srgbClr val="000000"/>
                </a:solidFill>
                <a:latin typeface="Arial"/>
              </a:rPr>
              <a:t>non</a:t>
            </a:r>
            <a:r>
              <a:rPr b="0" lang="it-IT" sz="2400" spc="-1" strike="noStrike">
                <a:solidFill>
                  <a:srgbClr val="000000"/>
                </a:solidFill>
                <a:latin typeface="Arial"/>
              </a:rPr>
              <a:t> vi rientrino coloro che hanno ottenuto in epoche precedenti un permesso di soggiorno e tornino nel ns paese con un nuovo visto di ingresso dopo un periodo passato in patria in quanto non tratterebbesi di primo ingresso. In sostanza chiunque abbia ottenuto in precedenza un permesso di soggiorno  sarebbe esentato dall’accordo</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id nel caso di lavoratore entrato in italia per il quale il datore di lavoro  non sia più disponibile all’assunzione e quindi ottenga un permesso per attesa occupazione di 6 mesi ? Secondo l’INCA,trattandosi di permesso inferiore all’anno,  lo straniero non dovrebbe essere toccato dall’accordo di integrazion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8DC197-1643-4042-8464-CD88663CFE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NDO E COME SI SOTTOSCRIVE</a:t>
            </a:r>
            <a:br>
              <a:rPr sz="3600"/>
            </a:br>
            <a:r>
              <a:rPr b="1" lang="en-US" sz="3600" spc="-1" strike="noStrike">
                <a:solidFill>
                  <a:srgbClr val="000000"/>
                </a:solidFill>
                <a:latin typeface="Arial"/>
              </a:rPr>
              <a:t>L’ACCORDO  </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ccordo  deve essere sottoscritto al momento della presentazione della domanda di permesso di soggiorno allo </a:t>
            </a:r>
            <a:r>
              <a:rPr b="1" lang="it-IT" sz="2200" spc="-1" strike="noStrike">
                <a:solidFill>
                  <a:srgbClr val="000000"/>
                </a:solidFill>
                <a:latin typeface="Arial"/>
              </a:rPr>
              <a:t>Sportello Unico per l'Immigrazione</a:t>
            </a:r>
            <a:r>
              <a:rPr b="0" lang="it-IT" sz="2200" spc="-1" strike="noStrike">
                <a:solidFill>
                  <a:srgbClr val="000000"/>
                </a:solidFill>
                <a:latin typeface="Arial"/>
              </a:rPr>
              <a:t> nei casi di lavoro subordinato e ricongiungimento familiare  o alla </a:t>
            </a:r>
            <a:r>
              <a:rPr b="1" lang="it-IT" sz="2200" spc="-1" strike="noStrike">
                <a:solidFill>
                  <a:srgbClr val="000000"/>
                </a:solidFill>
                <a:latin typeface="Arial"/>
              </a:rPr>
              <a:t>Questura</a:t>
            </a:r>
            <a:r>
              <a:rPr b="0" lang="it-IT" sz="2200" spc="-1" strike="noStrike">
                <a:solidFill>
                  <a:srgbClr val="000000"/>
                </a:solidFill>
                <a:latin typeface="Arial"/>
              </a:rPr>
              <a:t> in tutti gli altri casi</a:t>
            </a:r>
            <a:r>
              <a:rPr b="1" lang="it-IT" sz="2200" spc="-1" strike="noStrike">
                <a:solidFill>
                  <a:srgbClr val="000000"/>
                </a:solidFill>
                <a:latin typeface="Arial"/>
              </a:rPr>
              <a:t> </a:t>
            </a:r>
            <a:r>
              <a:rPr b="0" lang="it-IT" sz="2200" spc="-1" strike="noStrike">
                <a:solidFill>
                  <a:srgbClr val="000000"/>
                </a:solidFill>
                <a:latin typeface="Arial"/>
              </a:rPr>
              <a:t>residuali ( studio, motivi religiosi, ecc.)</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ata e luogo in cui si terrà la sessione formativa vengono comunicate  dal SUI o dalla Questura al momento della sottoscrizione dell’accordo integrativo, mediante ll’utilizzo di un sistema informatico comune.</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corsi vengono gestiti  - di regola – a cura del SUI, salve le ipotesi di collaborazione interistituzionale</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ur non essendo prevista la possibilità di un rinvio  nel caso  di impossibilità a partecipare, è possibile richiedere la fissazione di una nuova data</a:t>
            </a:r>
            <a:r>
              <a:rPr b="0" i="1" lang="it-IT" sz="2200" spc="-1" strike="noStrike">
                <a:solidFill>
                  <a:srgbClr val="000000"/>
                </a:solidFill>
                <a:latin typeface="Arial"/>
              </a:rPr>
              <a:t>.</a:t>
            </a:r>
            <a:r>
              <a:rPr b="0" lang="it-IT" sz="2200" spc="-1" strike="noStrike">
                <a:solidFill>
                  <a:srgbClr val="000000"/>
                </a:solidFill>
                <a:latin typeface="Arial"/>
              </a:rPr>
              <a:t>  </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F12D037-C498-44B4-95E2-CBE8C8719B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0920" y="765000"/>
            <a:ext cx="8229600" cy="532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cordo è redatto in duplice originale  di cui uno è consegnato allo straniero, tradotto in una delle 19 lingue da lui indicata o se ciò non è possibile in inglese, francese, spagnolo, arabo, cinese, albanese, russo o filippino, secondo la preferenza dell'interessato. Per lo Stato, l'accordo è stipulato dal Prefetto o da un suo delegato.</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l'accordo ha come parte un </a:t>
            </a:r>
            <a:r>
              <a:rPr b="0" lang="en-US" sz="2800" spc="-1" strike="noStrike">
                <a:solidFill>
                  <a:srgbClr val="0066cc"/>
                </a:solidFill>
                <a:latin typeface="Arial"/>
              </a:rPr>
              <a:t>minore di età compresa tra i 16 e i 18 anni</a:t>
            </a:r>
            <a:r>
              <a:rPr b="0" lang="en-US" sz="2800" spc="-1" strike="noStrike">
                <a:solidFill>
                  <a:srgbClr val="000000"/>
                </a:solidFill>
                <a:latin typeface="Arial"/>
              </a:rPr>
              <a:t>, questo è sottoscritto </a:t>
            </a:r>
            <a:r>
              <a:rPr b="1" lang="en-US" sz="2800" spc="-1" strike="noStrike">
                <a:solidFill>
                  <a:srgbClr val="000000"/>
                </a:solidFill>
                <a:latin typeface="Arial"/>
              </a:rPr>
              <a:t>anche</a:t>
            </a:r>
            <a:r>
              <a:rPr b="0" lang="en-US" sz="2800" spc="-1" strike="noStrike">
                <a:solidFill>
                  <a:srgbClr val="000000"/>
                </a:solidFill>
                <a:latin typeface="Arial"/>
              </a:rPr>
              <a:t> dai genitori o dai soggetti esercenti la potestà genitoriale regolarmente soggiornanti nel territorio nazional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738A317-F212-4362-9ABB-9041B67D5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GNI DELL’IMMIGRA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ire un livello di conoscenza della </a:t>
            </a:r>
            <a:r>
              <a:rPr b="0" lang="en-US" sz="2000" spc="-1" strike="noStrike">
                <a:solidFill>
                  <a:srgbClr val="0066cc"/>
                </a:solidFill>
                <a:latin typeface="Arial"/>
              </a:rPr>
              <a:t>lingua italiana parlata</a:t>
            </a:r>
            <a:r>
              <a:rPr b="0" lang="en-US" sz="2000" spc="-1" strike="noStrike">
                <a:solidFill>
                  <a:srgbClr val="000000"/>
                </a:solidFill>
                <a:latin typeface="Arial"/>
              </a:rPr>
              <a:t> equivalente almeno al </a:t>
            </a:r>
            <a:r>
              <a:rPr b="0" lang="en-US" sz="2000" spc="-1" strike="noStrike" u="sng">
                <a:solidFill>
                  <a:srgbClr val="0066cc"/>
                </a:solidFill>
                <a:uFillTx/>
                <a:latin typeface="Arial"/>
                <a:hlinkClick r:id="rId1"/>
              </a:rPr>
              <a:t>livello A2</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ire una </a:t>
            </a:r>
            <a:r>
              <a:rPr b="0" lang="en-US" sz="2000" spc="-1" strike="noStrike">
                <a:solidFill>
                  <a:srgbClr val="0066cc"/>
                </a:solidFill>
                <a:latin typeface="Arial"/>
              </a:rPr>
              <a:t>sufficiente conoscenza dei principi fondamentali della Costituzione della Repubblica e dell'organizzazione e del funzionamento delle istituzioni pubbliche in Italia</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ire una sufficiente conoscenza della vita civile in Italia, con particolare riferimento ai settori della </a:t>
            </a:r>
            <a:r>
              <a:rPr b="0" lang="en-US" sz="2000" spc="-1" strike="noStrike">
                <a:solidFill>
                  <a:srgbClr val="0066cc"/>
                </a:solidFill>
                <a:latin typeface="Arial"/>
              </a:rPr>
              <a:t>sanità, della scuola, dei servizi sociali, del lavoro e agli obblighi fiscali</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antire l'adempimento </a:t>
            </a:r>
            <a:r>
              <a:rPr b="0" lang="en-US" sz="2000" spc="-1" strike="noStrike">
                <a:solidFill>
                  <a:srgbClr val="0066cc"/>
                </a:solidFill>
                <a:latin typeface="Arial"/>
              </a:rPr>
              <a:t>dell'obbligo di istruzione da parte dei figli minori;</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lvere gli </a:t>
            </a:r>
            <a:r>
              <a:rPr b="0" lang="en-US" sz="2000" spc="-1" strike="noStrike">
                <a:solidFill>
                  <a:srgbClr val="0066cc"/>
                </a:solidFill>
                <a:latin typeface="Arial"/>
              </a:rPr>
              <a:t>obblighi fiscali e contributivi</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rire alla </a:t>
            </a:r>
            <a:r>
              <a:rPr b="0" lang="en-US" sz="2000" spc="-1" strike="noStrike" u="sng">
                <a:solidFill>
                  <a:srgbClr val="0066cc"/>
                </a:solidFill>
                <a:uFillTx/>
                <a:latin typeface="Arial"/>
                <a:hlinkClick r:id="rId2"/>
              </a:rPr>
              <a:t>Carta dei valori della cittadinanza e dell'integrazione</a:t>
            </a:r>
            <a:r>
              <a:rPr b="0" lang="en-US" sz="2000" spc="-1" strike="noStrike" u="sng">
                <a:solidFill>
                  <a:srgbClr val="000000"/>
                </a:solidFill>
                <a:uFillTx/>
                <a:latin typeface="Arial"/>
              </a:rPr>
              <a:t>  e a rispettarne i principi.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EFA2D6-7602-45C8-9680-8C541CE4EF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6:12:10Z</dcterms:created>
  <dc:creator>Enrico</dc:creator>
  <dc:description/>
  <dc:language>en-US</dc:language>
  <cp:lastModifiedBy>windows</cp:lastModifiedBy>
  <dcterms:modified xsi:type="dcterms:W3CDTF">2012-06-25T09:02:39Z</dcterms:modified>
  <cp:revision>45</cp:revision>
  <dc:subject/>
  <dc:title>Diapositiva 1</dc:title>
</cp:coreProperties>
</file>