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move the slide</a:t>
            </a:r>
            <a:endParaRPr b="1" lang="en-US" sz="4400" spc="-1" strike="noStrike">
              <a:solidFill>
                <a:srgbClr val="ffffcc"/>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2D8A-8732-4A9D-A2E7-8C1F921E64BE}"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F8C6-86FE-4D99-9655-C66AC071F4D8}" type="slidenum">
              <a:rPr b="0" lang="it-IT"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72027-BC55-481C-92EB-16A3CA691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BCD9B-1C0A-41D9-A90B-6693930D2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CB1A2-BA07-44D8-B70A-1DF3A3787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19B81-3D05-4E78-AE2D-261F2A21C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893E5-B84A-4ADD-9F94-BA8FC3D27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B769B-5C0D-4214-BE9E-B074022F9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08D93-03F6-438C-B98B-7FF31FCD4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223B9-D79F-413E-8D55-534ECCE28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18BE6-13AD-41D7-AE85-391FB5BEA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A8F5D-9FD3-4096-BF80-100C19B4B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8B605-4B19-4E3B-8B13-946A24BD2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79441-0FFB-407F-8F7C-D673718D1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C6F95-972C-4989-BF3B-3C4AB58F5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16702-25D5-4E16-8075-C6CF6A171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581F7-3645-4313-974D-EDC201FB4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11DCB-D8FF-4058-A703-55DDB5976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8E62D2-CDD9-4586-A489-90B1D7EA2D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C711E-D649-4692-B0BF-2C7A8AA3B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A1429-35A5-4DF8-B738-C208C7B03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638B5-CDD7-4EFC-AC66-4E8CF4A0B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4285C-1199-4883-9367-AEA4D157B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711D8-45D5-42C9-BF98-E776E6AE9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35ADD-117F-4B70-9DFE-8F8C8E884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6A169-FA91-489E-AAAA-DB5F5B917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7825"/>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48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8000"/>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026A-CA5C-45EB-B8DB-EBEFF049251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7825"/>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48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8000"/>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5CE5-0A7B-4459-B862-1CA03AD98200}"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LE PRESTAZIONI ASSISTENZIALI</a:t>
            </a:r>
            <a:endParaRPr b="1" lang="en-US" sz="4400" spc="-1" strike="noStrike">
              <a:solidFill>
                <a:srgbClr val="ffffcc"/>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GGIORNATE AL 4.1-2012</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468360" y="1268280"/>
            <a:ext cx="8229600" cy="5327640"/>
          </a:xfrm>
          <a:prstGeom prst="rect">
            <a:avLst/>
          </a:prstGeom>
          <a:gradFill rotWithShape="0">
            <a:gsLst>
              <a:gs pos="0">
                <a:srgbClr val="75b035"/>
              </a:gs>
              <a:gs pos="50000">
                <a:srgbClr val="88cc3e"/>
              </a:gs>
              <a:gs pos="100000">
                <a:srgbClr val="75b035"/>
              </a:gs>
            </a:gsLst>
            <a:lin ang="18900000"/>
          </a:gradFill>
          <a:ln w="0">
            <a:noFill/>
          </a:ln>
        </p:spPr>
        <p:style>
          <a:lnRef idx="0"/>
          <a:fillRef idx="0"/>
          <a:effectRef idx="0"/>
          <a:fontRef idx="minor"/>
        </p:style>
        <p:txBody>
          <a:bodyPr lIns="90000" rIns="90000" tIns="46800" bIns="46800" anchor="t">
            <a:noAutofit/>
          </a:bodyPr>
          <a:p>
            <a:pPr marL="291960" indent="-29196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Sentenza Corte Costituzionale 11/2009</a:t>
            </a:r>
            <a:endParaRPr b="0" lang="en-US" sz="3200" spc="-1" strike="noStrike">
              <a:solidFill>
                <a:srgbClr val="ffffff"/>
              </a:solidFill>
              <a:latin typeface="Times New Roman"/>
            </a:endParaRPr>
          </a:p>
          <a:p>
            <a:pPr marL="291960" indent="-29196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a:t>
            </a:r>
            <a:r>
              <a:rPr b="0" lang="it-IT" sz="2000" spc="-1" strike="noStrike">
                <a:solidFill>
                  <a:srgbClr val="ffffff"/>
                </a:solidFill>
                <a:latin typeface="Times New Roman"/>
              </a:rPr>
              <a:t>Mentre, infatti, l'indennità di accompagnamento è concessa per il solo fatto della minorazione, senza che le condizioni reddituali vengano in alcun modo in rilievo, la pensione di inabilità è preclusa dalla titolarità di un reddito superiore ad una misura fissata dalla legge. La subordinazione dell'attribuzione di tale prestazione al possesso, da parte dello straniero, di un titolo di soggiorno il cui rilascio presuppone il godimento di un reddito, rende ancor più evidente l'intrinseca irragionevolezza del complesso normativo in scrutinio”.</a:t>
            </a:r>
            <a:endParaRPr b="0" lang="en-US" sz="2000" spc="-1" strike="noStrike">
              <a:solidFill>
                <a:srgbClr val="ffffff"/>
              </a:solidFill>
              <a:latin typeface="Times New Roman"/>
            </a:endParaRPr>
          </a:p>
          <a:p>
            <a:pPr marL="291960" indent="-29196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91960" indent="-29196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a:t>
            </a:r>
            <a:r>
              <a:rPr b="1" i="1" lang="it-IT" sz="2000" spc="-1" strike="noStrike">
                <a:solidFill>
                  <a:srgbClr val="ffffff"/>
                </a:solidFill>
                <a:latin typeface="Times New Roman"/>
              </a:rPr>
              <a:t>Pertanto dichiara l’illegittimità costituzionale dell’art. 80  Legge Finanziaria 388/2000 e dell’art. 9 del Testo Unico, nella parte in cui escludono che la pensione di inabilità ….. possa  essere attribuita agli stranieri extracomunitari soltanto perché essi non risultano in possesso dei requisiti di reddito stabiliti per la carta di soggiorno ……”</a:t>
            </a:r>
            <a:endParaRPr b="0" lang="en-US" sz="2000" spc="-1" strike="noStrike">
              <a:solidFill>
                <a:srgbClr val="ffffff"/>
              </a:solidFill>
              <a:latin typeface="Times New Roman"/>
            </a:endParaRPr>
          </a:p>
        </p:txBody>
      </p:sp>
      <p:sp>
        <p:nvSpPr>
          <p:cNvPr id="155" name="PlaceHolder 1"/>
          <p:cNvSpPr>
            <a:spLocks noGrp="1"/>
          </p:cNvSpPr>
          <p:nvPr>
            <p:ph type="title"/>
          </p:nvPr>
        </p:nvSpPr>
        <p:spPr>
          <a:xfrm>
            <a:off x="457200" y="277560"/>
            <a:ext cx="8229600" cy="87156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cc"/>
                </a:solidFill>
                <a:latin typeface="Times New Roman"/>
              </a:rPr>
              <a:t>Pensione di inabilità</a:t>
            </a:r>
            <a:endParaRPr b="1"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cc"/>
                </a:solidFill>
                <a:latin typeface="Times New Roman"/>
              </a:rPr>
              <a:t>Assegno mensile </a:t>
            </a:r>
            <a:endParaRPr b="1" lang="en-US" sz="4400" spc="-1" strike="noStrike">
              <a:solidFill>
                <a:srgbClr val="ffffcc"/>
              </a:solidFill>
              <a:latin typeface="Times New Roman"/>
            </a:endParaRPr>
          </a:p>
        </p:txBody>
      </p:sp>
      <p:grpSp>
        <p:nvGrpSpPr>
          <p:cNvPr id="157" name="CasellaDiTesto 3"/>
          <p:cNvGrpSpPr/>
          <p:nvPr/>
        </p:nvGrpSpPr>
        <p:grpSpPr>
          <a:xfrm>
            <a:off x="201600" y="1547640"/>
            <a:ext cx="9088560" cy="5585040"/>
            <a:chOff x="201600" y="1547640"/>
            <a:chExt cx="9088560" cy="5585040"/>
          </a:xfrm>
        </p:grpSpPr>
        <p:pic>
          <p:nvPicPr>
            <p:cNvPr id="158" name="CasellaDiTesto 3" descr=""/>
            <p:cNvPicPr/>
            <p:nvPr/>
          </p:nvPicPr>
          <p:blipFill>
            <a:blip r:embed="rId1"/>
            <a:stretch/>
          </p:blipFill>
          <p:spPr>
            <a:xfrm>
              <a:off x="201600" y="1547640"/>
              <a:ext cx="9088560" cy="5585040"/>
            </a:xfrm>
            <a:prstGeom prst="rect">
              <a:avLst/>
            </a:prstGeom>
            <a:ln w="0">
              <a:noFill/>
            </a:ln>
          </p:spPr>
        </p:pic>
        <p:sp>
          <p:nvSpPr>
            <p:cNvPr id="159" name=""/>
            <p:cNvSpPr/>
            <p:nvPr/>
          </p:nvSpPr>
          <p:spPr>
            <a:xfrm>
              <a:off x="324000" y="1628640"/>
              <a:ext cx="8496000" cy="51516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Requisiti:</a:t>
              </a: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Residenza in Italia</a:t>
              </a:r>
              <a:endParaRPr b="0" lang="en-US" sz="22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Età compresa fra 18 e 65 anni </a:t>
              </a: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 Cittadino italiano o comunitario (e suoi familiari); cittadino straniero in possesso di carta di soggiorno (oggi permesso CE per soggiornanti di lungo periodo)</a:t>
              </a:r>
              <a:r>
                <a:rPr b="0" lang="it-IT" sz="2400" spc="-1" strike="noStrike">
                  <a:solidFill>
                    <a:srgbClr val="016188"/>
                  </a:solidFill>
                  <a:latin typeface="Rockwell"/>
                </a:rPr>
                <a:t> </a:t>
              </a:r>
              <a:r>
                <a:rPr b="0" lang="it-IT" sz="2200" spc="-1" strike="noStrike">
                  <a:solidFill>
                    <a:srgbClr val="016188"/>
                  </a:solidFill>
                  <a:latin typeface="Rockwell"/>
                </a:rPr>
                <a:t>Rifugiato Politico –Titolare protezione sussidiaria</a:t>
              </a:r>
              <a:endParaRPr b="0" lang="en-US" sz="22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74-99% invalidità</a:t>
              </a:r>
              <a:endParaRPr b="0" lang="en-US" sz="22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Limite reddituale € 4.470,70</a:t>
              </a:r>
              <a:endParaRPr b="0" lang="en-US" sz="22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Non svolgere attività lavorativa (dichiarazione)                      </a:t>
              </a:r>
              <a:r>
                <a:rPr b="0" lang="it-IT" sz="1600" spc="-1" strike="noStrike">
                  <a:solidFill>
                    <a:srgbClr val="016188"/>
                  </a:solidFill>
                  <a:latin typeface="Rockwell"/>
                </a:rPr>
                <a:t>Limite lavoro dipendente € 8.000 – lav. Autonomo € 4.800</a:t>
              </a:r>
              <a:endParaRPr b="0" lang="en-US" sz="16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Decorrenza:   mese successivo alla domanda</a:t>
              </a:r>
              <a:endParaRPr b="0" lang="en-US" sz="22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cc"/>
                </a:solidFill>
                <a:latin typeface="Times New Roman"/>
              </a:rPr>
              <a:t>Assegno mensile</a:t>
            </a:r>
            <a:endParaRPr b="1" lang="en-US" sz="4400" spc="-1" strike="noStrike">
              <a:solidFill>
                <a:srgbClr val="ffffcc"/>
              </a:solidFill>
              <a:latin typeface="Times New Roman"/>
            </a:endParaRPr>
          </a:p>
        </p:txBody>
      </p:sp>
      <p:sp>
        <p:nvSpPr>
          <p:cNvPr id="161" name="Rectangle 3"/>
          <p:cNvSpPr/>
          <p:nvPr/>
        </p:nvSpPr>
        <p:spPr>
          <a:xfrm>
            <a:off x="468360" y="1268280"/>
            <a:ext cx="8229600" cy="5327640"/>
          </a:xfrm>
          <a:prstGeom prst="rect">
            <a:avLst/>
          </a:prstGeom>
          <a:gradFill rotWithShape="0">
            <a:gsLst>
              <a:gs pos="0">
                <a:srgbClr val="75b035"/>
              </a:gs>
              <a:gs pos="50000">
                <a:srgbClr val="88cc3e"/>
              </a:gs>
              <a:gs pos="100000">
                <a:srgbClr val="75b035"/>
              </a:gs>
            </a:gsLst>
            <a:lin ang="18900000"/>
          </a:gradFill>
          <a:ln w="0">
            <a:noFill/>
          </a:ln>
        </p:spPr>
        <p:style>
          <a:lnRef idx="0"/>
          <a:fillRef idx="0"/>
          <a:effectRef idx="0"/>
          <a:fontRef idx="minor"/>
        </p:style>
        <p:txBody>
          <a:bodyPr lIns="90000" rIns="90000" tIns="46800" bIns="46800" anchor="t">
            <a:noAutofit/>
          </a:bodyPr>
          <a:p>
            <a:pPr marL="291960" indent="-29196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Sentenza Corte Costituzionale 187/2010</a:t>
            </a:r>
            <a:endParaRPr b="0" lang="en-US" sz="3200" spc="-1" strike="noStrike">
              <a:solidFill>
                <a:srgbClr val="ffffff"/>
              </a:solidFill>
              <a:latin typeface="Times New Roman"/>
            </a:endParaRPr>
          </a:p>
          <a:p>
            <a:pPr marL="291960" indent="-29196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Occorre stabilire la funzione sociale che l’assegno di invalidità è chiamato a svolgere, cioè se rappresenti un rimedio destinato a consentire il soddisfacimento di un “bisogno primario”,  compito della Repubblica promuovere e salvaguardare.</a:t>
            </a:r>
            <a:endParaRPr b="0" lang="en-US" sz="2000" spc="-1" strike="noStrike">
              <a:solidFill>
                <a:srgbClr val="ffffff"/>
              </a:solidFill>
              <a:latin typeface="Times New Roman"/>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Ove pertanto si versa in tema di provvidenza destinata a far fronte al “sostentamento” della persona, qualsiasi discrimine fondato su requisiti diversi dalle condizioni soggettive è in contrasto con  il principio dell’art. 14 CEDU (Convenzione Europea Diritti dell’Uomo)</a:t>
            </a:r>
            <a:endParaRPr b="0" lang="en-US" sz="2000" spc="-1" strike="noStrike">
              <a:solidFill>
                <a:srgbClr val="ffffff"/>
              </a:solidFill>
              <a:latin typeface="Times New Roman"/>
            </a:endParaRPr>
          </a:p>
          <a:p>
            <a:pPr marL="291960" indent="-29196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91960" indent="-29196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a:t>
            </a:r>
            <a:r>
              <a:rPr b="1" i="1" lang="it-IT" sz="2000" spc="-1" strike="noStrike">
                <a:solidFill>
                  <a:srgbClr val="ffffff"/>
                </a:solidFill>
                <a:latin typeface="Times New Roman"/>
              </a:rPr>
              <a:t>Pertanto dichiara l’illegittimità costituzionale dell’art. 80  Legge Finanziaria 388/2000  nella parte in cui subordina al requisito della titolarità della carta  di soggiorno la  concessione agli stranieri  legalmente soggiornanti nel  territorio dello Stato    </a:t>
            </a:r>
            <a:endParaRPr b="0" lang="en-US" sz="2000" spc="-1" strike="noStrike">
              <a:solidFill>
                <a:srgbClr val="ffffff"/>
              </a:solidFill>
              <a:latin typeface="Times New Roman"/>
            </a:endParaRPr>
          </a:p>
          <a:p>
            <a:pPr marL="291960" indent="-29196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dell’assegno mensile di invalidità …”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cc"/>
                </a:solidFill>
                <a:latin typeface="Times New Roman"/>
              </a:rPr>
              <a:t>Indennità di frequenza</a:t>
            </a:r>
            <a:endParaRPr b="1" lang="en-US" sz="4400" spc="-1" strike="noStrike">
              <a:solidFill>
                <a:srgbClr val="ffffcc"/>
              </a:solidFill>
              <a:latin typeface="Times New Roman"/>
            </a:endParaRPr>
          </a:p>
        </p:txBody>
      </p:sp>
      <p:grpSp>
        <p:nvGrpSpPr>
          <p:cNvPr id="163" name="CasellaDiTesto 3"/>
          <p:cNvGrpSpPr/>
          <p:nvPr/>
        </p:nvGrpSpPr>
        <p:grpSpPr>
          <a:xfrm>
            <a:off x="201600" y="1401840"/>
            <a:ext cx="8820000" cy="5499000"/>
            <a:chOff x="201600" y="1401840"/>
            <a:chExt cx="8820000" cy="5499000"/>
          </a:xfrm>
        </p:grpSpPr>
        <p:pic>
          <p:nvPicPr>
            <p:cNvPr id="164" name="CasellaDiTesto 3" descr=""/>
            <p:cNvPicPr/>
            <p:nvPr/>
          </p:nvPicPr>
          <p:blipFill>
            <a:blip r:embed="rId1"/>
            <a:stretch/>
          </p:blipFill>
          <p:spPr>
            <a:xfrm>
              <a:off x="201600" y="1401840"/>
              <a:ext cx="8820000" cy="5499000"/>
            </a:xfrm>
            <a:prstGeom prst="rect">
              <a:avLst/>
            </a:prstGeom>
            <a:ln w="0">
              <a:noFill/>
            </a:ln>
          </p:spPr>
        </p:pic>
        <p:sp>
          <p:nvSpPr>
            <p:cNvPr id="165" name=""/>
            <p:cNvSpPr/>
            <p:nvPr/>
          </p:nvSpPr>
          <p:spPr>
            <a:xfrm>
              <a:off x="324000" y="1484280"/>
              <a:ext cx="8286480" cy="50454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Requisiti:</a:t>
              </a: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Residenza in Italia</a:t>
              </a:r>
              <a:endParaRPr b="0" lang="en-US" sz="22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Minori di 18 anni</a:t>
              </a: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 Cittadino italiano o comunitario (e suoi familiari); possesso di carta di soggiorno (oggi permesso CE per soggiornanti di lungo periodo) </a:t>
              </a:r>
              <a:r>
                <a:rPr b="0" lang="it-IT" sz="2400" spc="-1" strike="noStrike">
                  <a:solidFill>
                    <a:srgbClr val="016188"/>
                  </a:solidFill>
                  <a:latin typeface="Rockwell"/>
                </a:rPr>
                <a:t>Rifugiato Politico –Titolare protezione sussidiaria</a:t>
              </a:r>
              <a:endParaRPr b="0" lang="en-US" sz="24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Difficoltà persistenti a svolgere i compiti e le funzioni della propria età</a:t>
              </a:r>
              <a:endParaRPr b="0" lang="en-US" sz="22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Limite reddituale € 4.470,70 (del minore)</a:t>
              </a:r>
              <a:endParaRPr b="0" lang="en-US" sz="22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Frequenza scuole o centri terapeutici – Asilo nido</a:t>
              </a:r>
              <a:endParaRPr b="0" lang="en-US" sz="22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Decorrenza:   mese successivo alla domanda </a:t>
              </a: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Al compimento del 18 anno richiedere inv.civ</a:t>
              </a:r>
              <a:endParaRPr b="0" lang="en-US" sz="2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Indennità di frequenza</a:t>
            </a:r>
            <a:endParaRPr b="1" lang="en-US" sz="4000" spc="-1" strike="noStrike">
              <a:solidFill>
                <a:srgbClr val="ffffcc"/>
              </a:solidFill>
              <a:latin typeface="Times New Roman"/>
            </a:endParaRPr>
          </a:p>
        </p:txBody>
      </p:sp>
      <p:sp>
        <p:nvSpPr>
          <p:cNvPr id="167" name="Rectangle 3"/>
          <p:cNvSpPr/>
          <p:nvPr/>
        </p:nvSpPr>
        <p:spPr>
          <a:xfrm>
            <a:off x="468360" y="1052640"/>
            <a:ext cx="8229600" cy="4608360"/>
          </a:xfrm>
          <a:prstGeom prst="rect">
            <a:avLst/>
          </a:prstGeom>
          <a:gradFill rotWithShape="0">
            <a:gsLst>
              <a:gs pos="0">
                <a:srgbClr val="75b035"/>
              </a:gs>
              <a:gs pos="50000">
                <a:srgbClr val="88cc3e"/>
              </a:gs>
              <a:gs pos="100000">
                <a:srgbClr val="75b035"/>
              </a:gs>
            </a:gsLst>
            <a:lin ang="18900000"/>
          </a:gradFill>
          <a:ln w="0">
            <a:noFill/>
          </a:ln>
        </p:spPr>
        <p:style>
          <a:lnRef idx="0"/>
          <a:fillRef idx="0"/>
          <a:effectRef idx="0"/>
          <a:fontRef idx="minor"/>
        </p:style>
        <p:txBody>
          <a:bodyPr lIns="90000" rIns="90000" tIns="46800" bIns="46800" anchor="t">
            <a:noAutofit/>
          </a:bodyPr>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Sentenza Corte Costituzionale 187/2010</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Poiché l’indennità di frequenza, soddisfa una serie di bisogni che riguardano non soltanto il versante della salute e della connessa perdita o diminuzione della capacità di guadagno, ma anche quello di rispondere alle esigenze formative e di assistenza di minori colpiti da patologie invalidanti, “</a:t>
            </a:r>
            <a:r>
              <a:rPr b="0" i="1" lang="it-IT" sz="2000" spc="-1" strike="noStrike">
                <a:solidFill>
                  <a:srgbClr val="ffffff"/>
                </a:solidFill>
                <a:latin typeface="Times New Roman"/>
              </a:rPr>
              <a:t>tutti di primario risalto nel quadro dei diritti fondamentali della persona</a:t>
            </a:r>
            <a:r>
              <a:rPr b="0" lang="it-IT" sz="2000" spc="-1" strike="noStrike">
                <a:solidFill>
                  <a:srgbClr val="ffffff"/>
                </a:solidFill>
                <a:latin typeface="Times New Roman"/>
              </a:rPr>
              <a:t>”, il condizionamento che viene imposto, rappresentato dalla titolarità della carta di soggiorno, </a:t>
            </a:r>
            <a:r>
              <a:rPr b="0" i="1" lang="it-IT" sz="2000" spc="-1" strike="noStrike">
                <a:solidFill>
                  <a:srgbClr val="ffffff"/>
                </a:solidFill>
                <a:latin typeface="Times New Roman"/>
              </a:rPr>
              <a:t>potrebbe comprimere sensibilmente </a:t>
            </a:r>
            <a:r>
              <a:rPr b="0" lang="it-IT" sz="2000" spc="-1" strike="noStrike">
                <a:solidFill>
                  <a:srgbClr val="ffffff"/>
                </a:solidFill>
                <a:latin typeface="Times New Roman"/>
              </a:rPr>
              <a:t>– per un periodo di cinque anni – </a:t>
            </a:r>
            <a:r>
              <a:rPr b="0" i="1" lang="it-IT" sz="2000" spc="-1" strike="noStrike">
                <a:solidFill>
                  <a:srgbClr val="ffffff"/>
                </a:solidFill>
                <a:latin typeface="Times New Roman"/>
              </a:rPr>
              <a:t>le esigenze di cura ed assistenza di soggetti che l’ordinamento dovrebbe invece tutelare, se non addirittura, vanificare in toto</a:t>
            </a:r>
            <a:r>
              <a:rPr b="0" lang="it-IT" sz="2000" spc="-1" strike="noStrike">
                <a:solidFill>
                  <a:srgbClr val="ffffff"/>
                </a:solidFill>
                <a:latin typeface="Times New Roman"/>
              </a:rPr>
              <a:t>.</a:t>
            </a:r>
            <a:endParaRPr b="0" lang="en-US" sz="2000" spc="-1" strike="noStrike">
              <a:solidFill>
                <a:srgbClr val="ffffff"/>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Sulla base di questa sentenza, pertanto, l’indennità di frequenza deve essere concessa dall’INP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cc"/>
                </a:solidFill>
                <a:latin typeface="Times New Roman"/>
              </a:rPr>
              <a:t>CIECHI CIVILI - SORDOMUTI</a:t>
            </a:r>
            <a:endParaRPr b="1" lang="en-US" sz="3600" spc="-1" strike="noStrike">
              <a:solidFill>
                <a:srgbClr val="ffffcc"/>
              </a:solidFill>
              <a:latin typeface="Times New Roman"/>
            </a:endParaRPr>
          </a:p>
        </p:txBody>
      </p:sp>
      <p:grpSp>
        <p:nvGrpSpPr>
          <p:cNvPr id="169" name="CasellaDiTesto 2"/>
          <p:cNvGrpSpPr/>
          <p:nvPr/>
        </p:nvGrpSpPr>
        <p:grpSpPr>
          <a:xfrm>
            <a:off x="317520" y="774720"/>
            <a:ext cx="8729640" cy="6180120"/>
            <a:chOff x="317520" y="774720"/>
            <a:chExt cx="8729640" cy="6180120"/>
          </a:xfrm>
        </p:grpSpPr>
        <p:pic>
          <p:nvPicPr>
            <p:cNvPr id="170" name="CasellaDiTesto 2" descr=""/>
            <p:cNvPicPr/>
            <p:nvPr/>
          </p:nvPicPr>
          <p:blipFill>
            <a:blip r:embed="rId1"/>
            <a:stretch/>
          </p:blipFill>
          <p:spPr>
            <a:xfrm>
              <a:off x="317520" y="774720"/>
              <a:ext cx="8729640" cy="6180120"/>
            </a:xfrm>
            <a:prstGeom prst="rect">
              <a:avLst/>
            </a:prstGeom>
            <a:ln w="0">
              <a:noFill/>
            </a:ln>
          </p:spPr>
        </p:pic>
        <p:sp>
          <p:nvSpPr>
            <p:cNvPr id="171" name=""/>
            <p:cNvSpPr/>
            <p:nvPr/>
          </p:nvSpPr>
          <p:spPr>
            <a:xfrm>
              <a:off x="395280" y="836640"/>
              <a:ext cx="8286840" cy="56912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16188"/>
                  </a:solidFill>
                  <a:uFillTx/>
                  <a:latin typeface="Rockwell"/>
                </a:rPr>
                <a:t>Pensione ciechi totali  e  Indennità accompagnamento ciec</a:t>
              </a:r>
              <a:r>
                <a:rPr b="0" lang="it-IT" sz="1600" spc="-1" strike="noStrike" u="sng">
                  <a:solidFill>
                    <a:srgbClr val="016188"/>
                  </a:solidFill>
                  <a:uFillTx/>
                  <a:latin typeface="Rockwell"/>
                </a:rPr>
                <a:t>hi</a:t>
              </a:r>
              <a:endParaRPr b="0" lang="en-US" sz="16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Requisiti:</a:t>
              </a:r>
              <a:endParaRPr b="0" lang="en-US" sz="16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Residenza in Italia</a:t>
              </a:r>
              <a:endParaRPr b="0" lang="en-US" sz="16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Oltre 18 anni (solo per la pensione)</a:t>
              </a:r>
              <a:endParaRPr b="0" lang="en-US" sz="16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 Cittadino italiano o comunitario (e suoi familiari); possesso di carta di soggiorno (oggi permesso CE per soggiornanti di lungo periodo) Rifugiato Politico –Titolare protezione sussidiaria</a:t>
              </a:r>
              <a:endParaRPr b="0" lang="en-US" sz="16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Limite reddituale € 15.305,79 (solo per la pensione) </a:t>
              </a:r>
              <a:endParaRPr b="0" lang="en-US" sz="16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16188"/>
                  </a:solidFill>
                  <a:uFillTx/>
                  <a:latin typeface="Rockwell"/>
                </a:rPr>
                <a:t>Pensione ciechi parziali – Indennità Speciale</a:t>
              </a:r>
              <a:endParaRPr b="0" lang="en-US" sz="16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Requisiti</a:t>
              </a:r>
              <a:endParaRPr b="0" lang="en-US" sz="16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Residenza in Italia</a:t>
              </a:r>
              <a:endParaRPr b="0" lang="en-US" sz="16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Cittadino italiano o comunitario (e suoi familiari); possesso di carta di soggiorno (oggi permesso CE per soggiornanti di lungo periodo) Rifugiato Politico –Titolare protezione sussidiaria</a:t>
              </a:r>
              <a:endParaRPr b="0" lang="en-US" sz="16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No limiti età</a:t>
              </a:r>
              <a:endParaRPr b="0" lang="en-US" sz="16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Reddito. 15.305,79 (solo per la pensione)</a:t>
              </a:r>
              <a:endParaRPr b="0" lang="en-US" sz="16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Residuo visivo non superiore ad 1/20 entrambe gli occhi</a:t>
              </a:r>
              <a:endParaRPr b="0" lang="en-US" sz="16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Decorrenza:   mese successivo alla domanda </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CasellaDiTesto 2"/>
          <p:cNvGrpSpPr/>
          <p:nvPr/>
        </p:nvGrpSpPr>
        <p:grpSpPr>
          <a:xfrm>
            <a:off x="225360" y="401760"/>
            <a:ext cx="8747280" cy="6627600"/>
            <a:chOff x="225360" y="401760"/>
            <a:chExt cx="8747280" cy="6627600"/>
          </a:xfrm>
        </p:grpSpPr>
        <p:pic>
          <p:nvPicPr>
            <p:cNvPr id="173" name="CasellaDiTesto 2" descr=""/>
            <p:cNvPicPr/>
            <p:nvPr/>
          </p:nvPicPr>
          <p:blipFill>
            <a:blip r:embed="rId1"/>
            <a:stretch/>
          </p:blipFill>
          <p:spPr>
            <a:xfrm>
              <a:off x="225360" y="401760"/>
              <a:ext cx="8747280" cy="6627600"/>
            </a:xfrm>
            <a:prstGeom prst="rect">
              <a:avLst/>
            </a:prstGeom>
            <a:ln w="0">
              <a:noFill/>
            </a:ln>
          </p:spPr>
        </p:pic>
        <p:sp>
          <p:nvSpPr>
            <p:cNvPr id="174" name=""/>
            <p:cNvSpPr/>
            <p:nvPr/>
          </p:nvSpPr>
          <p:spPr>
            <a:xfrm>
              <a:off x="324000" y="476280"/>
              <a:ext cx="8286480" cy="60670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16188"/>
                  </a:solidFill>
                  <a:uFillTx/>
                  <a:latin typeface="Rockwell"/>
                </a:rPr>
                <a:t>Pensione sordomuti</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Requisiti</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Residenza in Italia</a:t>
              </a:r>
              <a:endParaRPr b="0" lang="en-US" sz="18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Oltre 18 anni</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 Cittadino italiano o comunitario (e suoi familiari); possesso di carta di soggiorno (oggi permesso CE per soggiornanti di lungo periodo) Rifugiato Politico –Titolare protezione sussidiaria </a:t>
              </a:r>
              <a:endParaRPr b="0" lang="en-US" sz="18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Limite reddituale € 15.305,79</a:t>
              </a:r>
              <a:endParaRPr b="0" lang="en-US" sz="18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Deficit uditivo – Sordità congenita o acquisita in età evolutiva</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16188"/>
                  </a:solidFill>
                  <a:uFillTx/>
                  <a:latin typeface="Rockwell"/>
                </a:rPr>
                <a:t>Indennità di comunicazione</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Requisiti</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Residenza in Italia</a:t>
              </a:r>
              <a:endParaRPr b="0" lang="en-US" sz="18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Cittadino italiano o comunitario (e suoi familiari); possesso di carta di soggiorno (oggi permesso CE per soggiornanti di lungo periodo) Rifugiato Politico –Titolare protezione sussidiaria No limiti età</a:t>
              </a:r>
              <a:endParaRPr b="0" lang="en-US" sz="18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No limiti reddito</a:t>
              </a:r>
              <a:endParaRPr b="0" lang="en-US" sz="18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Deficit uditivo – Sordità congenita o acquisita in età evolutiva</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Decorrenza:   mese successivo alla domanda </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cc"/>
                </a:solidFill>
                <a:latin typeface="Times New Roman"/>
              </a:rPr>
              <a:t>Assegno sociale</a:t>
            </a:r>
            <a:endParaRPr b="1" lang="en-US" sz="4400" spc="-1" strike="noStrike">
              <a:solidFill>
                <a:srgbClr val="ffffcc"/>
              </a:solidFill>
              <a:latin typeface="Times New Roman"/>
            </a:endParaRPr>
          </a:p>
        </p:txBody>
      </p:sp>
      <p:grpSp>
        <p:nvGrpSpPr>
          <p:cNvPr id="176" name="CasellaDiTesto 2"/>
          <p:cNvGrpSpPr/>
          <p:nvPr/>
        </p:nvGrpSpPr>
        <p:grpSpPr>
          <a:xfrm>
            <a:off x="285840" y="1438200"/>
            <a:ext cx="8845560" cy="5121360"/>
            <a:chOff x="285840" y="1438200"/>
            <a:chExt cx="8845560" cy="5121360"/>
          </a:xfrm>
        </p:grpSpPr>
        <p:pic>
          <p:nvPicPr>
            <p:cNvPr id="177" name="CasellaDiTesto 2" descr=""/>
            <p:cNvPicPr/>
            <p:nvPr/>
          </p:nvPicPr>
          <p:blipFill>
            <a:blip r:embed="rId1"/>
            <a:stretch/>
          </p:blipFill>
          <p:spPr>
            <a:xfrm>
              <a:off x="285840" y="1438200"/>
              <a:ext cx="8845560" cy="5121360"/>
            </a:xfrm>
            <a:prstGeom prst="rect">
              <a:avLst/>
            </a:prstGeom>
            <a:ln w="0">
              <a:noFill/>
            </a:ln>
          </p:spPr>
        </p:pic>
        <p:sp>
          <p:nvSpPr>
            <p:cNvPr id="178" name=""/>
            <p:cNvSpPr/>
            <p:nvPr/>
          </p:nvSpPr>
          <p:spPr>
            <a:xfrm>
              <a:off x="395280" y="1484280"/>
              <a:ext cx="8286840" cy="46677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6188"/>
                  </a:solidFill>
                  <a:latin typeface="Rockwell"/>
                </a:rPr>
                <a:t>Requisiti:</a:t>
              </a: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6188"/>
                  </a:solidFill>
                  <a:latin typeface="Rockwell"/>
                </a:rPr>
                <a:t>Residenza in Italia</a:t>
              </a:r>
              <a:endParaRPr b="0" lang="en-US" sz="20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6188"/>
                  </a:solidFill>
                  <a:latin typeface="Rockwell"/>
                </a:rPr>
                <a:t>65 anni</a:t>
              </a:r>
              <a:endParaRPr b="0" lang="en-US" sz="20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6188"/>
                  </a:solidFill>
                  <a:latin typeface="Rockwell"/>
                </a:rPr>
                <a:t>10 anni di soggiorno legale e consecutivo  </a:t>
              </a:r>
              <a:r>
                <a:rPr b="0" lang="it-IT" sz="2000" spc="-1" strike="noStrike">
                  <a:solidFill>
                    <a:srgbClr val="7030a0"/>
                  </a:solidFill>
                  <a:latin typeface="Rockwell"/>
                </a:rPr>
                <a:t>(Discriminazione indiretta)</a:t>
              </a:r>
              <a:endParaRPr b="0" lang="en-US" sz="20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6188"/>
                  </a:solidFill>
                  <a:latin typeface="Rockwell"/>
                </a:rPr>
                <a:t>Cittadino italiano o comunitario (e suoi familiari); possesso di carta di soggiorno (oggi permesso CE per soggiornanti di lungo periodo) – Rifugiato Politico –Titolare protezione sussidiaria</a:t>
              </a:r>
              <a:endParaRPr b="0" lang="en-US" sz="20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6188"/>
                  </a:solidFill>
                  <a:latin typeface="Rockwell"/>
                </a:rPr>
                <a:t>Limite reddituale personale = Assegno sociale</a:t>
              </a:r>
              <a:endParaRPr b="0" lang="en-US" sz="20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6188"/>
                  </a:solidFill>
                  <a:latin typeface="Rockwell"/>
                </a:rPr>
                <a:t>Limite reddituale coniugale = Doppio assegno sociale</a:t>
              </a: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6188"/>
                  </a:solidFill>
                  <a:latin typeface="Rockwell"/>
                </a:rPr>
                <a:t>Decorrenza:   mese successivo alla domanda </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cc"/>
                </a:solidFill>
                <a:latin typeface="Times New Roman"/>
              </a:rPr>
              <a:t>Altre prestazioni</a:t>
            </a:r>
            <a:endParaRPr b="1"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cc"/>
                </a:solidFill>
                <a:latin typeface="Times New Roman"/>
              </a:rPr>
              <a:t>Assegno di maternità dei Comuni</a:t>
            </a:r>
            <a:br>
              <a:rPr sz="4400"/>
            </a:br>
            <a:r>
              <a:rPr b="1" lang="it-IT" sz="2800" spc="-1" strike="noStrike">
                <a:solidFill>
                  <a:srgbClr val="ffffcc"/>
                </a:solidFill>
                <a:latin typeface="Times New Roman"/>
              </a:rPr>
              <a:t>art. 74 D.Lgs 151/2001 </a:t>
            </a:r>
            <a:endParaRPr b="1" lang="en-US" sz="2800" spc="-1" strike="noStrike">
              <a:solidFill>
                <a:srgbClr val="ffffcc"/>
              </a:solidFill>
              <a:latin typeface="Times New Roman"/>
            </a:endParaRPr>
          </a:p>
        </p:txBody>
      </p:sp>
      <p:grpSp>
        <p:nvGrpSpPr>
          <p:cNvPr id="181" name="CasellaDiTesto 2"/>
          <p:cNvGrpSpPr/>
          <p:nvPr/>
        </p:nvGrpSpPr>
        <p:grpSpPr>
          <a:xfrm>
            <a:off x="158760" y="1481040"/>
            <a:ext cx="8759880" cy="5273640"/>
            <a:chOff x="158760" y="1481040"/>
            <a:chExt cx="8759880" cy="5273640"/>
          </a:xfrm>
        </p:grpSpPr>
        <p:pic>
          <p:nvPicPr>
            <p:cNvPr id="182" name="CasellaDiTesto 2" descr=""/>
            <p:cNvPicPr/>
            <p:nvPr/>
          </p:nvPicPr>
          <p:blipFill>
            <a:blip r:embed="rId1"/>
            <a:stretch/>
          </p:blipFill>
          <p:spPr>
            <a:xfrm>
              <a:off x="158760" y="1481040"/>
              <a:ext cx="8759880" cy="5273640"/>
            </a:xfrm>
            <a:prstGeom prst="rect">
              <a:avLst/>
            </a:prstGeom>
            <a:ln w="0">
              <a:noFill/>
            </a:ln>
          </p:spPr>
        </p:pic>
        <p:sp>
          <p:nvSpPr>
            <p:cNvPr id="183" name=""/>
            <p:cNvSpPr/>
            <p:nvPr/>
          </p:nvSpPr>
          <p:spPr>
            <a:xfrm>
              <a:off x="250920" y="1557360"/>
              <a:ext cx="8286480" cy="47941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Requisiti:</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Cittadino italiano o UE,  titolari di Permesso CE-SLP, Carta di soggiorno per familiari di cittadino italiano o comunitario  o Carta di soggiorno permanente di familiare non avente la cittadinanza di uno stato membro</a:t>
              </a:r>
              <a:endParaRPr b="0" lang="en-US" sz="18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Limite reddituale   ISEE</a:t>
              </a:r>
              <a:endParaRPr b="0" lang="en-US" sz="18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Domanda presentata dalla madre (il padre solo in casi particolari)  entro 6 mesi dalla nascita </a:t>
              </a:r>
              <a:endParaRPr b="0" lang="en-US" sz="18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Incompatibile con altre prestazioni di maternità, ma concesso per differenza (Importo per nascite 2010 € 1.556,35)</a:t>
              </a:r>
              <a:endParaRPr b="0" lang="en-US" sz="18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Circolare INPS 35/2010 – lasciare in sospeso le pratiche in attesa rilascio carta soggiorno</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Messaggio INPS 12712/2007 – equiparazione delle rifugiate</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Messaggio INPS 2226/2008 -  equiparazione titolari protezione sussidiaria</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Tribunale Firenze (ordinanza 2940/2011) riconosce diritto alle apolidi</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129" name="CasellaDiTesto 2"/>
          <p:cNvGrpSpPr/>
          <p:nvPr/>
        </p:nvGrpSpPr>
        <p:grpSpPr>
          <a:xfrm>
            <a:off x="285840" y="1197000"/>
            <a:ext cx="8834400" cy="5325840"/>
            <a:chOff x="285840" y="1197000"/>
            <a:chExt cx="8834400" cy="5325840"/>
          </a:xfrm>
        </p:grpSpPr>
        <p:pic>
          <p:nvPicPr>
            <p:cNvPr id="130" name="CasellaDiTesto 2" descr=""/>
            <p:cNvPicPr/>
            <p:nvPr/>
          </p:nvPicPr>
          <p:blipFill>
            <a:blip r:embed="rId1"/>
            <a:stretch/>
          </p:blipFill>
          <p:spPr>
            <a:xfrm>
              <a:off x="285840" y="1197000"/>
              <a:ext cx="8834400" cy="5325840"/>
            </a:xfrm>
            <a:prstGeom prst="rect">
              <a:avLst/>
            </a:prstGeom>
            <a:ln w="0">
              <a:noFill/>
            </a:ln>
          </p:spPr>
        </p:pic>
        <p:sp>
          <p:nvSpPr>
            <p:cNvPr id="131" name=""/>
            <p:cNvSpPr/>
            <p:nvPr/>
          </p:nvSpPr>
          <p:spPr>
            <a:xfrm>
              <a:off x="395280" y="1254960"/>
              <a:ext cx="8286840" cy="43628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6188"/>
                  </a:solidFill>
                  <a:latin typeface="Rockwell"/>
                </a:rPr>
                <a:t>Legge 40/1998 – Turco Napolitano  </a:t>
              </a: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6188"/>
                  </a:solidFill>
                  <a:latin typeface="Rockwell"/>
                </a:rPr>
                <a:t>Art. 41  Assistenza sociale:</a:t>
              </a: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6188"/>
                  </a:solidFill>
                  <a:latin typeface="Rockwell"/>
                </a:rPr>
                <a:t>“</a:t>
              </a:r>
              <a:r>
                <a:rPr b="0" lang="en-US" sz="2000" spc="-1" strike="noStrike">
                  <a:solidFill>
                    <a:srgbClr val="016188"/>
                  </a:solidFill>
                  <a:latin typeface="Rockwell"/>
                </a:rPr>
                <a:t>Gli stranieri titolari della carta di soggiorno o di permesso di soggiorno di durata non inferiore ad un anno, nonché i minori iscritti nella loro carta di soggiorno o nel loro permesso di soggiorno, sono equiparati ai cittadini italiani ai fini della fruizione delle provvidenze e delle prestazioni, anche economiche, di assistenza sociale, incluse quelle previste per colo che sono affetti da morbo di Hansen o da tubercolosi,  per i sordomuti,  per i ciechi civili,  per gli invalidi civili e per gli indigenti</a:t>
              </a: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cc"/>
                </a:solidFill>
                <a:latin typeface="Times New Roman"/>
              </a:rPr>
              <a:t>Assegno di maternità dello Stato</a:t>
            </a:r>
            <a:br>
              <a:rPr sz="4400"/>
            </a:br>
            <a:r>
              <a:rPr b="1" lang="it-IT" sz="2800" spc="-1" strike="noStrike">
                <a:solidFill>
                  <a:srgbClr val="ffffcc"/>
                </a:solidFill>
                <a:latin typeface="Times New Roman"/>
              </a:rPr>
              <a:t>Art. 49 L. 448/98</a:t>
            </a:r>
            <a:endParaRPr b="1" lang="en-US" sz="2800" spc="-1" strike="noStrike">
              <a:solidFill>
                <a:srgbClr val="ffffcc"/>
              </a:solidFill>
              <a:latin typeface="Times New Roman"/>
            </a:endParaRPr>
          </a:p>
        </p:txBody>
      </p:sp>
      <p:grpSp>
        <p:nvGrpSpPr>
          <p:cNvPr id="185" name="CasellaDiTesto 2"/>
          <p:cNvGrpSpPr/>
          <p:nvPr/>
        </p:nvGrpSpPr>
        <p:grpSpPr>
          <a:xfrm>
            <a:off x="298440" y="1798560"/>
            <a:ext cx="8766360" cy="3029040"/>
            <a:chOff x="298440" y="1798560"/>
            <a:chExt cx="8766360" cy="3029040"/>
          </a:xfrm>
        </p:grpSpPr>
        <p:pic>
          <p:nvPicPr>
            <p:cNvPr id="186" name="CasellaDiTesto 2" descr=""/>
            <p:cNvPicPr/>
            <p:nvPr/>
          </p:nvPicPr>
          <p:blipFill>
            <a:blip r:embed="rId1"/>
            <a:stretch/>
          </p:blipFill>
          <p:spPr>
            <a:xfrm>
              <a:off x="298440" y="1798560"/>
              <a:ext cx="8766360" cy="3029040"/>
            </a:xfrm>
            <a:prstGeom prst="rect">
              <a:avLst/>
            </a:prstGeom>
            <a:ln w="0">
              <a:noFill/>
            </a:ln>
          </p:spPr>
        </p:pic>
        <p:sp>
          <p:nvSpPr>
            <p:cNvPr id="187" name=""/>
            <p:cNvSpPr/>
            <p:nvPr/>
          </p:nvSpPr>
          <p:spPr>
            <a:xfrm>
              <a:off x="395280" y="1844640"/>
              <a:ext cx="8286840" cy="25934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Requisiti:</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Cittadino italiano o UE,  titolari dei Carta di soggiorno</a:t>
              </a:r>
              <a:endParaRPr b="0" lang="en-US" sz="18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Domanda presentata dalla madre (il padre solo in casi particolari)  entro 6 mesi dalla nascita </a:t>
              </a:r>
              <a:endParaRPr b="0" lang="en-US" sz="18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3 mesi di </a:t>
              </a:r>
              <a:r>
                <a:rPr b="0" lang="it-IT" sz="1800" spc="-1" strike="noStrike" u="sng">
                  <a:solidFill>
                    <a:srgbClr val="016188"/>
                  </a:solidFill>
                  <a:uFillTx/>
                  <a:latin typeface="Rockwell"/>
                </a:rPr>
                <a:t>contributi</a:t>
              </a:r>
              <a:r>
                <a:rPr b="0" lang="it-IT" sz="1800" spc="-1" strike="noStrike">
                  <a:solidFill>
                    <a:srgbClr val="016188"/>
                  </a:solidFill>
                  <a:latin typeface="Rockwell"/>
                </a:rPr>
                <a:t> versati nel periodo compreso fra i 18 ed i 9 mesi precedenti il parto o l’ingresso in famiglia</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cc"/>
                </a:solidFill>
                <a:latin typeface="Times New Roman"/>
              </a:rPr>
              <a:t>Assegno al nucleo familiare con almeno 3 figli minori</a:t>
            </a:r>
            <a:br>
              <a:rPr sz="4400"/>
            </a:br>
            <a:r>
              <a:rPr b="1" lang="it-IT" sz="2800" spc="-1" strike="noStrike">
                <a:solidFill>
                  <a:srgbClr val="ffffcc"/>
                </a:solidFill>
                <a:latin typeface="Times New Roman"/>
              </a:rPr>
              <a:t>L. 448/98 art. 65  L. 388/2000</a:t>
            </a:r>
            <a:endParaRPr b="1" lang="en-US" sz="2800" spc="-1" strike="noStrike">
              <a:solidFill>
                <a:srgbClr val="ffffcc"/>
              </a:solidFill>
              <a:latin typeface="Times New Roman"/>
            </a:endParaRPr>
          </a:p>
        </p:txBody>
      </p:sp>
      <p:grpSp>
        <p:nvGrpSpPr>
          <p:cNvPr id="189" name="CasellaDiTesto 2"/>
          <p:cNvGrpSpPr/>
          <p:nvPr/>
        </p:nvGrpSpPr>
        <p:grpSpPr>
          <a:xfrm>
            <a:off x="158760" y="1768320"/>
            <a:ext cx="8832960" cy="5272200"/>
            <a:chOff x="158760" y="1768320"/>
            <a:chExt cx="8832960" cy="5272200"/>
          </a:xfrm>
        </p:grpSpPr>
        <p:pic>
          <p:nvPicPr>
            <p:cNvPr id="190" name="CasellaDiTesto 2" descr=""/>
            <p:cNvPicPr/>
            <p:nvPr/>
          </p:nvPicPr>
          <p:blipFill>
            <a:blip r:embed="rId1"/>
            <a:stretch/>
          </p:blipFill>
          <p:spPr>
            <a:xfrm>
              <a:off x="158760" y="1768320"/>
              <a:ext cx="8832960" cy="5272200"/>
            </a:xfrm>
            <a:prstGeom prst="rect">
              <a:avLst/>
            </a:prstGeom>
            <a:ln w="0">
              <a:noFill/>
            </a:ln>
          </p:spPr>
        </p:pic>
        <p:sp>
          <p:nvSpPr>
            <p:cNvPr id="191" name=""/>
            <p:cNvSpPr/>
            <p:nvPr/>
          </p:nvSpPr>
          <p:spPr>
            <a:xfrm>
              <a:off x="250920" y="1844640"/>
              <a:ext cx="8286480" cy="47574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La norma che ha istituito questo Assegno al nucleo riservava la prestazione ai soli cittadini italiani.</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La L. 388/2000 ha esteso il beneficio ai cittadini comunitari</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Soggetta a ISE</a:t>
              </a:r>
              <a:endParaRPr b="0" lang="en-US" sz="18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Domanda presentata indifferentemente da uno dei due genitori. Il requisito della cittadinanza italiana o UE deve essere posseduto dal richiedente</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Circ. INPS 62/2004 escluso i rifugiati dal beneficio</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Circ. INPS 9/2010 a seguito D. Lgs 251/2007 riconosce concessione a titolari di permesso per asilo politico e protezione sussidiaria</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6188"/>
                  </a:solidFill>
                  <a:latin typeface="Rockwell"/>
                </a:rPr>
                <a:t>Tribunale Gorizia 251/2010 e  </a:t>
              </a:r>
              <a:r>
                <a:rPr b="0" lang="it-IT" sz="1800" spc="-1" strike="noStrike" u="sng">
                  <a:solidFill>
                    <a:srgbClr val="016188"/>
                  </a:solidFill>
                  <a:uFillTx/>
                  <a:latin typeface="Rockwell"/>
                </a:rPr>
                <a:t>Tribunale Roma 7561/2011 (nostra azione di tutela)</a:t>
              </a:r>
              <a:r>
                <a:rPr b="0" lang="it-IT" sz="1800" spc="-1" strike="noStrike">
                  <a:solidFill>
                    <a:srgbClr val="016188"/>
                  </a:solidFill>
                  <a:latin typeface="Rockwell"/>
                </a:rPr>
                <a:t> riconosce diritto a titolare di Permesso CE-SLP per equiparazione in base a Direttiva 2003/109/CE  dei cittadini italiani, comunitari e stranieri in materia di prestazioni di assistenza sociale</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cc"/>
                </a:solidFill>
                <a:latin typeface="Times New Roman"/>
              </a:rPr>
              <a:t>CARTA ACQUISTI</a:t>
            </a:r>
            <a:br>
              <a:rPr sz="4400"/>
            </a:br>
            <a:r>
              <a:rPr b="1" lang="it-IT" sz="2800" spc="-1" strike="noStrike">
                <a:solidFill>
                  <a:srgbClr val="ffffcc"/>
                </a:solidFill>
                <a:latin typeface="Times New Roman"/>
              </a:rPr>
              <a:t>DL 112/98 convertito in L. 133/2008</a:t>
            </a:r>
            <a:endParaRPr b="1" lang="en-US" sz="2800" spc="-1" strike="noStrike">
              <a:solidFill>
                <a:srgbClr val="ffffcc"/>
              </a:solidFill>
              <a:latin typeface="Times New Roman"/>
            </a:endParaRPr>
          </a:p>
        </p:txBody>
      </p:sp>
      <p:grpSp>
        <p:nvGrpSpPr>
          <p:cNvPr id="193" name="CasellaDiTesto 2"/>
          <p:cNvGrpSpPr/>
          <p:nvPr/>
        </p:nvGrpSpPr>
        <p:grpSpPr>
          <a:xfrm>
            <a:off x="212760" y="1554120"/>
            <a:ext cx="8759880" cy="5273640"/>
            <a:chOff x="212760" y="1554120"/>
            <a:chExt cx="8759880" cy="5273640"/>
          </a:xfrm>
        </p:grpSpPr>
        <p:pic>
          <p:nvPicPr>
            <p:cNvPr id="194" name="CasellaDiTesto 2" descr=""/>
            <p:cNvPicPr/>
            <p:nvPr/>
          </p:nvPicPr>
          <p:blipFill>
            <a:blip r:embed="rId1"/>
            <a:stretch/>
          </p:blipFill>
          <p:spPr>
            <a:xfrm>
              <a:off x="212760" y="1554120"/>
              <a:ext cx="8759880" cy="5273640"/>
            </a:xfrm>
            <a:prstGeom prst="rect">
              <a:avLst/>
            </a:prstGeom>
            <a:ln w="0">
              <a:noFill/>
            </a:ln>
          </p:spPr>
        </p:pic>
        <p:sp>
          <p:nvSpPr>
            <p:cNvPr id="195" name=""/>
            <p:cNvSpPr/>
            <p:nvPr/>
          </p:nvSpPr>
          <p:spPr>
            <a:xfrm>
              <a:off x="324000" y="1628640"/>
              <a:ext cx="8286480" cy="47991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6188"/>
                  </a:solidFill>
                  <a:latin typeface="Rockwell"/>
                </a:rPr>
                <a:t>Sostegno al reddito delle persone in condizioni di disagio ultra65enni ovvero genitori  di minori di anni 3 </a:t>
              </a: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6188"/>
                  </a:solidFill>
                  <a:latin typeface="Rockwell"/>
                </a:rPr>
                <a:t>In favore di minori di 3 anni:</a:t>
              </a: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Requisiti:</a:t>
              </a:r>
              <a:endParaRPr b="0" lang="en-US" sz="16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Cittadino italiano</a:t>
              </a:r>
              <a:endParaRPr b="0" lang="en-US" sz="16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Residenza in Italia</a:t>
              </a:r>
              <a:endParaRPr b="0" lang="en-US" sz="16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Reddito ISEE</a:t>
              </a:r>
              <a:endParaRPr b="0" lang="en-US" sz="16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a:t>
              </a:r>
              <a:r>
                <a:rPr b="0" lang="it-IT" sz="1600" spc="-1" strike="noStrike">
                  <a:solidFill>
                    <a:srgbClr val="016188"/>
                  </a:solidFill>
                  <a:latin typeface="Rockwell"/>
                </a:rPr>
                <a:t>.</a:t>
              </a:r>
              <a:endParaRPr b="0" lang="en-US" sz="16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Discriminazione nei confronti dei cittadini comunitari e familiari – Contrasto con  Trattato, Convenzioni e norme comunitarie</a:t>
              </a:r>
              <a:endParaRPr b="0" lang="en-US" sz="16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Contrasto con la Convenzione di New York sui diritti del fanciullo (carta intestata al minore)</a:t>
              </a:r>
              <a:endParaRPr b="0" lang="en-US" sz="16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Contrasto con la Direttiva 2003/109/CE titolari di Permesso di Soggiorno Ce per soggiornanti di lungo periodo</a:t>
              </a:r>
              <a:endParaRPr b="0" lang="en-US" sz="16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Contrasto con Direttiva 83/2004  rifugiati politici </a:t>
              </a:r>
              <a:endParaRPr b="0" lang="en-US" sz="16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6188"/>
                  </a:solidFill>
                  <a:latin typeface="Rockwell"/>
                </a:rPr>
                <a:t>Avviata azione legale Arezzo titolare di permesso CE-SLP – in attesa della sentenza</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CasellaDiTesto 1"/>
          <p:cNvGrpSpPr/>
          <p:nvPr/>
        </p:nvGrpSpPr>
        <p:grpSpPr>
          <a:xfrm>
            <a:off x="328680" y="1292400"/>
            <a:ext cx="8808840" cy="5370480"/>
            <a:chOff x="328680" y="1292400"/>
            <a:chExt cx="8808840" cy="5370480"/>
          </a:xfrm>
        </p:grpSpPr>
        <p:pic>
          <p:nvPicPr>
            <p:cNvPr id="133" name="CasellaDiTesto 1" descr=""/>
            <p:cNvPicPr/>
            <p:nvPr/>
          </p:nvPicPr>
          <p:blipFill>
            <a:blip r:embed="rId1"/>
            <a:stretch/>
          </p:blipFill>
          <p:spPr>
            <a:xfrm>
              <a:off x="328680" y="1292400"/>
              <a:ext cx="8808840" cy="5370480"/>
            </a:xfrm>
            <a:prstGeom prst="rect">
              <a:avLst/>
            </a:prstGeom>
            <a:ln w="0">
              <a:noFill/>
            </a:ln>
          </p:spPr>
        </p:pic>
        <p:sp>
          <p:nvSpPr>
            <p:cNvPr id="134" name=""/>
            <p:cNvSpPr/>
            <p:nvPr/>
          </p:nvSpPr>
          <p:spPr>
            <a:xfrm>
              <a:off x="468360" y="1341360"/>
              <a:ext cx="8286840" cy="49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16188"/>
                  </a:solidFill>
                  <a:latin typeface="Rockwell"/>
                </a:rPr>
                <a:t>Legge Finanziaria 2001 (Legge 388/2000) Art.  80 c. 19</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16188"/>
                  </a:solidFill>
                  <a:latin typeface="Rockwell"/>
                </a:rPr>
                <a:t>“ </a:t>
              </a:r>
              <a:r>
                <a:rPr b="0" lang="it-IT" sz="2400" spc="-1" strike="noStrike">
                  <a:solidFill>
                    <a:srgbClr val="016188"/>
                  </a:solidFill>
                  <a:latin typeface="Rockwell"/>
                </a:rPr>
                <a:t>Ai sensi dell'articolo 41 del decreto legislativo 25 luglio 1998, n. 286, l'assegno sociale e le provvidenze economiche che costituiscono diritti soggettivi in base alla legislazione vigente in materia di servizi sociali sono concesse alle condizioni previste dalla legislazione medesima, agli stranieri che siano titolari di carta di soggiorn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030a0"/>
                  </a:solidFill>
                  <a:latin typeface="Rockwell"/>
                </a:rPr>
                <a:t>In caso di domande presentate prima dell’entrata in vigore della finanziaria 2001, le prestazioni sono concesse (C. Cost. 324/0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CasellaDiTesto 1"/>
          <p:cNvGrpSpPr/>
          <p:nvPr/>
        </p:nvGrpSpPr>
        <p:grpSpPr>
          <a:xfrm>
            <a:off x="152280" y="212760"/>
            <a:ext cx="8852040" cy="6784920"/>
            <a:chOff x="152280" y="212760"/>
            <a:chExt cx="8852040" cy="6784920"/>
          </a:xfrm>
        </p:grpSpPr>
        <p:pic>
          <p:nvPicPr>
            <p:cNvPr id="136" name="CasellaDiTesto 1" descr=""/>
            <p:cNvPicPr/>
            <p:nvPr/>
          </p:nvPicPr>
          <p:blipFill>
            <a:blip r:embed="rId1"/>
            <a:stretch/>
          </p:blipFill>
          <p:spPr>
            <a:xfrm>
              <a:off x="152280" y="212760"/>
              <a:ext cx="8852040" cy="6784920"/>
            </a:xfrm>
            <a:prstGeom prst="rect">
              <a:avLst/>
            </a:prstGeom>
            <a:ln w="0">
              <a:noFill/>
            </a:ln>
          </p:spPr>
        </p:pic>
        <p:sp>
          <p:nvSpPr>
            <p:cNvPr id="137" name=""/>
            <p:cNvSpPr/>
            <p:nvPr/>
          </p:nvSpPr>
          <p:spPr>
            <a:xfrm>
              <a:off x="324000" y="260280"/>
              <a:ext cx="8286480" cy="66189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5118"/>
                  </a:solidFill>
                  <a:latin typeface="Rockwell"/>
                </a:rPr>
                <a:t>Equiparati ai cittadini italiani</a:t>
              </a:r>
              <a:endParaRPr b="0" lang="en-US" sz="2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5118"/>
                  </a:solidFill>
                  <a:uFillTx/>
                  <a:latin typeface="Rockwell"/>
                </a:rPr>
                <a:t>Cittadini Comunitari  e familiari </a:t>
              </a:r>
              <a:r>
                <a:rPr b="0" lang="it-IT" sz="2000" spc="-1" strike="noStrike">
                  <a:solidFill>
                    <a:srgbClr val="005118"/>
                  </a:solidFill>
                  <a:latin typeface="Rockwell"/>
                </a:rPr>
                <a:t>– Art. 19 c. 2 e 3 Decreto Lgs 30/2007</a:t>
              </a: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5118"/>
                  </a:solidFill>
                  <a:latin typeface="Rockwell"/>
                </a:rPr>
                <a:t>“</a:t>
              </a:r>
              <a:r>
                <a:rPr b="0" lang="it-IT" sz="2000" spc="-1" strike="noStrike">
                  <a:solidFill>
                    <a:srgbClr val="005118"/>
                  </a:solidFill>
                  <a:latin typeface="Rockwell"/>
                </a:rPr>
                <a:t>Ogni cittadino dell’Unione che risiede nel territorio nazionale gode di pari trattamento rispetto ai cittadini italiani nel campo di applicazione del Trattato: il beneficio di tale diritto si estende ai familiari non aventi la cittadinanza di Stato membro che siano titolari del diritto di soggiorno o del  diritto di soggiorno permanente”</a:t>
              </a: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5118"/>
                  </a:solidFill>
                  <a:latin typeface="Rockwell"/>
                </a:rPr>
                <a:t>“</a:t>
              </a:r>
              <a:r>
                <a:rPr b="0" lang="it-IT" sz="2000" spc="-1" strike="noStrike">
                  <a:solidFill>
                    <a:srgbClr val="005118"/>
                  </a:solidFill>
                  <a:latin typeface="Rockwell"/>
                </a:rPr>
                <a:t>Non godono del diritto a prestazioni d’assistenza sociale durante i primi tre mesi di soggiorno”</a:t>
              </a: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5118"/>
                  </a:solidFill>
                  <a:latin typeface="Rockwell"/>
                </a:rPr>
                <a:t>(Coniuge, ascendenti diretti a carico e quelli del coniuge, discendenti diretti di età inferiore a 21 anni o a carico e quelli del coniuge)</a:t>
              </a: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030a0"/>
                  </a:solidFill>
                  <a:latin typeface="Rockwell"/>
                </a:rPr>
                <a:t>(Messaggio INPS 4602/2008)</a:t>
              </a: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CasellaDiTesto 1"/>
          <p:cNvGrpSpPr/>
          <p:nvPr/>
        </p:nvGrpSpPr>
        <p:grpSpPr>
          <a:xfrm>
            <a:off x="12600" y="-109440"/>
            <a:ext cx="8820360" cy="6906960"/>
            <a:chOff x="12600" y="-109440"/>
            <a:chExt cx="8820360" cy="6906960"/>
          </a:xfrm>
        </p:grpSpPr>
        <p:pic>
          <p:nvPicPr>
            <p:cNvPr id="139" name="CasellaDiTesto 1" descr=""/>
            <p:cNvPicPr/>
            <p:nvPr/>
          </p:nvPicPr>
          <p:blipFill>
            <a:blip r:embed="rId1"/>
            <a:stretch/>
          </p:blipFill>
          <p:spPr>
            <a:xfrm>
              <a:off x="12600" y="-109440"/>
              <a:ext cx="8820360" cy="6906960"/>
            </a:xfrm>
            <a:prstGeom prst="rect">
              <a:avLst/>
            </a:prstGeom>
            <a:ln w="0">
              <a:noFill/>
            </a:ln>
          </p:spPr>
        </p:pic>
        <p:sp>
          <p:nvSpPr>
            <p:cNvPr id="140" name=""/>
            <p:cNvSpPr/>
            <p:nvPr/>
          </p:nvSpPr>
          <p:spPr>
            <a:xfrm>
              <a:off x="179280" y="0"/>
              <a:ext cx="8286840" cy="63716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5118"/>
                  </a:solidFill>
                  <a:latin typeface="Rockwell"/>
                </a:rPr>
                <a:t>Equiparati ai cittadini italiani</a:t>
              </a:r>
              <a:endParaRPr b="0" lang="en-US" sz="2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5118"/>
                  </a:solidFill>
                  <a:uFillTx/>
                  <a:latin typeface="Rockwell"/>
                </a:rPr>
                <a:t>Titolari di permesso CE per soggiornanti di lungo periodo</a:t>
              </a:r>
              <a:endParaRPr b="0" lang="en-US" sz="20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5118"/>
                  </a:solidFill>
                  <a:latin typeface="Rockwell"/>
                </a:rPr>
                <a:t>Direttiva 109/2003/CE  art. 11 Parità di trattamento:</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272880" indent="-272880">
                <a:lnSpc>
                  <a:spcPct val="100000"/>
                </a:lnSpc>
                <a:buClr>
                  <a:srgbClr val="005118"/>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5118"/>
                  </a:solidFill>
                  <a:latin typeface="Rockwell"/>
                </a:rPr>
                <a:t>Il soggiornante di lungo periodo gode dello stesso trattamento dei cittadini nazionali per quanto riguarda: </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5118"/>
                  </a:solidFill>
                  <a:latin typeface="Rockwell"/>
                </a:rPr>
                <a:t>……………</a:t>
              </a:r>
              <a:endParaRPr b="0" lang="en-US" sz="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5118"/>
                  </a:solidFill>
                  <a:latin typeface="Rockwell"/>
                </a:rPr>
                <a:t>d) le prestazioni sociali, l’assistenza sociale e la protezione sociale ai sensi della legislazione nazionale; </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5118"/>
                  </a:solidFill>
                  <a:latin typeface="Rockwell"/>
                </a:rPr>
                <a:t>DECRETO LEGISLATIVO 3/2007 di recepimento della Direttiva (ha sostituito l’art. 9 del Decreto Legislativo 286/98)</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5118"/>
                  </a:solidFill>
                  <a:latin typeface="Rockwell"/>
                </a:rPr>
                <a:t>comma12. </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5118"/>
                  </a:solidFill>
                  <a:latin typeface="Rockwell"/>
                </a:rPr>
                <a:t>Oltre a quanto previsto per lo straniero regolarmente soggiornante nel territorio dello Stato, il titolare del permesso di soggiorno CE per soggiornanti di lungo periodo può: ………</a:t>
              </a:r>
              <a:endParaRPr b="0" lang="en-US" sz="18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5118"/>
                  </a:solidFill>
                  <a:latin typeface="Rockwell"/>
                </a:rPr>
                <a:t>c)</a:t>
              </a:r>
              <a:r>
                <a:rPr b="0" lang="it-IT" sz="1800" spc="-1" strike="noStrike">
                  <a:solidFill>
                    <a:srgbClr val="005118"/>
                  </a:solidFill>
                  <a:latin typeface="Rockwell"/>
                </a:rPr>
                <a:t> usufruire delle prestazioni di assistenza sociale, di previdenza sociale, di quelle relative ad erogazioni in materia sanitaria, scolastica e sociale, di quelle relative all'accesso a beni e servizi a disposizione del pubblico, compreso l'accesso alla procedura per l'ottenimento di alloggi di edilizia residenziale pubblica, salvo che sia diversamente disposto e sempre che sia dimostrata l'effettiva residenza dello straniero sul territorio nazionale</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CasellaDiTesto 1"/>
          <p:cNvGrpSpPr/>
          <p:nvPr/>
        </p:nvGrpSpPr>
        <p:grpSpPr>
          <a:xfrm>
            <a:off x="201600" y="469800"/>
            <a:ext cx="8771040" cy="4937400"/>
            <a:chOff x="201600" y="469800"/>
            <a:chExt cx="8771040" cy="4937400"/>
          </a:xfrm>
        </p:grpSpPr>
        <p:pic>
          <p:nvPicPr>
            <p:cNvPr id="142" name="CasellaDiTesto 1" descr=""/>
            <p:cNvPicPr/>
            <p:nvPr/>
          </p:nvPicPr>
          <p:blipFill>
            <a:blip r:embed="rId1"/>
            <a:stretch/>
          </p:blipFill>
          <p:spPr>
            <a:xfrm>
              <a:off x="201600" y="469800"/>
              <a:ext cx="8771040" cy="4937400"/>
            </a:xfrm>
            <a:prstGeom prst="rect">
              <a:avLst/>
            </a:prstGeom>
            <a:ln w="0">
              <a:noFill/>
            </a:ln>
          </p:spPr>
        </p:pic>
        <p:sp>
          <p:nvSpPr>
            <p:cNvPr id="143" name=""/>
            <p:cNvSpPr/>
            <p:nvPr/>
          </p:nvSpPr>
          <p:spPr>
            <a:xfrm>
              <a:off x="324000" y="549360"/>
              <a:ext cx="8286480" cy="44510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Titolari di Asilo Politico e Protezione Sussidiaria </a:t>
              </a: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Art. 27 Decreto  L.gs 251/2007 (in recepimento Direttiva 83/2004)</a:t>
              </a: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a:t>
              </a:r>
              <a:r>
                <a:rPr b="0" lang="it-IT" sz="2200" spc="-1" strike="noStrike">
                  <a:solidFill>
                    <a:srgbClr val="016188"/>
                  </a:solidFill>
                  <a:latin typeface="Rockwell"/>
                </a:rPr>
                <a:t>I titolari dello status di rifugiato e protezione sussidiaria hanno diritto al medesimo trattamento economico riconosciuto al cittadino italiano in materia di assistenza sociale e sanitaria”</a:t>
              </a: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457200" y="277920"/>
            <a:ext cx="8229600" cy="871560"/>
          </a:xfrm>
          <a:prstGeom prst="rect">
            <a:avLst/>
          </a:prstGeom>
          <a:noFill/>
          <a:ln w="0">
            <a:noFill/>
          </a:ln>
        </p:spPr>
        <p:style>
          <a:lnRef idx="0"/>
          <a:fillRef idx="0"/>
          <a:effectRef idx="0"/>
          <a:fontRef idx="minor"/>
        </p:style>
        <p:txBody>
          <a:bodyPr lIns="90000" rIns="90000" tIns="46800" bIns="46800" anchor="t">
            <a:noAutofit/>
          </a:bodyPr>
          <a:p>
            <a:pPr marL="54000" indent="-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cc"/>
                </a:solidFill>
                <a:latin typeface="Times New Roman"/>
              </a:rPr>
              <a:t>Indennità di accompagnamento</a:t>
            </a:r>
            <a:endParaRPr b="0" lang="en-US" sz="4400" spc="-1" strike="noStrike">
              <a:solidFill>
                <a:srgbClr val="ffffff"/>
              </a:solidFill>
              <a:latin typeface="Times New Roman"/>
            </a:endParaRPr>
          </a:p>
        </p:txBody>
      </p:sp>
      <p:grpSp>
        <p:nvGrpSpPr>
          <p:cNvPr id="145" name="CasellaDiTesto 2"/>
          <p:cNvGrpSpPr/>
          <p:nvPr/>
        </p:nvGrpSpPr>
        <p:grpSpPr>
          <a:xfrm>
            <a:off x="201600" y="1547640"/>
            <a:ext cx="8771040" cy="5340600"/>
            <a:chOff x="201600" y="1547640"/>
            <a:chExt cx="8771040" cy="5340600"/>
          </a:xfrm>
        </p:grpSpPr>
        <p:pic>
          <p:nvPicPr>
            <p:cNvPr id="146" name="CasellaDiTesto 2" descr=""/>
            <p:cNvPicPr/>
            <p:nvPr/>
          </p:nvPicPr>
          <p:blipFill>
            <a:blip r:embed="rId1"/>
            <a:stretch/>
          </p:blipFill>
          <p:spPr>
            <a:xfrm>
              <a:off x="201600" y="1547640"/>
              <a:ext cx="8771040" cy="5340600"/>
            </a:xfrm>
            <a:prstGeom prst="rect">
              <a:avLst/>
            </a:prstGeom>
            <a:ln w="0">
              <a:noFill/>
            </a:ln>
          </p:spPr>
        </p:pic>
        <p:sp>
          <p:nvSpPr>
            <p:cNvPr id="147" name=""/>
            <p:cNvSpPr/>
            <p:nvPr/>
          </p:nvSpPr>
          <p:spPr>
            <a:xfrm>
              <a:off x="324000" y="1628640"/>
              <a:ext cx="8286480" cy="4862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Requisiti:</a:t>
              </a: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 Residenza in Italia</a:t>
              </a: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 Cittadino italiano o comunitario (e suoi familiari); cittadino straniero in possesso di carta di soggiorno (oggi permesso CE per soggiornanti di lungo periodo)</a:t>
              </a:r>
              <a:r>
                <a:rPr b="0" lang="it-IT" sz="2400" spc="-1" strike="noStrike">
                  <a:solidFill>
                    <a:srgbClr val="016188"/>
                  </a:solidFill>
                  <a:latin typeface="Rockwell"/>
                </a:rPr>
                <a:t> -</a:t>
              </a:r>
              <a:r>
                <a:rPr b="0" lang="it-IT" sz="2200" spc="-1" strike="noStrike">
                  <a:solidFill>
                    <a:srgbClr val="016188"/>
                  </a:solidFill>
                  <a:latin typeface="Rockwell"/>
                </a:rPr>
                <a:t>Rifugiato Politico –Titolare protezione sussidiaria</a:t>
              </a:r>
              <a:endParaRPr b="0" lang="en-US" sz="22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Impossibilità a deambulare  senza l’aiuto permanente di un accompagnatore</a:t>
              </a:r>
              <a:endParaRPr b="0" lang="en-US" sz="22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Incapacità di compiere gli atti quotidiani della vita</a:t>
              </a:r>
              <a:endParaRPr b="0" lang="en-US" sz="22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Non ci sono limiti reddituali</a:t>
              </a:r>
              <a:endParaRPr b="0" lang="en-US" sz="22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Decorrenza:   mese successivo alla domanda</a:t>
              </a: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87156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cc"/>
                </a:solidFill>
                <a:latin typeface="Times New Roman"/>
              </a:rPr>
              <a:t>Indennità di accompagnamento</a:t>
            </a:r>
            <a:endParaRPr b="1" lang="en-US" sz="4400" spc="-1" strike="noStrike">
              <a:solidFill>
                <a:srgbClr val="ffffcc"/>
              </a:solidFill>
              <a:latin typeface="Times New Roman"/>
            </a:endParaRPr>
          </a:p>
        </p:txBody>
      </p:sp>
      <p:sp>
        <p:nvSpPr>
          <p:cNvPr id="149" name="PlaceHolder 2"/>
          <p:cNvSpPr>
            <a:spLocks noGrp="1"/>
          </p:cNvSpPr>
          <p:nvPr>
            <p:ph/>
          </p:nvPr>
        </p:nvSpPr>
        <p:spPr>
          <a:xfrm>
            <a:off x="468360" y="1341000"/>
            <a:ext cx="8229600" cy="5327640"/>
          </a:xfrm>
          <a:prstGeom prst="rect">
            <a:avLst/>
          </a:prstGeom>
          <a:gradFill rotWithShape="0">
            <a:gsLst>
              <a:gs pos="0">
                <a:srgbClr val="75b035"/>
              </a:gs>
              <a:gs pos="50000">
                <a:srgbClr val="88cc3e"/>
              </a:gs>
              <a:gs pos="100000">
                <a:srgbClr val="75b035"/>
              </a:gs>
            </a:gsLst>
            <a:lin ang="18900000"/>
          </a:gradFill>
          <a:ln w="0">
            <a:noFill/>
          </a:ln>
        </p:spPr>
        <p:txBody>
          <a:bodyPr anchor="t">
            <a:normAutofit/>
          </a:bodyPr>
          <a:p>
            <a:pPr marL="2919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Sentenza Corte Costituzionale 306/2008</a:t>
            </a:r>
            <a:endParaRPr b="0" lang="en-US" sz="3200" spc="-1" strike="noStrike">
              <a:solidFill>
                <a:srgbClr val="ffffff"/>
              </a:solidFill>
              <a:latin typeface="Times New Roman"/>
            </a:endParaRPr>
          </a:p>
          <a:p>
            <a:pPr marL="2919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91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E’ irragionevole subordinare una prestazione assistenziale quale l’indennità di accompagnamento al possesso di un titolo che richiede per il suo rilascio la titolarità di un reddito, ivi compresa la disponibilità dell’alloggio. </a:t>
            </a:r>
            <a:endParaRPr b="0" lang="en-US" sz="2800" spc="-1" strike="noStrike">
              <a:solidFill>
                <a:srgbClr val="ffffff"/>
              </a:solidFill>
              <a:latin typeface="Times New Roman"/>
            </a:endParaRPr>
          </a:p>
          <a:p>
            <a:pPr marL="2919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91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Pertanto dichiara l’illegittimità costituzionale dell’art. 80 Legge Finanziaria 388/2000 e dell’art. 9 del Testo Unico, laddove escludono che l’indennità di accompagnamento possa essere attribuita agli stranieri extracomunitari soltanto perché essi non risultano in possesso dei requisiti di reddito stabilito per la carta di soggiorno (ora permesso soggiorno Ce SL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cc"/>
                </a:solidFill>
                <a:latin typeface="Times New Roman"/>
              </a:rPr>
              <a:t>Pensione di inabilità</a:t>
            </a:r>
            <a:endParaRPr b="1" lang="en-US" sz="4400" spc="-1" strike="noStrike">
              <a:solidFill>
                <a:srgbClr val="ffffcc"/>
              </a:solidFill>
              <a:latin typeface="Times New Roman"/>
            </a:endParaRPr>
          </a:p>
        </p:txBody>
      </p:sp>
      <p:grpSp>
        <p:nvGrpSpPr>
          <p:cNvPr id="151" name="CasellaDiTesto 3"/>
          <p:cNvGrpSpPr/>
          <p:nvPr/>
        </p:nvGrpSpPr>
        <p:grpSpPr>
          <a:xfrm>
            <a:off x="201600" y="1547640"/>
            <a:ext cx="8771040" cy="4999320"/>
            <a:chOff x="201600" y="1547640"/>
            <a:chExt cx="8771040" cy="4999320"/>
          </a:xfrm>
        </p:grpSpPr>
        <p:pic>
          <p:nvPicPr>
            <p:cNvPr id="152" name="CasellaDiTesto 3" descr=""/>
            <p:cNvPicPr/>
            <p:nvPr/>
          </p:nvPicPr>
          <p:blipFill>
            <a:blip r:embed="rId1"/>
            <a:stretch/>
          </p:blipFill>
          <p:spPr>
            <a:xfrm>
              <a:off x="201600" y="1547640"/>
              <a:ext cx="8771040" cy="4999320"/>
            </a:xfrm>
            <a:prstGeom prst="rect">
              <a:avLst/>
            </a:prstGeom>
            <a:ln w="0">
              <a:noFill/>
            </a:ln>
          </p:spPr>
        </p:pic>
        <p:sp>
          <p:nvSpPr>
            <p:cNvPr id="153" name=""/>
            <p:cNvSpPr/>
            <p:nvPr/>
          </p:nvSpPr>
          <p:spPr>
            <a:xfrm>
              <a:off x="324000" y="1628640"/>
              <a:ext cx="8286480" cy="45730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Requisiti:</a:t>
              </a: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Residenza in Italia</a:t>
              </a:r>
              <a:endParaRPr b="0" lang="en-US" sz="22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Età compresa fra 18 e 65 anni </a:t>
              </a: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 Cittadino italiano o comunitario (e suoi familiari); cittadino straniero in possesso di carta di soggiorno (oggi permesso CE per soggiornanti di lungo periodo)</a:t>
              </a:r>
              <a:r>
                <a:rPr b="0" lang="it-IT" sz="2400" spc="-1" strike="noStrike">
                  <a:solidFill>
                    <a:srgbClr val="016188"/>
                  </a:solidFill>
                  <a:latin typeface="Rockwell"/>
                </a:rPr>
                <a:t> -</a:t>
              </a:r>
              <a:r>
                <a:rPr b="0" lang="it-IT" sz="2200" spc="-1" strike="noStrike">
                  <a:solidFill>
                    <a:srgbClr val="016188"/>
                  </a:solidFill>
                  <a:latin typeface="Rockwell"/>
                </a:rPr>
                <a:t>Rifugiato Politico –Titolare protezione sussidiaria</a:t>
              </a:r>
              <a:endParaRPr b="0" lang="en-US" sz="22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100% invalidità</a:t>
              </a:r>
              <a:endParaRPr b="0" lang="en-US" sz="22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Limite reddituale € 15.305,79 </a:t>
              </a:r>
              <a:endParaRPr b="0" lang="en-US" sz="22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16188"/>
                  </a:solidFill>
                  <a:latin typeface="Rockwell"/>
                </a:rPr>
                <a:t>Decorrenza:   mese successivo alla domanda</a:t>
              </a:r>
              <a:endParaRPr b="0" lang="en-US" sz="2200" spc="-1" strike="noStrike">
                <a:solidFill>
                  <a:srgbClr val="ffffff"/>
                </a:solidFill>
                <a:latin typeface="Times New Roman"/>
              </a:endParaRPr>
            </a:p>
            <a:p>
              <a:pPr marL="272880" indent="-272880">
                <a:lnSpc>
                  <a:spcPct val="100000"/>
                </a:lnSpc>
                <a:buClr>
                  <a:srgbClr val="016188"/>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0T15:04:30Z</dcterms:created>
  <dc:creator>Patronato Inca</dc:creator>
  <dc:description/>
  <dc:language>en-US</dc:language>
  <cp:lastModifiedBy>Enrico</cp:lastModifiedBy>
  <dcterms:modified xsi:type="dcterms:W3CDTF">2012-01-08T11:14:07Z</dcterms:modified>
  <cp:revision>68</cp:revision>
  <dc:subject/>
  <dc:title>Diapositiva 1</dc:title>
</cp:coreProperties>
</file>