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2320" y="-360"/>
            <a:ext cx="297468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28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2320" y="9492840"/>
            <a:ext cx="297468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00479B8-AC40-416E-9590-AF9F2509BA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039CEA-C583-4D23-8922-1A8BAE379E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0268C0-CE36-4184-B794-FDCDB01A60D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719AD6-3572-4D54-BE76-5B574742F1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6EE1F9-6D60-4D4C-833E-B2E560E05C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46EDD2-ABB5-4F6A-90C2-8307D76B3D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E3137E-7960-4C42-9190-FEF1E43EB0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5F60CC-8B54-436B-A0D3-78D12A49A8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0D1D9A-E66B-4F2F-8343-45F8DF3B673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0CDA1E4-3AA9-4450-B779-BAC7628F6F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37B1EC-5695-4ED5-BD77-055BDE4EA7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53C875-3B38-45B1-856A-1B1857A614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9B3EAF-D911-4457-BB83-5A6D3AA9ED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9000CE-CA13-44EA-A1C0-90CC503056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47B4A2-10FD-4875-9FF6-34975AE2A2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92680" y="9493200"/>
            <a:ext cx="297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7CD9DF-BE70-4374-ABE3-A8EE1D6C5F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46240"/>
            <a:ext cx="50356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133-6EE5-4E14-AD92-2CECD627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DDE-997E-487D-A729-DA40C68F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52D-BD3E-423D-B208-0F6BFCF7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E1F-39C3-4A92-BCBE-988C5011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E8E-270D-421A-8C10-9D86E65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9A7-A334-4EF4-9523-7BC06FCB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451-0303-4405-8D47-C870CC9D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14E-D264-4751-BBC0-8B15D41C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A1C-A66A-4720-A6BB-D3012C1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57D-84B0-4343-AB23-5E6D82C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28C-EA11-48EF-A32F-E9398C3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8F4-2CFB-4CC9-B27F-E232C18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800" y="6551640"/>
            <a:ext cx="5818320" cy="19224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6699"/>
                </a:solidFill>
                <a:latin typeface="Arial"/>
              </a:rPr>
              <a:t>5 - scheda procedurale – L’accrerdito di contribuzione figurativa per servizio milit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551640"/>
            <a:ext cx="1981080" cy="1922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SPI - CGIL - INCA      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520" y="6519600"/>
            <a:ext cx="457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A7C-C43B-43AE-B9DD-2557BC4472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441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TRIBUZIONE FIGURATIVA PER SERVIZIO MILITARE: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’accredito in posizione assicurativa mista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art. 16, legge n. 233/1990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96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705720" y="579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95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l controllo della pen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5 - scheda proced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altro esempio – </a:t>
            </a:r>
            <a:r>
              <a:rPr b="0" i="1" lang="it-IT" sz="2400" spc="-1" strike="noStrike">
                <a:solidFill>
                  <a:srgbClr val="009900"/>
                </a:solidFill>
                <a:latin typeface="Arial"/>
              </a:rPr>
              <a:t>disponendo solo di ECO e Ob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35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ervizio mili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pend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rtigi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85840" y="3286080"/>
            <a:ext cx="114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od. 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04720" y="639720"/>
            <a:ext cx="8496360" cy="6218280"/>
            <a:chOff x="504720" y="639720"/>
            <a:chExt cx="8496360" cy="6218280"/>
          </a:xfrm>
        </p:grpSpPr>
        <p:sp>
          <p:nvSpPr>
            <p:cNvPr id="141" name="AutoShape 11"/>
            <p:cNvSpPr/>
            <p:nvPr/>
          </p:nvSpPr>
          <p:spPr>
            <a:xfrm>
              <a:off x="3062160" y="954000"/>
              <a:ext cx="214560" cy="293220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30240 h 2932200"/>
                <a:gd name="textAreaBottom" fmla="*/ 29019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0"/>
                    <a:pt x="10800" y="720"/>
                  </a:cubicBezTo>
                  <a:lnTo>
                    <a:pt x="10800" y="9405"/>
                  </a:lnTo>
                  <a:cubicBezTo>
                    <a:pt x="10800" y="9765"/>
                    <a:pt x="5400" y="10125"/>
                    <a:pt x="0" y="10125"/>
                  </a:cubicBezTo>
                  <a:cubicBezTo>
                    <a:pt x="5400" y="10125"/>
                    <a:pt x="10800" y="10485"/>
                    <a:pt x="10800" y="10845"/>
                  </a:cubicBezTo>
                  <a:lnTo>
                    <a:pt x="10800" y="20880"/>
                  </a:lnTo>
                  <a:cubicBezTo>
                    <a:pt x="10800" y="2124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3062160" y="3889440"/>
              <a:ext cx="214560" cy="291600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39240 h 2916000"/>
                <a:gd name="textAreaBottom" fmla="*/ 2876760 h 29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5"/>
                    <a:pt x="10800" y="929"/>
                  </a:cubicBezTo>
                  <a:lnTo>
                    <a:pt x="10800" y="8217"/>
                  </a:lnTo>
                  <a:cubicBezTo>
                    <a:pt x="10800" y="8682"/>
                    <a:pt x="5400" y="9146"/>
                    <a:pt x="0" y="9146"/>
                  </a:cubicBezTo>
                  <a:cubicBezTo>
                    <a:pt x="5400" y="9146"/>
                    <a:pt x="10800" y="9611"/>
                    <a:pt x="10800" y="10075"/>
                  </a:cubicBezTo>
                  <a:lnTo>
                    <a:pt x="10800" y="20671"/>
                  </a:lnTo>
                  <a:cubicBezTo>
                    <a:pt x="10800" y="21136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6"/>
            <p:cNvSpPr/>
            <p:nvPr/>
          </p:nvSpPr>
          <p:spPr>
            <a:xfrm>
              <a:off x="525600" y="2317680"/>
              <a:ext cx="2495520" cy="79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 flipV="1">
              <a:off x="504720" y="5114880"/>
              <a:ext cx="2514600" cy="64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276720" y="639720"/>
              <a:ext cx="5724360" cy="6218280"/>
              <a:chOff x="3276720" y="639720"/>
              <a:chExt cx="5724360" cy="6218280"/>
            </a:xfrm>
          </p:grpSpPr>
          <p:pic>
            <p:nvPicPr>
              <p:cNvPr id="146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95800" y="639720"/>
                <a:ext cx="5705280" cy="30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2817720"/>
                <a:ext cx="5724360" cy="404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"/>
            <p:cNvSpPr/>
            <p:nvPr/>
          </p:nvSpPr>
          <p:spPr>
            <a:xfrm>
              <a:off x="3200400" y="3886200"/>
              <a:ext cx="57913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 flipV="1">
              <a:off x="563400" y="1399680"/>
              <a:ext cx="3894480" cy="1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1314360"/>
              <a:ext cx="819360" cy="162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5C9-D891-4813-9E0C-398CC6631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42960" y="1071360"/>
            <a:ext cx="7786800" cy="51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1285920" y="3376440"/>
            <a:ext cx="1428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od.  Ob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1"/>
          <a:stretch/>
        </p:blipFill>
        <p:spPr>
          <a:xfrm>
            <a:off x="3152880" y="2428920"/>
            <a:ext cx="477684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3"/>
          <p:cNvSpPr/>
          <p:nvPr/>
        </p:nvSpPr>
        <p:spPr>
          <a:xfrm>
            <a:off x="3143160" y="1219320"/>
            <a:ext cx="4786560" cy="478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nno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251400" y="3357720"/>
            <a:ext cx="1106640" cy="2854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3500280"/>
            <a:ext cx="16430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2280" y="76320"/>
            <a:ext cx="88394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altro esempio – </a:t>
            </a:r>
            <a:r>
              <a:rPr b="0" i="1" lang="it-IT" sz="2400" spc="-1" strike="noStrike">
                <a:solidFill>
                  <a:srgbClr val="009900"/>
                </a:solidFill>
                <a:latin typeface="Arial"/>
              </a:rPr>
              <a:t>disponendo solo di ECO e Ob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F5B-BA18-48BE-B102-6F5E1D4D0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228600" y="990720"/>
            <a:ext cx="8815320" cy="540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1640" y="1213920"/>
            <a:ext cx="4419720" cy="480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Importo derivante dal CAR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perequato con SInG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04920" y="1211400"/>
            <a:ext cx="4190760" cy="480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lcolo effettuato con CAR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omputando il servizio militare in FP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2209680"/>
            <a:ext cx="4057920" cy="3675240"/>
            <a:chOff x="380880" y="2209680"/>
            <a:chExt cx="4057920" cy="3675240"/>
          </a:xfrm>
        </p:grpSpPr>
        <p:pic>
          <p:nvPicPr>
            <p:cNvPr id="162" name="Picture 13" descr=""/>
            <p:cNvPicPr/>
            <p:nvPr/>
          </p:nvPicPr>
          <p:blipFill>
            <a:blip r:embed="rId1"/>
            <a:stretch/>
          </p:blipFill>
          <p:spPr>
            <a:xfrm>
              <a:off x="380880" y="2209680"/>
              <a:ext cx="4057920" cy="3675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Rectangle 9"/>
            <p:cNvSpPr/>
            <p:nvPr/>
          </p:nvSpPr>
          <p:spPr>
            <a:xfrm>
              <a:off x="3068640" y="5651640"/>
              <a:ext cx="735120" cy="225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4d4d4d"/>
                  </a:solidFill>
                  <a:latin typeface="Courier New"/>
                </a:rPr>
                <a:t>714,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08360" y="1990800"/>
            <a:ext cx="434340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6"/>
          <p:cNvSpPr/>
          <p:nvPr/>
        </p:nvSpPr>
        <p:spPr>
          <a:xfrm>
            <a:off x="8534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26B5-61AD-4B1D-9FDF-DABBF5D0931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3560" y="151920"/>
            <a:ext cx="3276360" cy="7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pro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2438280" y="2930400"/>
            <a:ext cx="357480" cy="2145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607000" y="4948200"/>
            <a:ext cx="500040" cy="115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724280" y="3008160"/>
            <a:ext cx="642960" cy="15264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624640" y="3389400"/>
            <a:ext cx="598320" cy="169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3" idx="0"/>
            <a:endCxn id="170" idx="1"/>
          </p:cNvCxnSpPr>
          <p:nvPr/>
        </p:nvCxnSpPr>
        <p:spPr>
          <a:xfrm flipV="1">
            <a:off x="3436920" y="3474360"/>
            <a:ext cx="2178720" cy="21675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3"/>
            <a:endCxn id="168" idx="3"/>
          </p:cNvCxnSpPr>
          <p:nvPr/>
        </p:nvCxnSpPr>
        <p:spPr>
          <a:xfrm flipH="1">
            <a:off x="6116400" y="3474720"/>
            <a:ext cx="116640" cy="1532520"/>
          </a:xfrm>
          <a:prstGeom prst="bentConnector3">
            <a:avLst>
              <a:gd name="adj1" fmla="val -184829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73" name="Oval 7"/>
          <p:cNvSpPr/>
          <p:nvPr/>
        </p:nvSpPr>
        <p:spPr>
          <a:xfrm>
            <a:off x="2971800" y="2152800"/>
            <a:ext cx="762120" cy="2854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6"/>
            <a:endCxn id="169" idx="2"/>
          </p:cNvCxnSpPr>
          <p:nvPr/>
        </p:nvCxnSpPr>
        <p:spPr>
          <a:xfrm>
            <a:off x="3742920" y="2295360"/>
            <a:ext cx="972360" cy="789840"/>
          </a:xfrm>
          <a:prstGeom prst="straightConnector1">
            <a:avLst/>
          </a:prstGeom>
          <a:ln w="19080">
            <a:solidFill>
              <a:srgbClr val="0099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7000" y="6068880"/>
            <a:ext cx="870408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a pensione è la stessa: il SM è stato accreditato nel FP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D8A-5C31-4A2F-9ADA-F073DF48BD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228600" y="990720"/>
            <a:ext cx="8815320" cy="540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1640" y="1213920"/>
            <a:ext cx="4419720" cy="480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Importo derivante dal CAR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perequato con SInG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21320" y="1967040"/>
            <a:ext cx="4324320" cy="3957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304920" y="1211400"/>
            <a:ext cx="4190760" cy="480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lcolo effettuato con CAR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omputando il servizio militare in 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07196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Slide Number Placeholder 6"/>
          <p:cNvSpPr/>
          <p:nvPr/>
        </p:nvSpPr>
        <p:spPr>
          <a:xfrm>
            <a:off x="8534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519B-F05C-4492-9469-63BA68E6EA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3560" y="151920"/>
            <a:ext cx="8767800" cy="7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contro-pro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2462040" y="3962520"/>
            <a:ext cx="357480" cy="2142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607000" y="4948200"/>
            <a:ext cx="500040" cy="115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4724280" y="3008160"/>
            <a:ext cx="642960" cy="15264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624640" y="3389400"/>
            <a:ext cx="598320" cy="169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8" idx="0"/>
            <a:endCxn id="186" idx="1"/>
          </p:cNvCxnSpPr>
          <p:nvPr/>
        </p:nvCxnSpPr>
        <p:spPr>
          <a:xfrm flipV="1">
            <a:off x="3406680" y="3474360"/>
            <a:ext cx="2208960" cy="218988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6" idx="3"/>
            <a:endCxn id="184" idx="3"/>
          </p:cNvCxnSpPr>
          <p:nvPr/>
        </p:nvCxnSpPr>
        <p:spPr>
          <a:xfrm flipH="1">
            <a:off x="6116400" y="3474720"/>
            <a:ext cx="116640" cy="1532520"/>
          </a:xfrm>
          <a:prstGeom prst="bentConnector3">
            <a:avLst>
              <a:gd name="adj1" fmla="val -184829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90" name="Oval 7"/>
          <p:cNvSpPr/>
          <p:nvPr/>
        </p:nvSpPr>
        <p:spPr>
          <a:xfrm>
            <a:off x="2971800" y="2152800"/>
            <a:ext cx="762120" cy="2854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6"/>
            <a:endCxn id="185" idx="2"/>
          </p:cNvCxnSpPr>
          <p:nvPr/>
        </p:nvCxnSpPr>
        <p:spPr>
          <a:xfrm>
            <a:off x="3742920" y="2295360"/>
            <a:ext cx="972360" cy="789840"/>
          </a:xfrm>
          <a:prstGeom prst="straightConnector1">
            <a:avLst/>
          </a:prstGeom>
          <a:ln w="19080">
            <a:solidFill>
              <a:srgbClr val="0099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97000" y="6068880"/>
            <a:ext cx="870408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el 2010, la pensione aumenta di più di 10 e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084480" y="5673600"/>
            <a:ext cx="642960" cy="2336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FFE-D650-46AA-90D3-5595F65E9B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" y="990720"/>
            <a:ext cx="8815320" cy="540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66960" y="1201680"/>
            <a:ext cx="5324760" cy="4845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04920" y="1211400"/>
            <a:ext cx="3200400" cy="480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Risultati del calcolo effettu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on il servizio militare in FP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on il servizio militare in 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590920"/>
            <a:ext cx="2819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llocando gli importi risultanti dai due calcoli l’uno nella casella “percepito” di SInGPA e l’altro nella casella “dovuto”, si ottiene immediatamente l’importo complessivo della differenza, positiva o negativa che s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8534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83B7-2D46-4DAC-A0B7-57026A7D3B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3560" y="151920"/>
            <a:ext cx="8767800" cy="7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confronto può anche essere fatto così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000" y="6068880"/>
            <a:ext cx="870408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el 2010, la pensione aumenta di più di 11 eu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 gli arretrati ammontano a quasi 1.000 e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81080" y="2895480"/>
            <a:ext cx="5905800" cy="2828880"/>
            <a:chOff x="1981080" y="2895480"/>
            <a:chExt cx="5905800" cy="2828880"/>
          </a:xfrm>
        </p:grpSpPr>
        <p:sp>
          <p:nvSpPr>
            <p:cNvPr id="201" name="Oval 7"/>
            <p:cNvSpPr/>
            <p:nvPr/>
          </p:nvSpPr>
          <p:spPr>
            <a:xfrm>
              <a:off x="5181480" y="3105000"/>
              <a:ext cx="465120" cy="20988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4952880" y="4832280"/>
              <a:ext cx="500040" cy="11592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5181480" y="2895480"/>
              <a:ext cx="452520" cy="18108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7"/>
            <p:cNvSpPr/>
            <p:nvPr/>
          </p:nvSpPr>
          <p:spPr>
            <a:xfrm>
              <a:off x="7429680" y="4943520"/>
              <a:ext cx="457200" cy="1620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672160" y="4836960"/>
              <a:ext cx="500040" cy="11592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7" idx="6"/>
              <a:endCxn id="204" idx="4"/>
            </p:cNvCxnSpPr>
            <p:nvPr/>
          </p:nvCxnSpPr>
          <p:spPr>
            <a:xfrm>
              <a:off x="2847960" y="3800160"/>
              <a:ext cx="4811040" cy="1315080"/>
            </a:xfrm>
            <a:prstGeom prst="bentConnector4">
              <a:avLst>
                <a:gd name="adj1" fmla="val 6525"/>
                <a:gd name="adj2" fmla="val 146358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07" name="Oval 7"/>
            <p:cNvSpPr/>
            <p:nvPr/>
          </p:nvSpPr>
          <p:spPr>
            <a:xfrm>
              <a:off x="1981080" y="3657600"/>
              <a:ext cx="857520" cy="28584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3C4-3C97-4540-90CD-4C70DBA2D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4"/>
          <p:cNvSpPr/>
          <p:nvPr/>
        </p:nvSpPr>
        <p:spPr>
          <a:xfrm>
            <a:off x="685800" y="3733920"/>
            <a:ext cx="7772400" cy="266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685800" y="1428840"/>
            <a:ext cx="7772400" cy="2214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3824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solu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38080" y="2666880"/>
            <a:ext cx="10670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La  riliqui-dazione dell’IN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000160" y="1633680"/>
            <a:ext cx="6381720" cy="17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952880" y="3795840"/>
            <a:ext cx="3429000" cy="253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Oval 5"/>
          <p:cNvSpPr/>
          <p:nvPr/>
        </p:nvSpPr>
        <p:spPr>
          <a:xfrm>
            <a:off x="6875640" y="6095880"/>
            <a:ext cx="1015920" cy="2523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38080" y="5403960"/>
            <a:ext cx="10670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Il calcolo con CAR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685800" y="928800"/>
            <a:ext cx="79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00"/>
                </a:solidFill>
                <a:latin typeface="Arial"/>
              </a:rPr>
              <a:t>Domanda di ricostituzione della pens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00"/>
                </a:solidFill>
                <a:latin typeface="Arial"/>
              </a:rPr>
              <a:t>per accredito del periodo di servizio militare nella G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2935440" y="2133720"/>
            <a:ext cx="965160" cy="2556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907320" y="3357720"/>
            <a:ext cx="1398600" cy="2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00"/>
                </a:solidFill>
                <a:latin typeface="Arial"/>
              </a:rPr>
              <a:t>totale € 724,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514-D7E7-49F8-9840-6E38BC2D93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6659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aumento e gli arretr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85840" y="5143680"/>
            <a:ext cx="364320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L’aumento è di 11 euro m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Il totale degli arretrati è di circa € 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4143240" y="1573200"/>
            <a:ext cx="4857840" cy="2355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2"/>
          <a:stretch/>
        </p:blipFill>
        <p:spPr>
          <a:xfrm>
            <a:off x="4143240" y="3933720"/>
            <a:ext cx="4857840" cy="2352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3"/>
          <a:stretch/>
        </p:blipFill>
        <p:spPr>
          <a:xfrm>
            <a:off x="4143240" y="928800"/>
            <a:ext cx="4857840" cy="6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6" descr=""/>
          <p:cNvPicPr/>
          <p:nvPr/>
        </p:nvPicPr>
        <p:blipFill>
          <a:blip r:embed="rId4"/>
          <a:stretch/>
        </p:blipFill>
        <p:spPr>
          <a:xfrm>
            <a:off x="142920" y="1430280"/>
            <a:ext cx="3929040" cy="32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Oval 8"/>
          <p:cNvSpPr/>
          <p:nvPr/>
        </p:nvSpPr>
        <p:spPr>
          <a:xfrm>
            <a:off x="3670200" y="4518000"/>
            <a:ext cx="473040" cy="1936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5670720" y="3733920"/>
            <a:ext cx="473040" cy="206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5670720" y="6076800"/>
            <a:ext cx="473040" cy="2066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6"/>
            <a:endCxn id="227" idx="6"/>
          </p:cNvCxnSpPr>
          <p:nvPr/>
        </p:nvCxnSpPr>
        <p:spPr>
          <a:xfrm>
            <a:off x="6157440" y="3836520"/>
            <a:ext cx="2520" cy="2343960"/>
          </a:xfrm>
          <a:prstGeom prst="bentConnector3">
            <a:avLst>
              <a:gd name="adj1" fmla="val 32100000"/>
            </a:avLst>
          </a:prstGeom>
          <a:ln w="28440">
            <a:solidFill>
              <a:srgbClr val="009900"/>
            </a:solidFill>
            <a:miter/>
            <a:headEnd len="med" type="arrow" w="med"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DC8-E809-46F2-8725-0B3AAE85C7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09480"/>
            <a:ext cx="7772400" cy="8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probl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648320" y="2590920"/>
            <a:ext cx="3809880" cy="350496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Arial"/>
              </a:rPr>
              <a:t>Quale problema si può present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La retribuzione media settimanale utilizzata per calcolare la quota di pensione a carico del FPLD potrebbe risultare minore di quella utilizzata per il calcolo della quota di pensione a carico della G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Se la contribuzione figurativa relativa al periodo di servizio militare fosse stata accreditata nella GSLA l’importo complessivo della pensione sarebbe potuto essere più elev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Lo stesso problema si può verificare in caso di iscrizione in diverse GGSSLL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1600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problema affrontato in questa scheda si può presentare in presenza di pensioni liquidate a carico di una delle gestioni speciali dei lavoratori autonomi con il cumulo dei contributi versati nel FPLD o in diverse gestioni speciali dei lavoratori autono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42960" y="2571840"/>
            <a:ext cx="3809880" cy="3504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accredito del servizio militar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i soggetti iscritti sia nel FPLD  che  nelle GGSSLLAA il periodo di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izio militare viene accreditato, in genere, nel FP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76A-1043-4DAD-81CA-C9F35F127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indiz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3672000" cy="385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si dispone d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spetto di liquidazione (TE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tratto c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2500200"/>
            <a:ext cx="3924360" cy="3857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È necess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frontare la RMP utilizzata per determinare l’importo della quota A di pensione a carico del FPLD e quella utilizzata per la quota A della GSLA. Verificare 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MP utilizzata per la determinare la quota A di pensione a carico del FPLD è minore di quella utilizzata  per calcolare la quota A a carico della GSL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ificare 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ono periodi di contribuzione nel FPLD, in una o più GSLA e per servizio mili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ono periodi di contribuzione in diverse GGSSLLAA e per servizio mili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071720" y="5500800"/>
            <a:ext cx="3276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1071720" y="3714840"/>
            <a:ext cx="3276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419720" y="4929120"/>
            <a:ext cx="228600" cy="1285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85920"/>
              <a:gd name="textAreaBottom" fmla="*/ 125424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4"/>
                  <a:pt x="10800" y="1707"/>
                </a:cubicBezTo>
                <a:lnTo>
                  <a:pt x="10800" y="7884"/>
                </a:lnTo>
                <a:cubicBezTo>
                  <a:pt x="10800" y="8738"/>
                  <a:pt x="5400" y="9591"/>
                  <a:pt x="0" y="9591"/>
                </a:cubicBezTo>
                <a:cubicBezTo>
                  <a:pt x="5400" y="9591"/>
                  <a:pt x="10800" y="10445"/>
                  <a:pt x="10800" y="11298"/>
                </a:cubicBezTo>
                <a:lnTo>
                  <a:pt x="10800" y="19893"/>
                </a:lnTo>
                <a:cubicBezTo>
                  <a:pt x="10800" y="2074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4429080" y="3017880"/>
            <a:ext cx="214200" cy="1554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554120"/>
              <a:gd name="textAreaBottom" fmla="*/ 15246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2"/>
                  <a:pt x="10800" y="1323"/>
                </a:cubicBezTo>
                <a:lnTo>
                  <a:pt x="10800" y="8268"/>
                </a:lnTo>
                <a:cubicBezTo>
                  <a:pt x="10800" y="8930"/>
                  <a:pt x="5400" y="9591"/>
                  <a:pt x="0" y="9591"/>
                </a:cubicBezTo>
                <a:cubicBezTo>
                  <a:pt x="5400" y="9591"/>
                  <a:pt x="10800" y="10253"/>
                  <a:pt x="10800" y="10914"/>
                </a:cubicBezTo>
                <a:lnTo>
                  <a:pt x="10800" y="20277"/>
                </a:lnTo>
                <a:cubicBezTo>
                  <a:pt x="10800" y="2093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1600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nsione a carico di una delle GSLA liquidata sulla base di contributi versati sia in GSLA che nel FPLD o in diverse gestioni speciali dei lavoratori autonomi in favore di soggetto che ha prestato il servizio milit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6E4-996A-4371-909F-D15584687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95200" y="152280"/>
            <a:ext cx="854388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Un esempio – </a:t>
            </a:r>
            <a:r>
              <a:rPr b="0" i="1" lang="it-IT" sz="2800" spc="-1" strike="noStrike">
                <a:solidFill>
                  <a:srgbClr val="ff3300"/>
                </a:solidFill>
                <a:latin typeface="Arial"/>
              </a:rPr>
              <a:t>disponendo di TE/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920" y="928800"/>
            <a:ext cx="8553240" cy="535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odello TE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tegoria pen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Quota FP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tribuzione media R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2500200" y="1000080"/>
            <a:ext cx="62866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Oval 7"/>
          <p:cNvSpPr/>
          <p:nvPr/>
        </p:nvSpPr>
        <p:spPr>
          <a:xfrm>
            <a:off x="2965320" y="1928880"/>
            <a:ext cx="1106640" cy="2858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447840" y="2071800"/>
            <a:ext cx="2500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4141800"/>
            <a:ext cx="7124760" cy="1573200"/>
            <a:chOff x="304920" y="4141800"/>
            <a:chExt cx="7124760" cy="1573200"/>
          </a:xfrm>
        </p:grpSpPr>
        <p:sp>
          <p:nvSpPr>
            <p:cNvPr id="70" name="Oval 7"/>
            <p:cNvSpPr/>
            <p:nvPr/>
          </p:nvSpPr>
          <p:spPr>
            <a:xfrm>
              <a:off x="6751800" y="5286240"/>
              <a:ext cx="677880" cy="4287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6"/>
            <p:cNvSpPr/>
            <p:nvPr/>
          </p:nvSpPr>
          <p:spPr>
            <a:xfrm flipV="1">
              <a:off x="447840" y="5486400"/>
              <a:ext cx="61815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447840" y="4572000"/>
              <a:ext cx="6105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6715080" y="4357800"/>
              <a:ext cx="677880" cy="4284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 flipV="1">
              <a:off x="447840" y="4141800"/>
              <a:ext cx="215244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417600" y="5070600"/>
              <a:ext cx="218268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21"/>
            <p:cNvSpPr/>
            <p:nvPr/>
          </p:nvSpPr>
          <p:spPr>
            <a:xfrm>
              <a:off x="304920" y="4857840"/>
              <a:ext cx="22860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Quota GS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dito medio RM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2F9-D9B2-4B8A-B045-38BC477B8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58440" y="914040"/>
            <a:ext cx="7799400" cy="55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stratto CARPE/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militare (65 set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rtig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gricolo dipendente (1 set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rtig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43440" y="990720"/>
            <a:ext cx="4429080" cy="5360760"/>
            <a:chOff x="3943440" y="990720"/>
            <a:chExt cx="4429080" cy="5360760"/>
          </a:xfrm>
        </p:grpSpPr>
        <p:grpSp>
          <p:nvGrpSpPr>
            <p:cNvPr id="79" name=""/>
            <p:cNvGrpSpPr/>
            <p:nvPr/>
          </p:nvGrpSpPr>
          <p:grpSpPr>
            <a:xfrm>
              <a:off x="3943440" y="990720"/>
              <a:ext cx="4429080" cy="5360760"/>
              <a:chOff x="3943440" y="990720"/>
              <a:chExt cx="4429080" cy="536076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1960" y="5829120"/>
                <a:ext cx="4351680" cy="15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0440" y="5950080"/>
                <a:ext cx="4375080" cy="40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43440" y="990720"/>
                <a:ext cx="4429080" cy="486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3943440" y="1002960"/>
              <a:ext cx="4416120" cy="534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76440" y="152280"/>
            <a:ext cx="778176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egu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Un ese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1643040"/>
            <a:ext cx="5643720" cy="4681440"/>
            <a:chOff x="609480" y="1643040"/>
            <a:chExt cx="5643720" cy="4681440"/>
          </a:xfrm>
        </p:grpSpPr>
        <p:sp>
          <p:nvSpPr>
            <p:cNvPr id="86" name="Rectangle 7"/>
            <p:cNvSpPr/>
            <p:nvPr/>
          </p:nvSpPr>
          <p:spPr>
            <a:xfrm>
              <a:off x="5105520" y="1857240"/>
              <a:ext cx="228600" cy="24148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3747960" y="1905120"/>
              <a:ext cx="214560" cy="234288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28440 h 2342880"/>
                <a:gd name="textAreaBottom" fmla="*/ 231444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24"/>
                    <a:pt x="10800" y="847"/>
                  </a:cubicBezTo>
                  <a:lnTo>
                    <a:pt x="10800" y="9909"/>
                  </a:lnTo>
                  <a:cubicBezTo>
                    <a:pt x="10800" y="10333"/>
                    <a:pt x="5400" y="10756"/>
                    <a:pt x="0" y="10756"/>
                  </a:cubicBezTo>
                  <a:cubicBezTo>
                    <a:pt x="5400" y="10756"/>
                    <a:pt x="10800" y="11180"/>
                    <a:pt x="10800" y="11603"/>
                  </a:cubicBezTo>
                  <a:lnTo>
                    <a:pt x="10800" y="20753"/>
                  </a:lnTo>
                  <a:cubicBezTo>
                    <a:pt x="10800" y="2117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67200" y="1738440"/>
              <a:ext cx="2286000" cy="99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4520" y="164304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3"/>
              <a:endCxn id="88" idx="1"/>
            </p:cNvCxnSpPr>
            <p:nvPr/>
          </p:nvCxnSpPr>
          <p:spPr>
            <a:xfrm flipV="1">
              <a:off x="766800" y="1788480"/>
              <a:ext cx="3201120" cy="684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962520" y="4300560"/>
              <a:ext cx="2286000" cy="100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05520" y="4414680"/>
              <a:ext cx="228600" cy="186696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292428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3" idx="3"/>
              <a:endCxn id="87" idx="1"/>
            </p:cNvCxnSpPr>
            <p:nvPr/>
          </p:nvCxnSpPr>
          <p:spPr>
            <a:xfrm>
              <a:off x="761760" y="3076200"/>
              <a:ext cx="2972520" cy="10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5" name="AutoShape 11"/>
            <p:cNvSpPr/>
            <p:nvPr/>
          </p:nvSpPr>
          <p:spPr>
            <a:xfrm>
              <a:off x="3747960" y="4467240"/>
              <a:ext cx="214560" cy="18572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22680 h 1857240"/>
                <a:gd name="textAreaBottom" fmla="*/ 183456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24"/>
                    <a:pt x="10800" y="847"/>
                  </a:cubicBezTo>
                  <a:lnTo>
                    <a:pt x="10800" y="9909"/>
                  </a:lnTo>
                  <a:cubicBezTo>
                    <a:pt x="10800" y="10333"/>
                    <a:pt x="5400" y="10756"/>
                    <a:pt x="0" y="10756"/>
                  </a:cubicBezTo>
                  <a:cubicBezTo>
                    <a:pt x="5400" y="10756"/>
                    <a:pt x="10800" y="11180"/>
                    <a:pt x="10800" y="11603"/>
                  </a:cubicBezTo>
                  <a:lnTo>
                    <a:pt x="10800" y="20753"/>
                  </a:lnTo>
                  <a:cubicBezTo>
                    <a:pt x="10800" y="2117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5272200"/>
              <a:ext cx="1526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6" idx="3"/>
              <a:endCxn id="95" idx="1"/>
            </p:cNvCxnSpPr>
            <p:nvPr/>
          </p:nvCxnSpPr>
          <p:spPr>
            <a:xfrm>
              <a:off x="761760" y="5395680"/>
              <a:ext cx="2972520" cy="10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8" name=""/>
            <p:cNvSpPr/>
            <p:nvPr/>
          </p:nvSpPr>
          <p:spPr>
            <a:xfrm>
              <a:off x="609480" y="41911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3"/>
              <a:endCxn id="91" idx="1"/>
            </p:cNvCxnSpPr>
            <p:nvPr/>
          </p:nvCxnSpPr>
          <p:spPr>
            <a:xfrm>
              <a:off x="762120" y="4343400"/>
              <a:ext cx="3201120" cy="864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769-FDB2-409D-9991-8B6099988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8120" y="152280"/>
            <a:ext cx="291960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pr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4071960" cy="47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lcolo pensione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RPE con servizio militare in FP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65120" y="1714680"/>
            <a:ext cx="3983040" cy="4071600"/>
          </a:xfrm>
          <a:prstGeom prst="rect">
            <a:avLst/>
          </a:prstGeom>
          <a:ln w="0">
            <a:noFill/>
          </a:ln>
        </p:spPr>
      </p:pic>
      <p:sp>
        <p:nvSpPr>
          <p:cNvPr id="103" name="Oval 6"/>
          <p:cNvSpPr/>
          <p:nvPr/>
        </p:nvSpPr>
        <p:spPr>
          <a:xfrm>
            <a:off x="2417760" y="2428920"/>
            <a:ext cx="382680" cy="177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8000" y="5116680"/>
            <a:ext cx="2714760" cy="21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43280" y="1071720"/>
            <a:ext cx="4071960" cy="47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lcolo pensione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CARPE con servizio militare in G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3903480" cy="4071600"/>
          </a:xfrm>
          <a:prstGeom prst="rect">
            <a:avLst/>
          </a:prstGeom>
          <a:ln w="0">
            <a:noFill/>
          </a:ln>
        </p:spPr>
      </p:pic>
      <p:sp>
        <p:nvSpPr>
          <p:cNvPr id="107" name="Oval 7"/>
          <p:cNvSpPr/>
          <p:nvPr/>
        </p:nvSpPr>
        <p:spPr>
          <a:xfrm>
            <a:off x="6643800" y="3429000"/>
            <a:ext cx="458640" cy="20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448240" y="5116680"/>
            <a:ext cx="2631960" cy="21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63920" y="5943600"/>
            <a:ext cx="22096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ifferenza mens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lla decorrenza = € 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736800" y="5065560"/>
            <a:ext cx="1697400" cy="159120"/>
            <a:chOff x="3736800" y="5065560"/>
            <a:chExt cx="1697400" cy="159120"/>
          </a:xfrm>
        </p:grpSpPr>
        <p:cxnSp>
          <p:nvCxnSpPr>
            <p:cNvPr id="111" name=""/>
            <p:cNvCxnSpPr>
              <a:stCxn id="104" idx="3"/>
              <a:endCxn id="108" idx="1"/>
            </p:cNvCxnSpPr>
            <p:nvPr/>
          </p:nvCxnSpPr>
          <p:spPr>
            <a:xfrm>
              <a:off x="3736800" y="5223960"/>
              <a:ext cx="1697760" cy="1080"/>
            </a:xfrm>
            <a:prstGeom prst="straightConnector1">
              <a:avLst/>
            </a:prstGeom>
            <a:ln w="2844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492800" y="506556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109" idx="0"/>
            <a:endCxn id="112" idx="2"/>
          </p:cNvCxnSpPr>
          <p:nvPr/>
        </p:nvCxnSpPr>
        <p:spPr>
          <a:xfrm flipV="1">
            <a:off x="4568400" y="5217480"/>
            <a:ext cx="1080" cy="72612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DDC-8B8F-4E71-BF40-4041E3A47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152280"/>
            <a:ext cx="813456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medio: domanda di ri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15200" cy="5072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hiesta di accredito del servizio militare nella gestione artig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iliquid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6572160" cy="43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3"/>
          <p:cNvSpPr/>
          <p:nvPr/>
        </p:nvSpPr>
        <p:spPr>
          <a:xfrm>
            <a:off x="7176960" y="3733920"/>
            <a:ext cx="1398600" cy="2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totale € 2.341,5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E86-1D35-4CEC-8A06-13D152A84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7760" y="152280"/>
            <a:ext cx="70628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li arretr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7120" y="1143000"/>
            <a:ext cx="8358120" cy="5072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048120" y="1184400"/>
            <a:ext cx="5562360" cy="49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343400" y="3084480"/>
            <a:ext cx="533520" cy="192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952880"/>
            <a:ext cx="53352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0880" y="3733920"/>
            <a:ext cx="2667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ifferenze mensil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lla decorrenza = €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nel 2009             = €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nel 2010             = € 78,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0"/>
            <a:endCxn id="125" idx="1"/>
          </p:cNvCxnSpPr>
          <p:nvPr/>
        </p:nvCxnSpPr>
        <p:spPr>
          <a:xfrm flipH="1" flipV="1" rot="5400000">
            <a:off x="2827080" y="2417400"/>
            <a:ext cx="204120" cy="2428920"/>
          </a:xfrm>
          <a:prstGeom prst="bent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2"/>
            <a:endCxn id="127" idx="1"/>
          </p:cNvCxnSpPr>
          <p:nvPr/>
        </p:nvCxnSpPr>
        <p:spPr>
          <a:xfrm flipH="1" rot="16200000">
            <a:off x="2687400" y="3979800"/>
            <a:ext cx="483480" cy="2428920"/>
          </a:xfrm>
          <a:prstGeom prst="bent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343400" y="5697360"/>
            <a:ext cx="53352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324400"/>
            <a:ext cx="533520" cy="219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429000"/>
            <a:ext cx="53352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809880"/>
            <a:ext cx="53352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2960" y="3173400"/>
            <a:ext cx="164880" cy="712800"/>
          </a:xfrm>
          <a:custGeom>
            <a:avLst/>
            <a:gdLst>
              <a:gd name="textAreaLeft" fmla="*/ 105480 w 164880"/>
              <a:gd name="textAreaRight" fmla="*/ 165240 w 164880"/>
              <a:gd name="textAreaTop" fmla="*/ 18360 h 712800"/>
              <a:gd name="textAreaBottom" fmla="*/ 69444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2960" y="5078520"/>
            <a:ext cx="164880" cy="712800"/>
          </a:xfrm>
          <a:custGeom>
            <a:avLst/>
            <a:gdLst>
              <a:gd name="textAreaLeft" fmla="*/ 105480 w 164880"/>
              <a:gd name="textAreaRight" fmla="*/ 165240 w 164880"/>
              <a:gd name="textAreaTop" fmla="*/ 18360 h 712800"/>
              <a:gd name="textAreaBottom" fmla="*/ 69444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6D3-91FA-4CBC-8A27-661A9D4428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7760" y="152280"/>
            <a:ext cx="70628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li arretr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57120" y="1143000"/>
            <a:ext cx="8358120" cy="5072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048120" y="1440000"/>
            <a:ext cx="5648040" cy="45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3"/>
          <p:cNvSpPr/>
          <p:nvPr/>
        </p:nvSpPr>
        <p:spPr>
          <a:xfrm>
            <a:off x="304920" y="23623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Il calcolo degli arretra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2008 €  76 X 3,25   =     247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2009    €  78 X 13   =  1.014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2010   € 78,5 X  3   =  </a:t>
            </a:r>
            <a:r>
              <a:rPr b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   235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totale        1.49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Arial"/>
              </a:rPr>
              <a:t>quasi 1.500 euro per aver dato niente più che uno sguardo al prospetto di liquidazione !!!</a:t>
            </a:r>
            <a:r>
              <a:rPr b="1" i="1" lang="it-IT" sz="1400" spc="-1" strike="noStrike">
                <a:solidFill>
                  <a:srgbClr val="fbf1e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2286000"/>
            <a:ext cx="76212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22B-36BA-4749-BC55-D958D8BAC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46:22Z</dcterms:created>
  <dc:creator>dipartimento nazionale previdenza SPI CGIL</dc:creator>
  <dc:description/>
  <dc:language>en-US</dc:language>
  <cp:lastModifiedBy>guido</cp:lastModifiedBy>
  <dcterms:modified xsi:type="dcterms:W3CDTF">2010-07-01T14:48:01Z</dcterms:modified>
  <cp:revision>83</cp:revision>
  <dc:subject/>
  <dc:title>COMPUTO DEL VALORE RETRIBUTIVO DI PERIODI DI CONTRIBUZIONE FIGURATIVA</dc:title>
</cp:coreProperties>
</file>