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429375" cy="9813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429600" cy="98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786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644640" y="-360"/>
            <a:ext cx="2786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62120" y="736560"/>
            <a:ext cx="4906800" cy="367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57160" y="4660920"/>
            <a:ext cx="47167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22920"/>
            <a:ext cx="2786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644640" y="9322920"/>
            <a:ext cx="2786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8400-3230-4C0F-A4E6-F2BBCF76FD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645000" y="9323280"/>
            <a:ext cx="2786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C43E-9303-4F2A-829C-E9BFE620CC5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62120" y="736560"/>
            <a:ext cx="4906800" cy="3679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57160" y="4660920"/>
            <a:ext cx="47167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645000" y="9323280"/>
            <a:ext cx="2786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3E7D-7B51-4B18-AD81-930A6AB66C5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762120" y="736560"/>
            <a:ext cx="4906800" cy="36799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57160" y="4660920"/>
            <a:ext cx="47167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645000" y="9323280"/>
            <a:ext cx="2786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7177-B4F8-40CD-9910-6DE823ABC83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762120" y="736560"/>
            <a:ext cx="4906800" cy="3679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57160" y="4660920"/>
            <a:ext cx="47167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645000" y="9323280"/>
            <a:ext cx="2786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B4E9-9C49-4D90-8412-9F9D29A8753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762120" y="736560"/>
            <a:ext cx="4906800" cy="3679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57160" y="4660920"/>
            <a:ext cx="47167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645000" y="9323280"/>
            <a:ext cx="2786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FF87-28FD-42D2-9050-87C491FDEC6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762120" y="736560"/>
            <a:ext cx="4906800" cy="36799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57160" y="4660920"/>
            <a:ext cx="47167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645000" y="9323280"/>
            <a:ext cx="2786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75F1-5A89-40AC-AF8F-50E3F06A6B2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762120" y="736560"/>
            <a:ext cx="4906800" cy="3679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57160" y="4660920"/>
            <a:ext cx="47167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645000" y="9323280"/>
            <a:ext cx="2786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792F-8DDD-47F2-B283-5FFE6627706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762120" y="736560"/>
            <a:ext cx="4906800" cy="36799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57160" y="4660920"/>
            <a:ext cx="47167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645000" y="9323280"/>
            <a:ext cx="2786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47C4-C0B9-4D06-B209-63E8F28146F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762120" y="736560"/>
            <a:ext cx="4906800" cy="36799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57160" y="4660920"/>
            <a:ext cx="47167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0B1-277D-4956-A32F-A746FAC3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949-9077-4AF5-94BF-FAA30A8E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4B5-E124-474A-82DF-85EFFD7D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375-70E1-4474-8EF0-3454CD1B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7C2-8B05-462A-A9E2-82E9D253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78A-6F7D-405D-BBEC-6109A817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CE2-A122-4578-A660-2C9BAE72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380-DB97-49FB-BAF1-CF8078C5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2E5-C7F0-4B62-BF8E-B01F2B93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E0C-94EB-48B0-8C79-6E32E76F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EF4-D801-4838-AA41-F4CD49EB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76A-66FA-4471-87BD-CFE63762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800" y="6513480"/>
            <a:ext cx="5818320" cy="192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6600"/>
                </a:solidFill>
                <a:latin typeface="Arial"/>
              </a:rPr>
              <a:t>11– scheda normativa – La prescrizione dei ratei arretr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76760" y="6513480"/>
            <a:ext cx="1981080" cy="192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SPI - CGIL - INCA       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552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97F6-7EFF-44C1-B1BA-976519B9DBC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371600" y="457200"/>
            <a:ext cx="6400800" cy="441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Arial"/>
              </a:rPr>
              <a:t>LA PRESCRIZIONE DEI RATEI ARRETRATI DI PENS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4952880"/>
            <a:ext cx="6400800" cy="1295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l controllo della pen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11 - scheda norm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Date Placeholder 1"/>
          <p:cNvSpPr/>
          <p:nvPr/>
        </p:nvSpPr>
        <p:spPr>
          <a:xfrm>
            <a:off x="658800" y="6513480"/>
            <a:ext cx="5818320" cy="192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6600"/>
                </a:solidFill>
                <a:latin typeface="Arial"/>
              </a:rPr>
              <a:t>11– scheda normativa – La prescrizione dei ratei arretr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2"/>
          <p:cNvSpPr/>
          <p:nvPr/>
        </p:nvSpPr>
        <p:spPr>
          <a:xfrm>
            <a:off x="6477120" y="6513480"/>
            <a:ext cx="1981080" cy="192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SPI - CGIL - INCA        1/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egnaposto numero diapositiva 3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E41F-7475-42C2-ABA4-6B37B799716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ESCR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848360" cy="4464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prescri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è definita dall’art. 2934 del codice civi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«Ogni diritto si estingue per prescrizione, quando il titolare non lo esercita per il tempo determinato dalla legge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«Non sono soggetti alla prescrizione i diritti indisponibili e gli altri diritti indicati dalla legge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prescrizione ordinari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art. 2946 del codice civi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«Salvi i casi in cui la legge dispone diversamente i diritti si estinguono per prescrizione con il decorso di dieci anni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ate Placeholder 1"/>
          <p:cNvSpPr/>
          <p:nvPr/>
        </p:nvSpPr>
        <p:spPr>
          <a:xfrm>
            <a:off x="658800" y="6513480"/>
            <a:ext cx="5818320" cy="192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6600"/>
                </a:solidFill>
                <a:latin typeface="Arial"/>
              </a:rPr>
              <a:t>11– scheda normativa – La prescrizione dei ratei arretr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2"/>
          <p:cNvSpPr/>
          <p:nvPr/>
        </p:nvSpPr>
        <p:spPr>
          <a:xfrm>
            <a:off x="6477120" y="6513480"/>
            <a:ext cx="1981080" cy="192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SPI - CGIL - INCA        1/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egnaposto numero diapositiva 6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7973-441B-4066-AFFF-49B9540846C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3280" y="2111400"/>
            <a:ext cx="8029440" cy="398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diritto a pensione è imprescrittibi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anto riferito ad una situazione giuridica che permane nel temp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cri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riguarda lo status di pensionato ma le so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ate di pen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prescrizione può essere interrotta da un valido atto interruttivo (azione giudiziale, ricorso amministrativo, richiesta della prestazi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ESCR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e Placeholder 1"/>
          <p:cNvSpPr/>
          <p:nvPr/>
        </p:nvSpPr>
        <p:spPr>
          <a:xfrm>
            <a:off x="658800" y="6513480"/>
            <a:ext cx="5818320" cy="192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6600"/>
                </a:solidFill>
                <a:latin typeface="Arial"/>
              </a:rPr>
              <a:t>11– scheda normativa – La prescrizione dei ratei arretr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2"/>
          <p:cNvSpPr/>
          <p:nvPr/>
        </p:nvSpPr>
        <p:spPr>
          <a:xfrm>
            <a:off x="6477120" y="6513480"/>
            <a:ext cx="1981080" cy="192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SPI - CGIL - INCA        1/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egnaposto numero diapositiva 8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B364-D836-44FA-892F-338F38ACBB7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03280" y="1557360"/>
            <a:ext cx="8316720" cy="4844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diritto al riconoscimento o liquidazione 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en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nonché il diritto a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liquidazione e/o ricostit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o al 6.7.201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era sogget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ll’ordinaria prescrizione decenn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con decorso dalla presentazione della domanda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ermine di prescrizione quinquennale si applicava unicamente a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ate di pensione già liquidate e poste in paga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diritto al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ssegno per il Nucleo Famili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si prescrive (prima e dopo il 6.7.2011) nel termine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inque an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diritto alla indennità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alatt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e a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atern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si prescrive (prima e dopo il 6.7.2011) nel termine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un an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ESCR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e Placeholder 1"/>
          <p:cNvSpPr/>
          <p:nvPr/>
        </p:nvSpPr>
        <p:spPr>
          <a:xfrm>
            <a:off x="658800" y="6513480"/>
            <a:ext cx="5818320" cy="192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6600"/>
                </a:solidFill>
                <a:latin typeface="Arial"/>
              </a:rPr>
              <a:t>11– scheda normativa – La prescrizione dei ratei arretr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2"/>
          <p:cNvSpPr/>
          <p:nvPr/>
        </p:nvSpPr>
        <p:spPr>
          <a:xfrm>
            <a:off x="6477120" y="6513480"/>
            <a:ext cx="1981080" cy="192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SPI - CGIL - INCA        1/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egnaposto numero diapositiva 8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DCDA-8249-4B6F-B3C9-C1A98B3EB61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66280" y="1557360"/>
            <a:ext cx="8001000" cy="468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I termini di prescrizione dei ratei arretrati delle pensioni mai liquidate e delle differenze dovute a riliquidazioni di prestazioni già in essere sono stati ridotti da dieci a cinque anni a decorrere dal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6.7.2011 (art. 38, comma 1, lettera d), n. 2), DL n. 98/2011, convertito, con modificazioni dalla legge n. 111/2011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La riduzione dei termini di prescrizione dei ratei da dieci a cinque anni si applica anche ai giudizi di primo grado pendenti al 6.7.2011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(art. 38, comma 4 della legge n. 111/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Con ordinanza del 8.2.2012 del Tribunale di Roma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(GU del n. 26 del 27.6.2012)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il comma 4 è stato oggetto di rimessione alla Corte Costituziona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ESCR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1"/>
          <p:cNvSpPr/>
          <p:nvPr/>
        </p:nvSpPr>
        <p:spPr>
          <a:xfrm>
            <a:off x="658800" y="6513480"/>
            <a:ext cx="5818320" cy="192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6600"/>
                </a:solidFill>
                <a:latin typeface="Arial"/>
              </a:rPr>
              <a:t>11– scheda normativa – La prescrizione dei ratei arretr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2"/>
          <p:cNvSpPr/>
          <p:nvPr/>
        </p:nvSpPr>
        <p:spPr>
          <a:xfrm>
            <a:off x="6477120" y="6513480"/>
            <a:ext cx="1981080" cy="192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SPI - CGIL - INCA        1/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egnaposto numero diapositiva 8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92FB-C12A-4172-A1B6-F3C31E4C3E6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0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 attesa della pronunzia della Corte Costituzionale va fatto riferimento all'art. 252 delle disposizioni per l'attuazione del codice civ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nuovo termine si applica anche alle prescrizioni in corso, ma decorre dall'entrata in vigore della nuova legge purché, a norma della legge precedente, non residui un termine minore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messaggio Inps n. 220 del 4.1.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ESCR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ate Placeholder 1"/>
          <p:cNvSpPr/>
          <p:nvPr/>
        </p:nvSpPr>
        <p:spPr>
          <a:xfrm>
            <a:off x="658800" y="6513480"/>
            <a:ext cx="5818320" cy="192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6600"/>
                </a:solidFill>
                <a:latin typeface="Arial"/>
              </a:rPr>
              <a:t>11– scheda normativa – La prescrizione dei ratei arretr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2"/>
          <p:cNvSpPr/>
          <p:nvPr/>
        </p:nvSpPr>
        <p:spPr>
          <a:xfrm>
            <a:off x="6477120" y="6513480"/>
            <a:ext cx="1981080" cy="192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SPI - CGIL - INCA        1/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egnaposto numero diapositiva 8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C86A-7FAA-49A4-B927-785490D6DC5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econdo l’art. 252 per l’attuazione del codice civile, qualora al 6.7.2011, siano trascorsi dalla scadenza delle singole rate arret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iù di cinque anni, resta a disposizione del creditore il termine residuo per arrivare a dieci ann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eno di cinque anni, resta a disposizione del creditore l’intero nuovo termine prescrizionale, calcolato a partire dal 6 luglio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ratei arretrati che si collocano temporalmente dopo il 6.7.2011 sono soggetti ai nuovi termini prescrizionali di cinque an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ESCR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Date Placeholder 1"/>
          <p:cNvSpPr/>
          <p:nvPr/>
        </p:nvSpPr>
        <p:spPr>
          <a:xfrm>
            <a:off x="658800" y="6513480"/>
            <a:ext cx="5818320" cy="192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6600"/>
                </a:solidFill>
                <a:latin typeface="Arial"/>
              </a:rPr>
              <a:t>11– scheda normativa – La prescrizione dei ratei arretr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2"/>
          <p:cNvSpPr/>
          <p:nvPr/>
        </p:nvSpPr>
        <p:spPr>
          <a:xfrm>
            <a:off x="6477120" y="6513480"/>
            <a:ext cx="1981080" cy="192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SPI - CGIL - INCA        1/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egnaposto numero diapositiva 8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87AA-34BB-4E08-BE21-53B2606786D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ESCR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tangolo 3"/>
          <p:cNvSpPr/>
          <p:nvPr/>
        </p:nvSpPr>
        <p:spPr>
          <a:xfrm>
            <a:off x="395280" y="1341360"/>
            <a:ext cx="813744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lcuni esempi di applicazione dei nuovi termini di prescrizione secondo l’art. 252 delle disposizioni per l’attuazione del codice civ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2708280"/>
          <a:ext cx="8137440" cy="3309840"/>
        </p:xfrm>
        <a:graphic>
          <a:graphicData uri="http://schemas.openxmlformats.org/drawingml/2006/table">
            <a:tbl>
              <a:tblPr/>
              <a:tblGrid>
                <a:gridCol w="3024360"/>
                <a:gridCol w="2592360"/>
                <a:gridCol w="252072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a in cui si colloca la singola r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a in cui si presc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rmine di prescri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Febbraio 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Febbraio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10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Settembre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Settembr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10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Giugno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Giugno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10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Luglio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Luglio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Luglio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6 Luglio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9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Luglio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6 Luglio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8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Luglio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6 Luglio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6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Luglio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Luglio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Agosto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Agosto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5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Gennaio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Gennaio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5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86" name="Date Placeholder 1"/>
          <p:cNvSpPr/>
          <p:nvPr/>
        </p:nvSpPr>
        <p:spPr>
          <a:xfrm>
            <a:off x="658800" y="6513480"/>
            <a:ext cx="5818320" cy="192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6600"/>
                </a:solidFill>
                <a:latin typeface="Arial"/>
              </a:rPr>
              <a:t>11– scheda normativa – La prescrizione dei ratei arretr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2"/>
          <p:cNvSpPr/>
          <p:nvPr/>
        </p:nvSpPr>
        <p:spPr>
          <a:xfrm>
            <a:off x="6477120" y="6513480"/>
            <a:ext cx="1981080" cy="192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SPI - CGIL - INCA        1/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egnaposto numero diapositiva 11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1AB6-5E27-4703-86BE-A58F8C870AF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3:46:22Z</dcterms:created>
  <dc:creator>dipartimento nazionale previdenza SPI CGIL</dc:creator>
  <dc:description/>
  <dc:language>en-US</dc:language>
  <cp:lastModifiedBy>Giuliano Ferrante</cp:lastModifiedBy>
  <dcterms:modified xsi:type="dcterms:W3CDTF">2013-03-05T12:15:42Z</dcterms:modified>
  <cp:revision>115</cp:revision>
  <dc:subject/>
  <dc:title>COMPUTO DEL VALORE RETRIBUTIVO DI PERIODI DI CONTRIBUZIONE FIGURATIVA</dc:title>
</cp:coreProperties>
</file>